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B40-C063-4B41-A654-5E5F209F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17A-9894-4497-B5AA-564C591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7DF-9B6C-41A5-B07D-15A55776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B83-C2A4-4FA7-BB6C-57A97DAD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EFD-2C51-4ED2-86DE-30F9F0C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74E-CDB0-4F3D-8229-5198A56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0E3-B5E0-4C2F-AC98-757E145B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06D-211D-4FDC-BE98-BC3DC763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564-29AE-4870-929C-49FCBF0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E93-FD2C-4B53-B8EB-75AD9DE2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C4E-46B8-4D0A-81A5-0C6758E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0C5-584D-4019-91DD-83A6823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962-0EA6-4311-8920-A29D39C14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5939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410080" y="4876920"/>
            <a:ext cx="1219320" cy="761760"/>
            <a:chOff x="5410080" y="4876920"/>
            <a:chExt cx="1219320" cy="761760"/>
          </a:xfrm>
        </p:grpSpPr>
        <p:sp>
          <p:nvSpPr>
            <p:cNvPr id="43" name=""/>
            <p:cNvSpPr/>
            <p:nvPr/>
          </p:nvSpPr>
          <p:spPr>
            <a:xfrm>
              <a:off x="5410080" y="541008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24480" y="541008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9920" y="5410080"/>
              <a:ext cx="3045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715000" y="541008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5791320" y="48769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62720" y="2057400"/>
            <a:ext cx="1218960" cy="838080"/>
            <a:chOff x="5562720" y="2057400"/>
            <a:chExt cx="1218960" cy="838080"/>
          </a:xfrm>
        </p:grpSpPr>
        <p:sp>
          <p:nvSpPr>
            <p:cNvPr id="49" name=""/>
            <p:cNvSpPr/>
            <p:nvPr/>
          </p:nvSpPr>
          <p:spPr>
            <a:xfrm>
              <a:off x="5562720" y="2057400"/>
              <a:ext cx="3045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7120" y="2057400"/>
              <a:ext cx="3045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2200" y="205740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67280" y="205740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2362320"/>
              <a:ext cx="3081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534520" y="35812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34520" y="213372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266688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304812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34520" y="563868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419112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4520" y="4724280"/>
            <a:ext cx="3045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5105520"/>
            <a:ext cx="3045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33920" y="1676520"/>
            <a:ext cx="1218960" cy="1295280"/>
            <a:chOff x="3733920" y="1676520"/>
            <a:chExt cx="1218960" cy="1295280"/>
          </a:xfrm>
        </p:grpSpPr>
        <p:sp>
          <p:nvSpPr>
            <p:cNvPr id="63" name=""/>
            <p:cNvSpPr/>
            <p:nvPr/>
          </p:nvSpPr>
          <p:spPr>
            <a:xfrm>
              <a:off x="3733920" y="1676520"/>
              <a:ext cx="3045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8320" y="1676520"/>
              <a:ext cx="3045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167652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1676520"/>
              <a:ext cx="3049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038120" y="1981080"/>
              <a:ext cx="22860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90920" y="4114800"/>
            <a:ext cx="1218960" cy="914400"/>
            <a:chOff x="2590920" y="4114800"/>
            <a:chExt cx="1218960" cy="914400"/>
          </a:xfrm>
        </p:grpSpPr>
        <p:sp>
          <p:nvSpPr>
            <p:cNvPr id="69" name=""/>
            <p:cNvSpPr/>
            <p:nvPr/>
          </p:nvSpPr>
          <p:spPr>
            <a:xfrm>
              <a:off x="2590920" y="4114800"/>
              <a:ext cx="3045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4114800"/>
              <a:ext cx="3045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11480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411480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4419720"/>
              <a:ext cx="3049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28600" y="457200"/>
            <a:ext cx="86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figura a seguir, preencher a memória de controle de tal forma que possibilite a convers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1 e B4, A2 e B5, A3 e B2, A4 e B7, A5 e B1, A6 e B3, A7 e B8 e A8 e B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95480" y="2590920"/>
            <a:ext cx="304920" cy="3276360"/>
            <a:chOff x="2895480" y="2590920"/>
            <a:chExt cx="304920" cy="3276360"/>
          </a:xfrm>
        </p:grpSpPr>
        <p:grpSp>
          <p:nvGrpSpPr>
            <p:cNvPr id="76" name=""/>
            <p:cNvGrpSpPr/>
            <p:nvPr/>
          </p:nvGrpSpPr>
          <p:grpSpPr>
            <a:xfrm>
              <a:off x="2895480" y="2590920"/>
              <a:ext cx="304920" cy="1218960"/>
              <a:chOff x="2895480" y="2590920"/>
              <a:chExt cx="304920" cy="1218960"/>
            </a:xfrm>
          </p:grpSpPr>
          <p:sp>
            <p:nvSpPr>
              <p:cNvPr id="77" name=""/>
              <p:cNvSpPr/>
              <p:nvPr/>
            </p:nvSpPr>
            <p:spPr>
              <a:xfrm>
                <a:off x="2895480" y="25909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95480" y="28954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2767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95480" y="35812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895480" y="4648320"/>
              <a:ext cx="304920" cy="1218960"/>
              <a:chOff x="2895480" y="4648320"/>
              <a:chExt cx="304920" cy="1218960"/>
            </a:xfrm>
          </p:grpSpPr>
          <p:sp>
            <p:nvSpPr>
              <p:cNvPr id="82" name=""/>
              <p:cNvSpPr/>
              <p:nvPr/>
            </p:nvSpPr>
            <p:spPr>
              <a:xfrm>
                <a:off x="2895480" y="46483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95480" y="49528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95480" y="5334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95480" y="56386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505320" y="2057400"/>
            <a:ext cx="304560" cy="990720"/>
            <a:chOff x="3505320" y="2057400"/>
            <a:chExt cx="304560" cy="990720"/>
          </a:xfrm>
        </p:grpSpPr>
        <p:sp>
          <p:nvSpPr>
            <p:cNvPr id="87" name=""/>
            <p:cNvSpPr/>
            <p:nvPr/>
          </p:nvSpPr>
          <p:spPr>
            <a:xfrm>
              <a:off x="3505320" y="205740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230472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05320" y="261468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5320" y="2862360"/>
              <a:ext cx="3045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05320" y="5334120"/>
            <a:ext cx="304560" cy="990000"/>
            <a:chOff x="3505320" y="5334120"/>
            <a:chExt cx="304560" cy="990000"/>
          </a:xfrm>
        </p:grpSpPr>
        <p:sp>
          <p:nvSpPr>
            <p:cNvPr id="92" name=""/>
            <p:cNvSpPr/>
            <p:nvPr/>
          </p:nvSpPr>
          <p:spPr>
            <a:xfrm>
              <a:off x="3505320" y="533412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558144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5320" y="589104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6138720"/>
              <a:ext cx="304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43400" y="5410080"/>
            <a:ext cx="304920" cy="914040"/>
            <a:chOff x="4343400" y="5410080"/>
            <a:chExt cx="304920" cy="914040"/>
          </a:xfrm>
        </p:grpSpPr>
        <p:sp>
          <p:nvSpPr>
            <p:cNvPr id="97" name=""/>
            <p:cNvSpPr/>
            <p:nvPr/>
          </p:nvSpPr>
          <p:spPr>
            <a:xfrm>
              <a:off x="4343400" y="541008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43400" y="56383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3400" y="59245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615276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952880" y="5410080"/>
            <a:ext cx="304920" cy="914040"/>
            <a:chOff x="4952880" y="5410080"/>
            <a:chExt cx="304920" cy="914040"/>
          </a:xfrm>
        </p:grpSpPr>
        <p:sp>
          <p:nvSpPr>
            <p:cNvPr id="102" name=""/>
            <p:cNvSpPr/>
            <p:nvPr/>
          </p:nvSpPr>
          <p:spPr>
            <a:xfrm>
              <a:off x="4952880" y="541008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2880" y="56383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592452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2880" y="6152760"/>
              <a:ext cx="304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07080" y="1195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6:57:46Z</dcterms:created>
  <dc:creator>carlos</dc:creator>
  <dc:description/>
  <dc:language>en-US</dc:language>
  <cp:lastModifiedBy>carlos</cp:lastModifiedBy>
  <dcterms:modified xsi:type="dcterms:W3CDTF">2001-06-11T18:56:12Z</dcterms:modified>
  <cp:revision>3</cp:revision>
  <dc:subject/>
  <dc:title>Slide sem título </dc:title>
</cp:coreProperties>
</file>