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69F-6022-44AF-B844-4BF74E71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02D-8E79-4CA1-87D5-69F6F565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8B1-E705-4E7C-9E9E-08F38A8B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7B8-9DF8-43B3-975A-3F8F0ED1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A16-F491-4758-93BB-6BB824B1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FB5-70A1-4C6F-AA2E-0B07E078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BE9-787C-4A44-819E-CC58D898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E57-B3A5-45EA-9793-3609D8F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0EF-148B-4D62-85A5-28F49F55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23E-2A3F-42C9-A676-85027610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70C-6147-40CF-A353-A5EA9BC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62F-ABEB-401A-8187-933A6F3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8427-A002-44E4-AD8E-6B7F6FD2E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304920"/>
            <a:ext cx="533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304920"/>
            <a:ext cx="533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rân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edi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91520" y="304920"/>
            <a:ext cx="533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762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762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219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143000"/>
            <a:ext cx="3124080" cy="307080"/>
            <a:chOff x="1447920" y="1143000"/>
            <a:chExt cx="3124080" cy="307080"/>
          </a:xfrm>
        </p:grpSpPr>
        <p:sp>
          <p:nvSpPr>
            <p:cNvPr id="50" name=""/>
            <p:cNvSpPr/>
            <p:nvPr/>
          </p:nvSpPr>
          <p:spPr>
            <a:xfrm>
              <a:off x="1447920" y="1371600"/>
              <a:ext cx="31240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9000" y="1143000"/>
              <a:ext cx="8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Ocup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447920" y="1371600"/>
            <a:ext cx="3124080" cy="307080"/>
            <a:chOff x="1447920" y="1371600"/>
            <a:chExt cx="3124080" cy="307080"/>
          </a:xfrm>
        </p:grpSpPr>
        <p:sp>
          <p:nvSpPr>
            <p:cNvPr id="53" name=""/>
            <p:cNvSpPr/>
            <p:nvPr/>
          </p:nvSpPr>
          <p:spPr>
            <a:xfrm flipH="1">
              <a:off x="1447920" y="1600200"/>
              <a:ext cx="31240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48880" y="1371600"/>
              <a:ext cx="231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Reconhecimento de ocup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447920" y="1600200"/>
            <a:ext cx="3124080" cy="307080"/>
            <a:chOff x="1447920" y="1600200"/>
            <a:chExt cx="3124080" cy="307080"/>
          </a:xfrm>
        </p:grpSpPr>
        <p:sp>
          <p:nvSpPr>
            <p:cNvPr id="56" name=""/>
            <p:cNvSpPr/>
            <p:nvPr/>
          </p:nvSpPr>
          <p:spPr>
            <a:xfrm>
              <a:off x="1447920" y="18288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36120" y="16002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3 (1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47920" y="1828800"/>
            <a:ext cx="3124080" cy="307080"/>
            <a:chOff x="1447920" y="1828800"/>
            <a:chExt cx="3124080" cy="307080"/>
          </a:xfrm>
        </p:grpSpPr>
        <p:sp>
          <p:nvSpPr>
            <p:cNvPr id="59" name=""/>
            <p:cNvSpPr/>
            <p:nvPr/>
          </p:nvSpPr>
          <p:spPr>
            <a:xfrm flipH="1">
              <a:off x="1447920" y="20574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53920" y="1828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47920" y="2057400"/>
            <a:ext cx="3124080" cy="307080"/>
            <a:chOff x="1447920" y="2057400"/>
            <a:chExt cx="3124080" cy="307080"/>
          </a:xfrm>
        </p:grpSpPr>
        <p:sp>
          <p:nvSpPr>
            <p:cNvPr id="62" name=""/>
            <p:cNvSpPr/>
            <p:nvPr/>
          </p:nvSpPr>
          <p:spPr>
            <a:xfrm>
              <a:off x="1447920" y="22860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6120" y="20574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5 (2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447920" y="2286000"/>
            <a:ext cx="3124080" cy="307080"/>
            <a:chOff x="1447920" y="2286000"/>
            <a:chExt cx="3124080" cy="307080"/>
          </a:xfrm>
        </p:grpSpPr>
        <p:sp>
          <p:nvSpPr>
            <p:cNvPr id="65" name=""/>
            <p:cNvSpPr/>
            <p:nvPr/>
          </p:nvSpPr>
          <p:spPr>
            <a:xfrm flipH="1">
              <a:off x="1447920" y="25146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53920" y="22860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447920" y="2514600"/>
            <a:ext cx="3124080" cy="307080"/>
            <a:chOff x="1447920" y="2514600"/>
            <a:chExt cx="3124080" cy="307080"/>
          </a:xfrm>
        </p:grpSpPr>
        <p:sp>
          <p:nvSpPr>
            <p:cNvPr id="68" name=""/>
            <p:cNvSpPr/>
            <p:nvPr/>
          </p:nvSpPr>
          <p:spPr>
            <a:xfrm>
              <a:off x="1447920" y="27432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6120" y="25146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4 (3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47920" y="2895480"/>
            <a:ext cx="3124080" cy="307080"/>
            <a:chOff x="1447920" y="2895480"/>
            <a:chExt cx="3124080" cy="307080"/>
          </a:xfrm>
        </p:grpSpPr>
        <p:sp>
          <p:nvSpPr>
            <p:cNvPr id="71" name=""/>
            <p:cNvSpPr/>
            <p:nvPr/>
          </p:nvSpPr>
          <p:spPr>
            <a:xfrm flipH="1">
              <a:off x="1447920" y="312408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840" y="2895480"/>
              <a:ext cx="11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2 ou A -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447920" y="3124080"/>
            <a:ext cx="6248160" cy="307080"/>
            <a:chOff x="1447920" y="3124080"/>
            <a:chExt cx="6248160" cy="307080"/>
          </a:xfrm>
        </p:grpSpPr>
        <p:sp>
          <p:nvSpPr>
            <p:cNvPr id="74" name=""/>
            <p:cNvSpPr/>
            <p:nvPr/>
          </p:nvSpPr>
          <p:spPr>
            <a:xfrm>
              <a:off x="3594960" y="3124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3 (1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335268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447920" y="3352680"/>
            <a:ext cx="6248160" cy="307080"/>
            <a:chOff x="1447920" y="3352680"/>
            <a:chExt cx="6248160" cy="307080"/>
          </a:xfrm>
        </p:grpSpPr>
        <p:sp>
          <p:nvSpPr>
            <p:cNvPr id="77" name=""/>
            <p:cNvSpPr/>
            <p:nvPr/>
          </p:nvSpPr>
          <p:spPr>
            <a:xfrm flipH="1">
              <a:off x="1447920" y="358128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66880" y="33526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447920" y="3581280"/>
            <a:ext cx="6248160" cy="307080"/>
            <a:chOff x="1447920" y="3581280"/>
            <a:chExt cx="6248160" cy="307080"/>
          </a:xfrm>
        </p:grpSpPr>
        <p:sp>
          <p:nvSpPr>
            <p:cNvPr id="80" name=""/>
            <p:cNvSpPr/>
            <p:nvPr/>
          </p:nvSpPr>
          <p:spPr>
            <a:xfrm>
              <a:off x="3594960" y="35812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5 (2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47920" y="380988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447920" y="3809880"/>
            <a:ext cx="6248160" cy="307080"/>
            <a:chOff x="1447920" y="3809880"/>
            <a:chExt cx="6248160" cy="307080"/>
          </a:xfrm>
        </p:grpSpPr>
        <p:sp>
          <p:nvSpPr>
            <p:cNvPr id="83" name=""/>
            <p:cNvSpPr/>
            <p:nvPr/>
          </p:nvSpPr>
          <p:spPr>
            <a:xfrm flipH="1">
              <a:off x="1447920" y="403848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66880" y="3809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47920" y="4038480"/>
            <a:ext cx="6248160" cy="307080"/>
            <a:chOff x="1447920" y="4038480"/>
            <a:chExt cx="6248160" cy="307080"/>
          </a:xfrm>
        </p:grpSpPr>
        <p:sp>
          <p:nvSpPr>
            <p:cNvPr id="86" name=""/>
            <p:cNvSpPr/>
            <p:nvPr/>
          </p:nvSpPr>
          <p:spPr>
            <a:xfrm>
              <a:off x="3594960" y="40384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4 (3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47920" y="426708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447920" y="4267080"/>
            <a:ext cx="6248160" cy="307080"/>
            <a:chOff x="1447920" y="4267080"/>
            <a:chExt cx="6248160" cy="307080"/>
          </a:xfrm>
        </p:grpSpPr>
        <p:sp>
          <p:nvSpPr>
            <p:cNvPr id="89" name=""/>
            <p:cNvSpPr/>
            <p:nvPr/>
          </p:nvSpPr>
          <p:spPr>
            <a:xfrm flipH="1">
              <a:off x="1447920" y="449568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66880" y="42670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447920" y="4495680"/>
            <a:ext cx="6248160" cy="307080"/>
            <a:chOff x="1447920" y="4495680"/>
            <a:chExt cx="6248160" cy="307080"/>
          </a:xfrm>
        </p:grpSpPr>
        <p:sp>
          <p:nvSpPr>
            <p:cNvPr id="92" name=""/>
            <p:cNvSpPr/>
            <p:nvPr/>
          </p:nvSpPr>
          <p:spPr>
            <a:xfrm>
              <a:off x="3594960" y="44956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7 (4º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47920" y="472428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447920" y="4724280"/>
            <a:ext cx="6248160" cy="307080"/>
            <a:chOff x="1447920" y="4724280"/>
            <a:chExt cx="6248160" cy="307080"/>
          </a:xfrm>
        </p:grpSpPr>
        <p:sp>
          <p:nvSpPr>
            <p:cNvPr id="95" name=""/>
            <p:cNvSpPr/>
            <p:nvPr/>
          </p:nvSpPr>
          <p:spPr>
            <a:xfrm flipH="1">
              <a:off x="1447920" y="495288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66880" y="472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47920" y="5486400"/>
            <a:ext cx="6248160" cy="307080"/>
            <a:chOff x="1447920" y="5486400"/>
            <a:chExt cx="6248160" cy="307080"/>
          </a:xfrm>
        </p:grpSpPr>
        <p:sp>
          <p:nvSpPr>
            <p:cNvPr id="98" name=""/>
            <p:cNvSpPr/>
            <p:nvPr/>
          </p:nvSpPr>
          <p:spPr>
            <a:xfrm>
              <a:off x="3591720" y="5486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 - 10 (Último dígito de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571500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447920" y="5715000"/>
            <a:ext cx="6248160" cy="307080"/>
            <a:chOff x="1447920" y="5715000"/>
            <a:chExt cx="6248160" cy="307080"/>
          </a:xfrm>
        </p:grpSpPr>
        <p:sp>
          <p:nvSpPr>
            <p:cNvPr id="101" name=""/>
            <p:cNvSpPr/>
            <p:nvPr/>
          </p:nvSpPr>
          <p:spPr>
            <a:xfrm flipH="1">
              <a:off x="1447920" y="5943600"/>
              <a:ext cx="6248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66880" y="57150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 -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47920" y="5943600"/>
            <a:ext cx="6248160" cy="307080"/>
            <a:chOff x="1447920" y="5943600"/>
            <a:chExt cx="6248160" cy="307080"/>
          </a:xfrm>
        </p:grpSpPr>
        <p:sp>
          <p:nvSpPr>
            <p:cNvPr id="104" name=""/>
            <p:cNvSpPr/>
            <p:nvPr/>
          </p:nvSpPr>
          <p:spPr>
            <a:xfrm>
              <a:off x="3597840" y="5943600"/>
              <a:ext cx="5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I - 7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920" y="6172200"/>
              <a:ext cx="6248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447920" y="6172200"/>
            <a:ext cx="6248160" cy="307080"/>
            <a:chOff x="1447920" y="6172200"/>
            <a:chExt cx="6248160" cy="307080"/>
          </a:xfrm>
        </p:grpSpPr>
        <p:sp>
          <p:nvSpPr>
            <p:cNvPr id="107" name=""/>
            <p:cNvSpPr/>
            <p:nvPr/>
          </p:nvSpPr>
          <p:spPr>
            <a:xfrm flipH="1">
              <a:off x="1447920" y="6400800"/>
              <a:ext cx="6248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6520" y="61722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B -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124080" y="5029200"/>
            <a:ext cx="2133720" cy="457200"/>
            <a:chOff x="3124080" y="5029200"/>
            <a:chExt cx="2133720" cy="457200"/>
          </a:xfrm>
        </p:grpSpPr>
        <p:sp>
          <p:nvSpPr>
            <p:cNvPr id="110" name=""/>
            <p:cNvSpPr/>
            <p:nvPr/>
          </p:nvSpPr>
          <p:spPr>
            <a:xfrm>
              <a:off x="3124080" y="5029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5029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5029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38920" y="533520"/>
            <a:ext cx="335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11320" y="533520"/>
            <a:ext cx="335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68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295280"/>
            <a:ext cx="761760" cy="457200"/>
          </a:xfrm>
          <a:prstGeom prst="wedgeRoundRectCallout">
            <a:avLst>
              <a:gd name="adj1" fmla="val -5416"/>
              <a:gd name="adj2" fmla="val -12708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terurb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1295280"/>
            <a:ext cx="838080" cy="762120"/>
          </a:xfrm>
          <a:prstGeom prst="wedgeRoundRectCallout">
            <a:avLst>
              <a:gd name="adj1" fmla="val -9467"/>
              <a:gd name="adj2" fmla="val -9625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-4719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si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vre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ifaç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295280"/>
            <a:ext cx="1600200" cy="685800"/>
          </a:xfrm>
          <a:prstGeom prst="wedgeRoundRectCallout">
            <a:avLst>
              <a:gd name="adj1" fmla="val -58930"/>
              <a:gd name="adj2" fmla="val -9768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dentifica a rota de sa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ós receber o terce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ígito 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440" y="31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91880" y="316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0" y="2590920"/>
            <a:ext cx="3124080" cy="307080"/>
            <a:chOff x="4572000" y="2590920"/>
            <a:chExt cx="3124080" cy="307080"/>
          </a:xfrm>
        </p:grpSpPr>
        <p:sp>
          <p:nvSpPr>
            <p:cNvPr id="123" name=""/>
            <p:cNvSpPr/>
            <p:nvPr/>
          </p:nvSpPr>
          <p:spPr>
            <a:xfrm>
              <a:off x="4572000" y="2819160"/>
              <a:ext cx="31240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63080" y="2590920"/>
              <a:ext cx="8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Ocup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572000" y="2819520"/>
            <a:ext cx="3124080" cy="307080"/>
            <a:chOff x="4572000" y="2819520"/>
            <a:chExt cx="3124080" cy="307080"/>
          </a:xfrm>
        </p:grpSpPr>
        <p:sp>
          <p:nvSpPr>
            <p:cNvPr id="126" name=""/>
            <p:cNvSpPr/>
            <p:nvPr/>
          </p:nvSpPr>
          <p:spPr>
            <a:xfrm flipH="1">
              <a:off x="4572000" y="3047760"/>
              <a:ext cx="31240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2960" y="2819520"/>
              <a:ext cx="231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Reconhecimento de ocup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20:55:42Z</dcterms:created>
  <dc:creator>INATEL</dc:creator>
  <dc:description/>
  <dc:language>en-US</dc:language>
  <cp:lastModifiedBy>Inatel</cp:lastModifiedBy>
  <dcterms:modified xsi:type="dcterms:W3CDTF">2004-03-05T13:51:10Z</dcterms:modified>
  <cp:revision>4</cp:revision>
  <dc:subject/>
  <dc:title>Slide sem título </dc:title>
</cp:coreProperties>
</file>