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743-FE61-4B74-80A0-AEE7DD08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E31-5201-4396-A3CB-3E30FFB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E97-2449-4DC9-9985-9662BCF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F91-3E24-47FD-B0B1-9BD53CF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2F5-7A65-490B-B59E-36A0C2D7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166-659C-4DDA-AD57-E7CAF3C0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B12-F3F3-42A4-B177-516D1B9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6C0-23D4-4324-9CDD-A957C5A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3B6-D7C9-4BC2-B1E1-F6F46B59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389-0C46-4587-8ACA-9C4A23C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F75-2FB0-410C-8B6E-1FC458D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65D-84F1-45AE-9A64-01DB693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F6E4-3D41-49DD-84D0-193E7427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762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304920"/>
            <a:ext cx="761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râ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ilheta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uto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143000"/>
            <a:ext cx="3124080" cy="307080"/>
            <a:chOff x="1447920" y="1143000"/>
            <a:chExt cx="3124080" cy="307080"/>
          </a:xfrm>
        </p:grpSpPr>
        <p:sp>
          <p:nvSpPr>
            <p:cNvPr id="50" name=""/>
            <p:cNvSpPr/>
            <p:nvPr/>
          </p:nvSpPr>
          <p:spPr>
            <a:xfrm>
              <a:off x="1447920" y="137160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9000" y="114300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47920" y="1371600"/>
            <a:ext cx="3124080" cy="307080"/>
            <a:chOff x="1447920" y="1371600"/>
            <a:chExt cx="3124080" cy="307080"/>
          </a:xfrm>
        </p:grpSpPr>
        <p:sp>
          <p:nvSpPr>
            <p:cNvPr id="53" name=""/>
            <p:cNvSpPr/>
            <p:nvPr/>
          </p:nvSpPr>
          <p:spPr>
            <a:xfrm flipH="1">
              <a:off x="1447920" y="160020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8880" y="137160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Reconhecimento de 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47920" y="1600200"/>
            <a:ext cx="3124080" cy="307080"/>
            <a:chOff x="1447920" y="1600200"/>
            <a:chExt cx="3124080" cy="307080"/>
          </a:xfrm>
        </p:grpSpPr>
        <p:sp>
          <p:nvSpPr>
            <p:cNvPr id="56" name=""/>
            <p:cNvSpPr/>
            <p:nvPr/>
          </p:nvSpPr>
          <p:spPr>
            <a:xfrm>
              <a:off x="1447920" y="1828800"/>
              <a:ext cx="3124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36120" y="16002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3 (1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47920" y="1828800"/>
            <a:ext cx="3124080" cy="307080"/>
            <a:chOff x="1447920" y="1828800"/>
            <a:chExt cx="3124080" cy="307080"/>
          </a:xfrm>
        </p:grpSpPr>
        <p:sp>
          <p:nvSpPr>
            <p:cNvPr id="59" name=""/>
            <p:cNvSpPr/>
            <p:nvPr/>
          </p:nvSpPr>
          <p:spPr>
            <a:xfrm flipH="1">
              <a:off x="1447920" y="2057400"/>
              <a:ext cx="3124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53920" y="1828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2057400"/>
            <a:ext cx="3124080" cy="307080"/>
            <a:chOff x="1447920" y="2057400"/>
            <a:chExt cx="3124080" cy="307080"/>
          </a:xfrm>
        </p:grpSpPr>
        <p:sp>
          <p:nvSpPr>
            <p:cNvPr id="62" name=""/>
            <p:cNvSpPr/>
            <p:nvPr/>
          </p:nvSpPr>
          <p:spPr>
            <a:xfrm>
              <a:off x="1447920" y="2286000"/>
              <a:ext cx="3124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6120" y="2057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5 (2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47920" y="2286000"/>
            <a:ext cx="3124080" cy="307080"/>
            <a:chOff x="1447920" y="2286000"/>
            <a:chExt cx="3124080" cy="307080"/>
          </a:xfrm>
        </p:grpSpPr>
        <p:sp>
          <p:nvSpPr>
            <p:cNvPr id="65" name=""/>
            <p:cNvSpPr/>
            <p:nvPr/>
          </p:nvSpPr>
          <p:spPr>
            <a:xfrm flipH="1">
              <a:off x="1447920" y="2514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3920" y="2286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47920" y="2514600"/>
            <a:ext cx="3124080" cy="307080"/>
            <a:chOff x="1447920" y="2514600"/>
            <a:chExt cx="3124080" cy="307080"/>
          </a:xfrm>
        </p:grpSpPr>
        <p:sp>
          <p:nvSpPr>
            <p:cNvPr id="68" name=""/>
            <p:cNvSpPr/>
            <p:nvPr/>
          </p:nvSpPr>
          <p:spPr>
            <a:xfrm>
              <a:off x="1447920" y="27432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6120" y="2514600"/>
              <a:ext cx="178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I - 1 (Categoria de 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2743200"/>
            <a:ext cx="3124080" cy="307080"/>
            <a:chOff x="1447920" y="2743200"/>
            <a:chExt cx="3124080" cy="307080"/>
          </a:xfrm>
        </p:grpSpPr>
        <p:sp>
          <p:nvSpPr>
            <p:cNvPr id="71" name=""/>
            <p:cNvSpPr/>
            <p:nvPr/>
          </p:nvSpPr>
          <p:spPr>
            <a:xfrm flipH="1">
              <a:off x="1447920" y="29718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3920" y="27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981080" y="4495680"/>
            <a:ext cx="2133720" cy="457200"/>
            <a:chOff x="1981080" y="4495680"/>
            <a:chExt cx="2133720" cy="457200"/>
          </a:xfrm>
        </p:grpSpPr>
        <p:sp>
          <p:nvSpPr>
            <p:cNvPr id="74" name=""/>
            <p:cNvSpPr/>
            <p:nvPr/>
          </p:nvSpPr>
          <p:spPr>
            <a:xfrm>
              <a:off x="198108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480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89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13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95280"/>
            <a:ext cx="838080" cy="685800"/>
          </a:xfrm>
          <a:prstGeom prst="wedgeRoundRectCallout">
            <a:avLst>
              <a:gd name="adj1" fmla="val -9467"/>
              <a:gd name="adj2" fmla="val -10138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2-51515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1295280"/>
            <a:ext cx="838080" cy="762120"/>
          </a:xfrm>
          <a:prstGeom prst="wedgeRoundRectCallout">
            <a:avLst>
              <a:gd name="adj1" fmla="val -9467"/>
              <a:gd name="adj2" fmla="val -96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-4719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vre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295280"/>
            <a:ext cx="1600200" cy="685800"/>
          </a:xfrm>
          <a:prstGeom prst="wedgeRoundRectCallout">
            <a:avLst>
              <a:gd name="adj1" fmla="val -58930"/>
              <a:gd name="adj2" fmla="val -9768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dentifica a rota de s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ós receber o seg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ígito 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440" y="31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91880" y="316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47920" y="2971800"/>
            <a:ext cx="3124080" cy="307080"/>
            <a:chOff x="1447920" y="2971800"/>
            <a:chExt cx="3124080" cy="307080"/>
          </a:xfrm>
        </p:grpSpPr>
        <p:sp>
          <p:nvSpPr>
            <p:cNvPr id="87" name=""/>
            <p:cNvSpPr/>
            <p:nvPr/>
          </p:nvSpPr>
          <p:spPr>
            <a:xfrm>
              <a:off x="1447920" y="3200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6120" y="297180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6 (1º Dígito de 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447920" y="3200400"/>
            <a:ext cx="3124080" cy="307080"/>
            <a:chOff x="1447920" y="3200400"/>
            <a:chExt cx="3124080" cy="307080"/>
          </a:xfrm>
        </p:grpSpPr>
        <p:sp>
          <p:nvSpPr>
            <p:cNvPr id="90" name=""/>
            <p:cNvSpPr/>
            <p:nvPr/>
          </p:nvSpPr>
          <p:spPr>
            <a:xfrm flipH="1">
              <a:off x="1447920" y="34290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3920" y="3200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47920" y="3429000"/>
            <a:ext cx="3124080" cy="307080"/>
            <a:chOff x="1447920" y="3429000"/>
            <a:chExt cx="3124080" cy="307080"/>
          </a:xfrm>
        </p:grpSpPr>
        <p:sp>
          <p:nvSpPr>
            <p:cNvPr id="93" name=""/>
            <p:cNvSpPr/>
            <p:nvPr/>
          </p:nvSpPr>
          <p:spPr>
            <a:xfrm>
              <a:off x="1447920" y="3657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6120" y="342900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2 (2º Dígito de 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7920" y="3657600"/>
            <a:ext cx="3124080" cy="307080"/>
            <a:chOff x="1447920" y="3657600"/>
            <a:chExt cx="3124080" cy="307080"/>
          </a:xfrm>
        </p:grpSpPr>
        <p:sp>
          <p:nvSpPr>
            <p:cNvPr id="96" name=""/>
            <p:cNvSpPr/>
            <p:nvPr/>
          </p:nvSpPr>
          <p:spPr>
            <a:xfrm flipH="1">
              <a:off x="1447920" y="38862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3920" y="3657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447920" y="3886200"/>
            <a:ext cx="3124080" cy="307080"/>
            <a:chOff x="1447920" y="3886200"/>
            <a:chExt cx="3124080" cy="307080"/>
          </a:xfrm>
        </p:grpSpPr>
        <p:sp>
          <p:nvSpPr>
            <p:cNvPr id="99" name=""/>
            <p:cNvSpPr/>
            <p:nvPr/>
          </p:nvSpPr>
          <p:spPr>
            <a:xfrm>
              <a:off x="1447920" y="41148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6120" y="388620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5 (3º Dígito de 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447920" y="4114800"/>
            <a:ext cx="3124080" cy="307080"/>
            <a:chOff x="1447920" y="4114800"/>
            <a:chExt cx="3124080" cy="307080"/>
          </a:xfrm>
        </p:grpSpPr>
        <p:sp>
          <p:nvSpPr>
            <p:cNvPr id="102" name=""/>
            <p:cNvSpPr/>
            <p:nvPr/>
          </p:nvSpPr>
          <p:spPr>
            <a:xfrm flipH="1">
              <a:off x="1447920" y="4343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3920" y="4114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447920" y="4876920"/>
            <a:ext cx="3124080" cy="307080"/>
            <a:chOff x="1447920" y="4876920"/>
            <a:chExt cx="3124080" cy="307080"/>
          </a:xfrm>
        </p:grpSpPr>
        <p:sp>
          <p:nvSpPr>
            <p:cNvPr id="105" name=""/>
            <p:cNvSpPr/>
            <p:nvPr/>
          </p:nvSpPr>
          <p:spPr>
            <a:xfrm>
              <a:off x="1447920" y="51051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3600" y="4876920"/>
              <a:ext cx="19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9 (Último dígito de 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447920" y="5105520"/>
            <a:ext cx="3124080" cy="307080"/>
            <a:chOff x="1447920" y="5105520"/>
            <a:chExt cx="3124080" cy="307080"/>
          </a:xfrm>
        </p:grpSpPr>
        <p:sp>
          <p:nvSpPr>
            <p:cNvPr id="108" name=""/>
            <p:cNvSpPr/>
            <p:nvPr/>
          </p:nvSpPr>
          <p:spPr>
            <a:xfrm flipH="1">
              <a:off x="1447920" y="53337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53920" y="510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5334120"/>
            <a:ext cx="3124080" cy="307080"/>
            <a:chOff x="1447920" y="5334120"/>
            <a:chExt cx="3124080" cy="307080"/>
          </a:xfrm>
        </p:grpSpPr>
        <p:sp>
          <p:nvSpPr>
            <p:cNvPr id="111" name=""/>
            <p:cNvSpPr/>
            <p:nvPr/>
          </p:nvSpPr>
          <p:spPr>
            <a:xfrm>
              <a:off x="1447920" y="55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640" y="533412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1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47920" y="5638680"/>
            <a:ext cx="3124080" cy="307080"/>
            <a:chOff x="1447920" y="5638680"/>
            <a:chExt cx="3124080" cy="307080"/>
          </a:xfrm>
        </p:grpSpPr>
        <p:sp>
          <p:nvSpPr>
            <p:cNvPr id="114" name=""/>
            <p:cNvSpPr/>
            <p:nvPr/>
          </p:nvSpPr>
          <p:spPr>
            <a:xfrm flipH="1">
              <a:off x="1447920" y="58672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3920" y="5638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47920" y="5867280"/>
            <a:ext cx="3124080" cy="307080"/>
            <a:chOff x="1447920" y="5867280"/>
            <a:chExt cx="3124080" cy="307080"/>
          </a:xfrm>
        </p:grpSpPr>
        <p:sp>
          <p:nvSpPr>
            <p:cNvPr id="117" name=""/>
            <p:cNvSpPr/>
            <p:nvPr/>
          </p:nvSpPr>
          <p:spPr>
            <a:xfrm>
              <a:off x="1447920" y="60958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6120" y="586728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4 (3º Dígito de B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47920" y="6095880"/>
            <a:ext cx="3124080" cy="307080"/>
            <a:chOff x="1447920" y="6095880"/>
            <a:chExt cx="3124080" cy="307080"/>
          </a:xfrm>
        </p:grpSpPr>
        <p:sp>
          <p:nvSpPr>
            <p:cNvPr id="120" name=""/>
            <p:cNvSpPr/>
            <p:nvPr/>
          </p:nvSpPr>
          <p:spPr>
            <a:xfrm flipH="1">
              <a:off x="1447920" y="63244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3920" y="6095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72000" y="5562720"/>
            <a:ext cx="3124080" cy="307080"/>
            <a:chOff x="4572000" y="5562720"/>
            <a:chExt cx="3124080" cy="307080"/>
          </a:xfrm>
        </p:grpSpPr>
        <p:sp>
          <p:nvSpPr>
            <p:cNvPr id="123" name=""/>
            <p:cNvSpPr/>
            <p:nvPr/>
          </p:nvSpPr>
          <p:spPr>
            <a:xfrm>
              <a:off x="4572000" y="57909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3080" y="556272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cupaçã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572000" y="5791320"/>
            <a:ext cx="3124080" cy="307080"/>
            <a:chOff x="4572000" y="5791320"/>
            <a:chExt cx="3124080" cy="307080"/>
          </a:xfrm>
        </p:grpSpPr>
        <p:sp>
          <p:nvSpPr>
            <p:cNvPr id="126" name=""/>
            <p:cNvSpPr/>
            <p:nvPr/>
          </p:nvSpPr>
          <p:spPr>
            <a:xfrm flipH="1">
              <a:off x="4572000" y="60195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2960" y="579132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Reconhecimento de 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762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762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04920"/>
            <a:ext cx="7617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râ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ilheta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uto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13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838080" cy="685800"/>
          </a:xfrm>
          <a:prstGeom prst="wedgeRoundRectCallout">
            <a:avLst>
              <a:gd name="adj1" fmla="val -9467"/>
              <a:gd name="adj2" fmla="val -10138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2-51515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1295280"/>
            <a:ext cx="838080" cy="762120"/>
          </a:xfrm>
          <a:prstGeom prst="wedgeRoundRectCallout">
            <a:avLst>
              <a:gd name="adj1" fmla="val -9467"/>
              <a:gd name="adj2" fmla="val -96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-4719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vre 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5440" y="31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91880" y="316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7920" y="1219320"/>
            <a:ext cx="3124080" cy="307080"/>
            <a:chOff x="1447920" y="1219320"/>
            <a:chExt cx="3124080" cy="307080"/>
          </a:xfrm>
        </p:grpSpPr>
        <p:sp>
          <p:nvSpPr>
            <p:cNvPr id="145" name=""/>
            <p:cNvSpPr/>
            <p:nvPr/>
          </p:nvSpPr>
          <p:spPr>
            <a:xfrm>
              <a:off x="1447920" y="14475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6120" y="12193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7 (4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447920" y="1447920"/>
            <a:ext cx="3124080" cy="307080"/>
            <a:chOff x="1447920" y="1447920"/>
            <a:chExt cx="3124080" cy="307080"/>
          </a:xfrm>
        </p:grpSpPr>
        <p:sp>
          <p:nvSpPr>
            <p:cNvPr id="148" name=""/>
            <p:cNvSpPr/>
            <p:nvPr/>
          </p:nvSpPr>
          <p:spPr>
            <a:xfrm flipH="1">
              <a:off x="1447920" y="16761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3920" y="1447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447920" y="1676520"/>
            <a:ext cx="3124080" cy="307080"/>
            <a:chOff x="1447920" y="1676520"/>
            <a:chExt cx="3124080" cy="307080"/>
          </a:xfrm>
        </p:grpSpPr>
        <p:sp>
          <p:nvSpPr>
            <p:cNvPr id="151" name=""/>
            <p:cNvSpPr/>
            <p:nvPr/>
          </p:nvSpPr>
          <p:spPr>
            <a:xfrm>
              <a:off x="1447920" y="19047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6120" y="16765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1 (5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47920" y="1905120"/>
            <a:ext cx="3124080" cy="307080"/>
            <a:chOff x="1447920" y="1905120"/>
            <a:chExt cx="3124080" cy="307080"/>
          </a:xfrm>
        </p:grpSpPr>
        <p:sp>
          <p:nvSpPr>
            <p:cNvPr id="154" name=""/>
            <p:cNvSpPr/>
            <p:nvPr/>
          </p:nvSpPr>
          <p:spPr>
            <a:xfrm flipH="1">
              <a:off x="1447920" y="2133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3920" y="1905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72000" y="1371600"/>
            <a:ext cx="3124080" cy="307080"/>
            <a:chOff x="4572000" y="1371600"/>
            <a:chExt cx="3124080" cy="307080"/>
          </a:xfrm>
        </p:grpSpPr>
        <p:sp>
          <p:nvSpPr>
            <p:cNvPr id="157" name=""/>
            <p:cNvSpPr/>
            <p:nvPr/>
          </p:nvSpPr>
          <p:spPr>
            <a:xfrm>
              <a:off x="4572000" y="16002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0200" y="13716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3 (1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72000" y="1600200"/>
            <a:ext cx="3124080" cy="307080"/>
            <a:chOff x="4572000" y="1600200"/>
            <a:chExt cx="3124080" cy="307080"/>
          </a:xfrm>
        </p:grpSpPr>
        <p:sp>
          <p:nvSpPr>
            <p:cNvPr id="160" name=""/>
            <p:cNvSpPr/>
            <p:nvPr/>
          </p:nvSpPr>
          <p:spPr>
            <a:xfrm flipH="1">
              <a:off x="4572000" y="18288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000" y="1600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72000" y="1828800"/>
            <a:ext cx="3124080" cy="307080"/>
            <a:chOff x="4572000" y="1828800"/>
            <a:chExt cx="3124080" cy="307080"/>
          </a:xfrm>
        </p:grpSpPr>
        <p:sp>
          <p:nvSpPr>
            <p:cNvPr id="163" name=""/>
            <p:cNvSpPr/>
            <p:nvPr/>
          </p:nvSpPr>
          <p:spPr>
            <a:xfrm>
              <a:off x="4572000" y="2057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0200" y="18288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5 (2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572000" y="2057400"/>
            <a:ext cx="3124080" cy="307080"/>
            <a:chOff x="4572000" y="2057400"/>
            <a:chExt cx="3124080" cy="307080"/>
          </a:xfrm>
        </p:grpSpPr>
        <p:sp>
          <p:nvSpPr>
            <p:cNvPr id="166" name=""/>
            <p:cNvSpPr/>
            <p:nvPr/>
          </p:nvSpPr>
          <p:spPr>
            <a:xfrm flipH="1">
              <a:off x="4572000" y="22860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8000" y="2057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0" y="2286000"/>
            <a:ext cx="3124080" cy="307080"/>
            <a:chOff x="4572000" y="2286000"/>
            <a:chExt cx="3124080" cy="307080"/>
          </a:xfrm>
        </p:grpSpPr>
        <p:sp>
          <p:nvSpPr>
            <p:cNvPr id="169" name=""/>
            <p:cNvSpPr/>
            <p:nvPr/>
          </p:nvSpPr>
          <p:spPr>
            <a:xfrm>
              <a:off x="4572000" y="2514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0200" y="22860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4 (3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2514600"/>
            <a:ext cx="3124080" cy="307080"/>
            <a:chOff x="4572000" y="2514600"/>
            <a:chExt cx="3124080" cy="307080"/>
          </a:xfrm>
        </p:grpSpPr>
        <p:sp>
          <p:nvSpPr>
            <p:cNvPr id="172" name=""/>
            <p:cNvSpPr/>
            <p:nvPr/>
          </p:nvSpPr>
          <p:spPr>
            <a:xfrm flipH="1">
              <a:off x="4572000" y="27432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8000" y="2514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0" y="2743200"/>
            <a:ext cx="3124080" cy="307080"/>
            <a:chOff x="4572000" y="2743200"/>
            <a:chExt cx="3124080" cy="307080"/>
          </a:xfrm>
        </p:grpSpPr>
        <p:sp>
          <p:nvSpPr>
            <p:cNvPr id="175" name=""/>
            <p:cNvSpPr/>
            <p:nvPr/>
          </p:nvSpPr>
          <p:spPr>
            <a:xfrm>
              <a:off x="4572000" y="29718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0200" y="27432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7 (4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0" y="2971800"/>
            <a:ext cx="3124080" cy="307080"/>
            <a:chOff x="4572000" y="2971800"/>
            <a:chExt cx="3124080" cy="307080"/>
          </a:xfrm>
        </p:grpSpPr>
        <p:sp>
          <p:nvSpPr>
            <p:cNvPr id="178" name=""/>
            <p:cNvSpPr/>
            <p:nvPr/>
          </p:nvSpPr>
          <p:spPr>
            <a:xfrm flipH="1">
              <a:off x="4572000" y="3200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8000" y="2971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05120" y="2286000"/>
            <a:ext cx="2133360" cy="457200"/>
            <a:chOff x="1905120" y="2286000"/>
            <a:chExt cx="2133360" cy="457200"/>
          </a:xfrm>
        </p:grpSpPr>
        <p:sp>
          <p:nvSpPr>
            <p:cNvPr id="181" name=""/>
            <p:cNvSpPr/>
            <p:nvPr/>
          </p:nvSpPr>
          <p:spPr>
            <a:xfrm>
              <a:off x="1905120" y="2286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2286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2286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52880" y="3276720"/>
            <a:ext cx="2133720" cy="457200"/>
            <a:chOff x="4952880" y="3276720"/>
            <a:chExt cx="2133720" cy="457200"/>
          </a:xfrm>
        </p:grpSpPr>
        <p:sp>
          <p:nvSpPr>
            <p:cNvPr id="185" name=""/>
            <p:cNvSpPr/>
            <p:nvPr/>
          </p:nvSpPr>
          <p:spPr>
            <a:xfrm>
              <a:off x="4952880" y="3276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3276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3276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47920" y="2819520"/>
            <a:ext cx="3124080" cy="307080"/>
            <a:chOff x="1447920" y="2819520"/>
            <a:chExt cx="3124080" cy="307080"/>
          </a:xfrm>
        </p:grpSpPr>
        <p:sp>
          <p:nvSpPr>
            <p:cNvPr id="189" name=""/>
            <p:cNvSpPr/>
            <p:nvPr/>
          </p:nvSpPr>
          <p:spPr>
            <a:xfrm>
              <a:off x="1447920" y="30477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2880" y="28195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10 (Último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048120"/>
            <a:ext cx="3124080" cy="307080"/>
            <a:chOff x="1447920" y="3048120"/>
            <a:chExt cx="3124080" cy="307080"/>
          </a:xfrm>
        </p:grpSpPr>
        <p:sp>
          <p:nvSpPr>
            <p:cNvPr id="192" name=""/>
            <p:cNvSpPr/>
            <p:nvPr/>
          </p:nvSpPr>
          <p:spPr>
            <a:xfrm flipH="1">
              <a:off x="1447920" y="3276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3920" y="3048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47920" y="3276720"/>
            <a:ext cx="3124080" cy="307080"/>
            <a:chOff x="1447920" y="3276720"/>
            <a:chExt cx="3124080" cy="307080"/>
          </a:xfrm>
        </p:grpSpPr>
        <p:sp>
          <p:nvSpPr>
            <p:cNvPr id="195" name=""/>
            <p:cNvSpPr/>
            <p:nvPr/>
          </p:nvSpPr>
          <p:spPr>
            <a:xfrm>
              <a:off x="1447920" y="35049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640" y="32767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I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4572000"/>
            <a:ext cx="3124080" cy="307080"/>
            <a:chOff x="1447920" y="4572000"/>
            <a:chExt cx="3124080" cy="307080"/>
          </a:xfrm>
        </p:grpSpPr>
        <p:sp>
          <p:nvSpPr>
            <p:cNvPr id="198" name=""/>
            <p:cNvSpPr/>
            <p:nvPr/>
          </p:nvSpPr>
          <p:spPr>
            <a:xfrm flipH="1">
              <a:off x="1447920" y="4800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3560" y="4572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72000" y="3733920"/>
            <a:ext cx="3124080" cy="307080"/>
            <a:chOff x="4572000" y="3733920"/>
            <a:chExt cx="3124080" cy="307080"/>
          </a:xfrm>
        </p:grpSpPr>
        <p:sp>
          <p:nvSpPr>
            <p:cNvPr id="201" name=""/>
            <p:cNvSpPr/>
            <p:nvPr/>
          </p:nvSpPr>
          <p:spPr>
            <a:xfrm>
              <a:off x="4572000" y="39621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56960" y="37339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10 (Último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3962520"/>
            <a:ext cx="3124080" cy="307080"/>
            <a:chOff x="4572000" y="3962520"/>
            <a:chExt cx="3124080" cy="307080"/>
          </a:xfrm>
        </p:grpSpPr>
        <p:sp>
          <p:nvSpPr>
            <p:cNvPr id="204" name=""/>
            <p:cNvSpPr/>
            <p:nvPr/>
          </p:nvSpPr>
          <p:spPr>
            <a:xfrm flipH="1">
              <a:off x="4572000" y="41907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8000" y="3962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572000" y="4191120"/>
            <a:ext cx="3124080" cy="307080"/>
            <a:chOff x="4572000" y="4191120"/>
            <a:chExt cx="3124080" cy="307080"/>
          </a:xfrm>
        </p:grpSpPr>
        <p:sp>
          <p:nvSpPr>
            <p:cNvPr id="207" name=""/>
            <p:cNvSpPr/>
            <p:nvPr/>
          </p:nvSpPr>
          <p:spPr>
            <a:xfrm>
              <a:off x="4572000" y="4419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4191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I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4419720"/>
            <a:ext cx="3124080" cy="307080"/>
            <a:chOff x="4572000" y="4419720"/>
            <a:chExt cx="3124080" cy="307080"/>
          </a:xfrm>
        </p:grpSpPr>
        <p:sp>
          <p:nvSpPr>
            <p:cNvPr id="210" name=""/>
            <p:cNvSpPr/>
            <p:nvPr/>
          </p:nvSpPr>
          <p:spPr>
            <a:xfrm flipH="1">
              <a:off x="4572000" y="46479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7640" y="44197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47920" y="5105520"/>
            <a:ext cx="6248160" cy="380880"/>
          </a:xfrm>
          <a:prstGeom prst="leftRightArrow">
            <a:avLst>
              <a:gd name="adj1" fmla="val 53333"/>
              <a:gd name="adj2" fmla="val 1146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vers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20:55:42Z</dcterms:created>
  <dc:creator>INATEL</dc:creator>
  <dc:description/>
  <dc:language>en-US</dc:language>
  <cp:lastModifiedBy>Inatel</cp:lastModifiedBy>
  <dcterms:modified xsi:type="dcterms:W3CDTF">2004-03-05T13:52:32Z</dcterms:modified>
  <cp:revision>6</cp:revision>
  <dc:subject/>
  <dc:title>Slide sem título </dc:title>
</cp:coreProperties>
</file>