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EEA-7F9F-4EFB-BA71-84C0E3B4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E1E-796C-4C7C-8D7B-24647D8B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9EE-496E-4499-AEDD-C61BAC3E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BF3-1A7E-498B-93EC-5211B3B6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295-28EE-417E-83C8-80EBB1F4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F4B-8F49-4AC3-8649-8D57D999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549-FA92-4046-BD36-D2BF68CD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496-4A70-42AC-BD2F-29116391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337-1431-4619-B4C5-37AB2037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E34-9040-4850-B956-6CB70623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417-6C17-4397-9DF5-73F043F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3A8-A3CA-4E2B-B318-2E9C5855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D2B0-053C-4826-AF2B-001982FC7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xercíci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ja uma central de comutação utilizando uma matriz de comutação de 3 estágios. A central possui 9 enlaces de entrada e 9 enlaces de saída.Todos os três estágios têm o mesmo número de matrizes básicas e é igual a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Desenhe uma estrutura de conexão para essa matriz, especificando os números de entradas e de saídas para cada matriz bá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Qual o número de pontos de cruzamento no caso anteri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Estudar uma situação de bloqueio interno. (Uma situação de bloqueio interno é quando por ex., uma entrada X e uma saída Y estão livres, mas não podem fazer uma conexão por falta de um caminho inter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63400" y="1020600"/>
            <a:ext cx="1130400" cy="459720"/>
            <a:chOff x="563400" y="1020600"/>
            <a:chExt cx="1130400" cy="459720"/>
          </a:xfrm>
        </p:grpSpPr>
        <p:sp>
          <p:nvSpPr>
            <p:cNvPr id="44" name=""/>
            <p:cNvSpPr/>
            <p:nvPr/>
          </p:nvSpPr>
          <p:spPr>
            <a:xfrm>
              <a:off x="563400" y="1020600"/>
              <a:ext cx="47340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941400" y="1359000"/>
              <a:ext cx="7524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ol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63560" y="638280"/>
            <a:ext cx="988560" cy="533160"/>
            <a:chOff x="763560" y="638280"/>
            <a:chExt cx="988560" cy="533160"/>
          </a:xfrm>
        </p:grpSpPr>
        <p:sp>
          <p:nvSpPr>
            <p:cNvPr id="48" name=""/>
            <p:cNvSpPr/>
            <p:nvPr/>
          </p:nvSpPr>
          <p:spPr>
            <a:xfrm>
              <a:off x="763560" y="638280"/>
              <a:ext cx="47304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964800" y="1171440"/>
              <a:ext cx="787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90720" y="969840"/>
              <a:ext cx="0" cy="20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7243920" y="4025880"/>
            <a:ext cx="1078920" cy="459720"/>
            <a:chOff x="7243920" y="4025880"/>
            <a:chExt cx="1078920" cy="459720"/>
          </a:xfrm>
        </p:grpSpPr>
        <p:sp>
          <p:nvSpPr>
            <p:cNvPr id="52" name=""/>
            <p:cNvSpPr/>
            <p:nvPr/>
          </p:nvSpPr>
          <p:spPr>
            <a:xfrm>
              <a:off x="7849800" y="4025880"/>
              <a:ext cx="47304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43920" y="4329000"/>
              <a:ext cx="82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062560" y="4243320"/>
              <a:ext cx="0" cy="85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245360" y="2409840"/>
            <a:ext cx="1226880" cy="459720"/>
            <a:chOff x="7245360" y="2409840"/>
            <a:chExt cx="1226880" cy="459720"/>
          </a:xfrm>
        </p:grpSpPr>
        <p:sp>
          <p:nvSpPr>
            <p:cNvPr id="56" name=""/>
            <p:cNvSpPr/>
            <p:nvPr/>
          </p:nvSpPr>
          <p:spPr>
            <a:xfrm>
              <a:off x="7999200" y="2409840"/>
              <a:ext cx="47304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45360" y="2720880"/>
              <a:ext cx="1000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88960" y="2567160"/>
            <a:ext cx="1085400" cy="459720"/>
            <a:chOff x="588960" y="2567160"/>
            <a:chExt cx="1085400" cy="459720"/>
          </a:xfrm>
        </p:grpSpPr>
        <p:sp>
          <p:nvSpPr>
            <p:cNvPr id="59" name=""/>
            <p:cNvSpPr/>
            <p:nvPr/>
          </p:nvSpPr>
          <p:spPr>
            <a:xfrm>
              <a:off x="588960" y="2567160"/>
              <a:ext cx="47304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934560" y="2892600"/>
              <a:ext cx="739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610000" y="1639800"/>
            <a:ext cx="3811320" cy="3899160"/>
            <a:chOff x="2610000" y="1639800"/>
            <a:chExt cx="3811320" cy="3899160"/>
          </a:xfrm>
        </p:grpSpPr>
        <p:sp>
          <p:nvSpPr>
            <p:cNvPr id="62" name=""/>
            <p:cNvSpPr/>
            <p:nvPr/>
          </p:nvSpPr>
          <p:spPr>
            <a:xfrm>
              <a:off x="4057560" y="4869000"/>
              <a:ext cx="952560" cy="66996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46360" y="1639800"/>
              <a:ext cx="1428840" cy="342288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81280" y="2998800"/>
              <a:ext cx="1393920" cy="223992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10000" y="4427640"/>
              <a:ext cx="1465200" cy="95256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010120" y="1674360"/>
              <a:ext cx="1411200" cy="333396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010120" y="3050640"/>
              <a:ext cx="1376280" cy="218772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005440" y="4390560"/>
              <a:ext cx="1363680" cy="104148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3630600"/>
            <a:ext cx="1071360" cy="459720"/>
            <a:chOff x="685800" y="3630600"/>
            <a:chExt cx="1071360" cy="459720"/>
          </a:xfrm>
        </p:grpSpPr>
        <p:sp>
          <p:nvSpPr>
            <p:cNvPr id="70" name=""/>
            <p:cNvSpPr/>
            <p:nvPr/>
          </p:nvSpPr>
          <p:spPr>
            <a:xfrm>
              <a:off x="685800" y="3630600"/>
              <a:ext cx="47304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017360" y="3908520"/>
              <a:ext cx="739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486160" y="1657440"/>
            <a:ext cx="4059000" cy="4844880"/>
            <a:chOff x="2486160" y="1657440"/>
            <a:chExt cx="4059000" cy="4844880"/>
          </a:xfrm>
        </p:grpSpPr>
        <p:sp>
          <p:nvSpPr>
            <p:cNvPr id="73" name=""/>
            <p:cNvSpPr/>
            <p:nvPr/>
          </p:nvSpPr>
          <p:spPr>
            <a:xfrm>
              <a:off x="4086360" y="5832360"/>
              <a:ext cx="952200" cy="66996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045040" y="3050640"/>
              <a:ext cx="1500120" cy="3086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86160" y="1657440"/>
              <a:ext cx="1606320" cy="4516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980280" y="915840"/>
            <a:ext cx="7012800" cy="3755160"/>
            <a:chOff x="980280" y="915840"/>
            <a:chExt cx="7012800" cy="3755160"/>
          </a:xfrm>
        </p:grpSpPr>
        <p:grpSp>
          <p:nvGrpSpPr>
            <p:cNvPr id="77" name=""/>
            <p:cNvGrpSpPr/>
            <p:nvPr/>
          </p:nvGrpSpPr>
          <p:grpSpPr>
            <a:xfrm>
              <a:off x="980280" y="915840"/>
              <a:ext cx="7012800" cy="3755160"/>
              <a:chOff x="980280" y="915840"/>
              <a:chExt cx="7012800" cy="375516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980280" y="3662280"/>
                <a:ext cx="7012800" cy="1008720"/>
                <a:chOff x="980280" y="3662280"/>
                <a:chExt cx="7012800" cy="10087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979440" y="3789360"/>
                  <a:ext cx="958680" cy="703440"/>
                </a:xfrm>
                <a:prstGeom prst="rect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680840" y="3789360"/>
                  <a:ext cx="958680" cy="703440"/>
                </a:xfrm>
                <a:prstGeom prst="rect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1171440" y="3917880"/>
                  <a:ext cx="509040" cy="382680"/>
                  <a:chOff x="1171440" y="3917880"/>
                  <a:chExt cx="509040" cy="38268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 flipH="1">
                    <a:off x="1171440" y="3917880"/>
                    <a:ext cx="509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>
                    <a:off x="1171440" y="4109040"/>
                    <a:ext cx="509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1171440" y="4300560"/>
                    <a:ext cx="509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" name=""/>
                <p:cNvSpPr/>
                <p:nvPr/>
              </p:nvSpPr>
              <p:spPr>
                <a:xfrm flipH="1">
                  <a:off x="6278400" y="3789360"/>
                  <a:ext cx="956880" cy="703440"/>
                </a:xfrm>
                <a:prstGeom prst="rect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"/>
                <p:cNvGrpSpPr/>
                <p:nvPr/>
              </p:nvGrpSpPr>
              <p:grpSpPr>
                <a:xfrm>
                  <a:off x="7235640" y="3917880"/>
                  <a:ext cx="510840" cy="382680"/>
                  <a:chOff x="7235640" y="3917880"/>
                  <a:chExt cx="510840" cy="38268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7235640" y="3917880"/>
                    <a:ext cx="510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235640" y="4109040"/>
                    <a:ext cx="510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235640" y="4300560"/>
                    <a:ext cx="510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" name=""/>
                <p:cNvSpPr/>
                <p:nvPr/>
              </p:nvSpPr>
              <p:spPr>
                <a:xfrm>
                  <a:off x="980280" y="3662280"/>
                  <a:ext cx="30888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84200" y="3662280"/>
                  <a:ext cx="30888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3979800" y="2384280"/>
                <a:ext cx="958320" cy="703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80840" y="2384280"/>
                <a:ext cx="958680" cy="703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1171440" y="2512800"/>
                <a:ext cx="509040" cy="382680"/>
                <a:chOff x="1171440" y="2512800"/>
                <a:chExt cx="509040" cy="382680"/>
              </a:xfrm>
            </p:grpSpPr>
            <p:sp>
              <p:nvSpPr>
                <p:cNvPr id="95" name=""/>
                <p:cNvSpPr/>
                <p:nvPr/>
              </p:nvSpPr>
              <p:spPr>
                <a:xfrm flipH="1">
                  <a:off x="1171440" y="2512800"/>
                  <a:ext cx="50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>
                  <a:off x="1171440" y="2703960"/>
                  <a:ext cx="50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1171440" y="2895480"/>
                  <a:ext cx="50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 flipH="1">
                <a:off x="6278400" y="2384280"/>
                <a:ext cx="956880" cy="703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7235640" y="2512800"/>
                <a:ext cx="510840" cy="382680"/>
                <a:chOff x="7235640" y="2512800"/>
                <a:chExt cx="510840" cy="382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235640" y="2512800"/>
                  <a:ext cx="51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235640" y="2703960"/>
                  <a:ext cx="51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235640" y="2895480"/>
                  <a:ext cx="51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980640" y="2257200"/>
                <a:ext cx="3088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82760" y="2257200"/>
                <a:ext cx="3088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980640" y="915840"/>
                <a:ext cx="7011360" cy="3384720"/>
                <a:chOff x="980640" y="915840"/>
                <a:chExt cx="7011360" cy="33847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980160" y="979200"/>
                  <a:ext cx="958680" cy="7034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681200" y="979200"/>
                  <a:ext cx="959040" cy="7034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1171440" y="1171440"/>
                  <a:ext cx="509400" cy="382680"/>
                  <a:chOff x="1171440" y="1171440"/>
                  <a:chExt cx="509400" cy="38268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flipH="1">
                    <a:off x="1171440" y="1171440"/>
                    <a:ext cx="509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>
                    <a:off x="1171440" y="1362600"/>
                    <a:ext cx="509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1171440" y="1554120"/>
                    <a:ext cx="509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2640240" y="1108080"/>
                  <a:ext cx="1339920" cy="3192480"/>
                  <a:chOff x="2640240" y="1108080"/>
                  <a:chExt cx="1339920" cy="319248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2640240" y="1108080"/>
                    <a:ext cx="133992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640240" y="1299600"/>
                    <a:ext cx="1339920" cy="121320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640240" y="1554840"/>
                    <a:ext cx="1339920" cy="242604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2640240" y="1299600"/>
                    <a:ext cx="1339920" cy="12132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640240" y="2704320"/>
                    <a:ext cx="1339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640240" y="2959560"/>
                    <a:ext cx="1339920" cy="12132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V="1">
                    <a:off x="2640240" y="1554840"/>
                    <a:ext cx="1339920" cy="236232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V="1">
                    <a:off x="2640240" y="2959560"/>
                    <a:ext cx="1339920" cy="121320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640240" y="4300560"/>
                    <a:ext cx="1339920" cy="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4938840" y="1108080"/>
                  <a:ext cx="1339920" cy="3192480"/>
                  <a:chOff x="4938840" y="1108080"/>
                  <a:chExt cx="1339920" cy="319248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4938840" y="1108080"/>
                    <a:ext cx="133992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938840" y="1299600"/>
                    <a:ext cx="1339920" cy="121320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4938840" y="1554840"/>
                    <a:ext cx="1339920" cy="242604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V="1">
                    <a:off x="4938840" y="1299600"/>
                    <a:ext cx="1339920" cy="12132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938840" y="2704320"/>
                    <a:ext cx="1339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938840" y="2959560"/>
                    <a:ext cx="1339920" cy="12132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4938840" y="1554840"/>
                    <a:ext cx="1339920" cy="236232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V="1">
                    <a:off x="4938840" y="2959560"/>
                    <a:ext cx="1339920" cy="121320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938840" y="4300560"/>
                    <a:ext cx="1339920" cy="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980640" y="915840"/>
                  <a:ext cx="30888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6278040" y="979200"/>
                  <a:ext cx="957240" cy="7034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7236000" y="1171440"/>
                  <a:ext cx="511200" cy="382680"/>
                  <a:chOff x="7236000" y="1171440"/>
                  <a:chExt cx="511200" cy="3826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7236000" y="1171440"/>
                    <a:ext cx="511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36000" y="1362600"/>
                    <a:ext cx="511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236000" y="1554120"/>
                    <a:ext cx="511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" name=""/>
                <p:cNvSpPr/>
                <p:nvPr/>
              </p:nvSpPr>
              <p:spPr>
                <a:xfrm>
                  <a:off x="7683120" y="915840"/>
                  <a:ext cx="30888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9" name=""/>
            <p:cNvSpPr/>
            <p:nvPr/>
          </p:nvSpPr>
          <p:spPr>
            <a:xfrm>
              <a:off x="2044440" y="10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26800" y="2448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76520" y="1093680"/>
            <a:ext cx="5573520" cy="1851120"/>
            <a:chOff x="1676520" y="1093680"/>
            <a:chExt cx="5573520" cy="1851120"/>
          </a:xfrm>
        </p:grpSpPr>
        <p:sp>
          <p:nvSpPr>
            <p:cNvPr id="142" name=""/>
            <p:cNvSpPr/>
            <p:nvPr/>
          </p:nvSpPr>
          <p:spPr>
            <a:xfrm flipV="1">
              <a:off x="1676520" y="1111320"/>
              <a:ext cx="969840" cy="441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4000" y="1093680"/>
              <a:ext cx="1341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86280" y="1093680"/>
              <a:ext cx="9604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57920" y="1322280"/>
              <a:ext cx="1322280" cy="1200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7480" y="2522520"/>
              <a:ext cx="952560" cy="42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693800" y="1305000"/>
            <a:ext cx="5538960" cy="1622520"/>
            <a:chOff x="1693800" y="1305000"/>
            <a:chExt cx="5538960" cy="1622520"/>
          </a:xfrm>
        </p:grpSpPr>
        <p:sp>
          <p:nvSpPr>
            <p:cNvPr id="148" name=""/>
            <p:cNvSpPr/>
            <p:nvPr/>
          </p:nvSpPr>
          <p:spPr>
            <a:xfrm flipV="1">
              <a:off x="1693800" y="1321920"/>
              <a:ext cx="970200" cy="212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4000" y="1305000"/>
              <a:ext cx="1341360" cy="1235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05360" y="2522520"/>
              <a:ext cx="934920" cy="193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7920" y="2716200"/>
              <a:ext cx="1322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97480" y="2698920"/>
              <a:ext cx="9352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693800" y="1552680"/>
            <a:ext cx="5538960" cy="2679480"/>
            <a:chOff x="1693800" y="1552680"/>
            <a:chExt cx="5538960" cy="2679480"/>
          </a:xfrm>
        </p:grpSpPr>
        <p:sp>
          <p:nvSpPr>
            <p:cNvPr id="154" name=""/>
            <p:cNvSpPr/>
            <p:nvPr/>
          </p:nvSpPr>
          <p:spPr>
            <a:xfrm>
              <a:off x="1693800" y="1552680"/>
              <a:ext cx="970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4000" y="1552680"/>
              <a:ext cx="1341360" cy="246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22640" y="4003560"/>
              <a:ext cx="91764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940280" y="2944800"/>
              <a:ext cx="1357200" cy="1287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97480" y="2927520"/>
              <a:ext cx="935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232760" y="863640"/>
            <a:ext cx="1157040" cy="459720"/>
            <a:chOff x="7232760" y="863640"/>
            <a:chExt cx="1157040" cy="459720"/>
          </a:xfrm>
        </p:grpSpPr>
        <p:sp>
          <p:nvSpPr>
            <p:cNvPr id="160" name=""/>
            <p:cNvSpPr/>
            <p:nvPr/>
          </p:nvSpPr>
          <p:spPr>
            <a:xfrm>
              <a:off x="7916760" y="863640"/>
              <a:ext cx="47304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2760" y="1181160"/>
              <a:ext cx="86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693800" y="1076400"/>
            <a:ext cx="5556240" cy="104760"/>
            <a:chOff x="1693800" y="1076400"/>
            <a:chExt cx="5556240" cy="104760"/>
          </a:xfrm>
        </p:grpSpPr>
        <p:sp>
          <p:nvSpPr>
            <p:cNvPr id="163" name=""/>
            <p:cNvSpPr/>
            <p:nvPr/>
          </p:nvSpPr>
          <p:spPr>
            <a:xfrm flipV="1">
              <a:off x="1693800" y="1076400"/>
              <a:ext cx="952560" cy="8712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29080" y="1093680"/>
              <a:ext cx="359856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27640" y="1076400"/>
              <a:ext cx="1022400" cy="10476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676520" y="1321920"/>
            <a:ext cx="5556240" cy="2981880"/>
            <a:chOff x="1676520" y="1321920"/>
            <a:chExt cx="5556240" cy="2981880"/>
          </a:xfrm>
        </p:grpSpPr>
        <p:sp>
          <p:nvSpPr>
            <p:cNvPr id="167" name=""/>
            <p:cNvSpPr/>
            <p:nvPr/>
          </p:nvSpPr>
          <p:spPr>
            <a:xfrm flipV="1">
              <a:off x="1676520" y="1321920"/>
              <a:ext cx="969840" cy="1764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46360" y="1322280"/>
              <a:ext cx="1376280" cy="120024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22640" y="2505240"/>
              <a:ext cx="917640" cy="49356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40280" y="2963880"/>
              <a:ext cx="1339920" cy="121608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97480" y="4179960"/>
              <a:ext cx="935280" cy="12384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141720" y="985680"/>
            <a:ext cx="299880" cy="276480"/>
            <a:chOff x="3141720" y="985680"/>
            <a:chExt cx="299880" cy="276480"/>
          </a:xfrm>
        </p:grpSpPr>
        <p:sp>
          <p:nvSpPr>
            <p:cNvPr id="173" name=""/>
            <p:cNvSpPr/>
            <p:nvPr/>
          </p:nvSpPr>
          <p:spPr>
            <a:xfrm>
              <a:off x="3141720" y="985680"/>
              <a:ext cx="299880" cy="276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198240" y="1026360"/>
              <a:ext cx="194400" cy="19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65840" y="1042560"/>
              <a:ext cx="251280" cy="16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901960" y="1523880"/>
            <a:ext cx="314280" cy="289080"/>
            <a:chOff x="2901960" y="1523880"/>
            <a:chExt cx="314280" cy="289080"/>
          </a:xfrm>
        </p:grpSpPr>
        <p:sp>
          <p:nvSpPr>
            <p:cNvPr id="177" name=""/>
            <p:cNvSpPr/>
            <p:nvPr/>
          </p:nvSpPr>
          <p:spPr>
            <a:xfrm>
              <a:off x="2901960" y="1523880"/>
              <a:ext cx="314280" cy="289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961000" y="1566360"/>
              <a:ext cx="20376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27160" y="1583280"/>
              <a:ext cx="2635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58880" y="2505240"/>
            <a:ext cx="5555880" cy="1798560"/>
            <a:chOff x="1658880" y="2505240"/>
            <a:chExt cx="5555880" cy="1798560"/>
          </a:xfrm>
        </p:grpSpPr>
        <p:sp>
          <p:nvSpPr>
            <p:cNvPr id="181" name=""/>
            <p:cNvSpPr/>
            <p:nvPr/>
          </p:nvSpPr>
          <p:spPr>
            <a:xfrm flipH="1">
              <a:off x="6297120" y="2505240"/>
              <a:ext cx="917640" cy="42228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920840" y="2909880"/>
              <a:ext cx="1359000" cy="132228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951000" y="4232160"/>
              <a:ext cx="988920" cy="7164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646360" y="4286160"/>
              <a:ext cx="1287360" cy="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1658880" y="3914640"/>
              <a:ext cx="1005120" cy="35424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076720" y="3784680"/>
            <a:ext cx="279360" cy="257040"/>
            <a:chOff x="5076720" y="3784680"/>
            <a:chExt cx="279360" cy="257040"/>
          </a:xfrm>
        </p:grpSpPr>
        <p:sp>
          <p:nvSpPr>
            <p:cNvPr id="187" name=""/>
            <p:cNvSpPr/>
            <p:nvPr/>
          </p:nvSpPr>
          <p:spPr>
            <a:xfrm>
              <a:off x="5076720" y="3784680"/>
              <a:ext cx="279360" cy="257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128920" y="3822480"/>
              <a:ext cx="1810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99040" y="3837600"/>
              <a:ext cx="23400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93800" y="1535040"/>
            <a:ext cx="5538960" cy="3686400"/>
            <a:chOff x="1693800" y="1535040"/>
            <a:chExt cx="5538960" cy="3686400"/>
          </a:xfrm>
        </p:grpSpPr>
        <p:sp>
          <p:nvSpPr>
            <p:cNvPr id="191" name=""/>
            <p:cNvSpPr/>
            <p:nvPr/>
          </p:nvSpPr>
          <p:spPr>
            <a:xfrm>
              <a:off x="1693800" y="1535040"/>
              <a:ext cx="970200" cy="158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64000" y="1693800"/>
              <a:ext cx="1428480" cy="342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10120" y="5114880"/>
              <a:ext cx="917640" cy="106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027760" y="3085920"/>
              <a:ext cx="1341360" cy="2135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351480" y="2909880"/>
              <a:ext cx="881280" cy="17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230960" y="1924200"/>
            <a:ext cx="1328760" cy="599760"/>
            <a:chOff x="7230960" y="1924200"/>
            <a:chExt cx="1328760" cy="599760"/>
          </a:xfrm>
        </p:grpSpPr>
        <p:sp>
          <p:nvSpPr>
            <p:cNvPr id="197" name=""/>
            <p:cNvSpPr/>
            <p:nvPr/>
          </p:nvSpPr>
          <p:spPr>
            <a:xfrm>
              <a:off x="7934400" y="1924200"/>
              <a:ext cx="62532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30960" y="2508120"/>
              <a:ext cx="80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974000" y="2257560"/>
              <a:ext cx="264960" cy="266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676520" y="2715840"/>
            <a:ext cx="5573520" cy="2540160"/>
            <a:chOff x="1676520" y="2715840"/>
            <a:chExt cx="5573520" cy="2540160"/>
          </a:xfrm>
        </p:grpSpPr>
        <p:sp>
          <p:nvSpPr>
            <p:cNvPr id="201" name=""/>
            <p:cNvSpPr/>
            <p:nvPr/>
          </p:nvSpPr>
          <p:spPr>
            <a:xfrm>
              <a:off x="1676520" y="2874960"/>
              <a:ext cx="1039680" cy="19368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33840" y="3068640"/>
              <a:ext cx="1341360" cy="217008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075200" y="5221080"/>
              <a:ext cx="934920" cy="3492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010120" y="3068640"/>
              <a:ext cx="1376280" cy="215280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386400" y="2715840"/>
              <a:ext cx="863640" cy="35244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229360" y="4589640"/>
            <a:ext cx="279360" cy="257040"/>
            <a:chOff x="5229360" y="4589640"/>
            <a:chExt cx="279360" cy="257040"/>
          </a:xfrm>
        </p:grpSpPr>
        <p:sp>
          <p:nvSpPr>
            <p:cNvPr id="207" name=""/>
            <p:cNvSpPr/>
            <p:nvPr/>
          </p:nvSpPr>
          <p:spPr>
            <a:xfrm>
              <a:off x="5229360" y="4589640"/>
              <a:ext cx="279360" cy="257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281560" y="4627440"/>
              <a:ext cx="1810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51680" y="4642560"/>
              <a:ext cx="23400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658880" y="1569960"/>
            <a:ext cx="5573520" cy="4584600"/>
            <a:chOff x="1658880" y="1569960"/>
            <a:chExt cx="5573520" cy="4584600"/>
          </a:xfrm>
        </p:grpSpPr>
        <p:sp>
          <p:nvSpPr>
            <p:cNvPr id="211" name=""/>
            <p:cNvSpPr/>
            <p:nvPr/>
          </p:nvSpPr>
          <p:spPr>
            <a:xfrm flipH="1">
              <a:off x="6509880" y="2909880"/>
              <a:ext cx="722520" cy="17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027400" y="3086280"/>
              <a:ext cx="1500120" cy="3051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092480" y="6137280"/>
              <a:ext cx="952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87600" y="1693800"/>
              <a:ext cx="1604880" cy="4460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1658880" y="1569960"/>
              <a:ext cx="811440" cy="12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068640" y="4832280"/>
            <a:ext cx="28224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Times New Roman"/>
              </a:rPr>
              <a:t>BLOQUE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33800" y="5672160"/>
            <a:ext cx="28224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Times New Roman"/>
              </a:rPr>
              <a:t>BLOQUE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98520" y="1552320"/>
            <a:ext cx="1347840" cy="837720"/>
            <a:chOff x="398520" y="1552320"/>
            <a:chExt cx="1347840" cy="837720"/>
          </a:xfrm>
        </p:grpSpPr>
        <p:grpSp>
          <p:nvGrpSpPr>
            <p:cNvPr id="219" name=""/>
            <p:cNvGrpSpPr/>
            <p:nvPr/>
          </p:nvGrpSpPr>
          <p:grpSpPr>
            <a:xfrm>
              <a:off x="398520" y="1552320"/>
              <a:ext cx="1347840" cy="497160"/>
              <a:chOff x="398520" y="1552320"/>
              <a:chExt cx="1347840" cy="497160"/>
            </a:xfrm>
          </p:grpSpPr>
          <p:pic>
            <p:nvPicPr>
              <p:cNvPr id="220" name="" descr="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398520" y="1609560"/>
                <a:ext cx="484200" cy="43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" name=""/>
              <p:cNvGrpSpPr/>
              <p:nvPr/>
            </p:nvGrpSpPr>
            <p:grpSpPr>
              <a:xfrm>
                <a:off x="723960" y="1552320"/>
                <a:ext cx="1022400" cy="299880"/>
                <a:chOff x="723960" y="1552320"/>
                <a:chExt cx="1022400" cy="299880"/>
              </a:xfrm>
            </p:grpSpPr>
            <p:sp>
              <p:nvSpPr>
                <p:cNvPr id="222" name=""/>
                <p:cNvSpPr/>
                <p:nvPr/>
              </p:nvSpPr>
              <p:spPr>
                <a:xfrm flipV="1">
                  <a:off x="723960" y="1552320"/>
                  <a:ext cx="528840" cy="299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1235160" y="1552680"/>
                  <a:ext cx="51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" name=""/>
            <p:cNvSpPr/>
            <p:nvPr/>
          </p:nvSpPr>
          <p:spPr>
            <a:xfrm>
              <a:off x="455760" y="1930320"/>
              <a:ext cx="37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224840" y="2909880"/>
            <a:ext cx="1176120" cy="815400"/>
            <a:chOff x="7224840" y="2909880"/>
            <a:chExt cx="1176120" cy="815400"/>
          </a:xfrm>
        </p:grpSpPr>
        <p:grpSp>
          <p:nvGrpSpPr>
            <p:cNvPr id="226" name=""/>
            <p:cNvGrpSpPr/>
            <p:nvPr/>
          </p:nvGrpSpPr>
          <p:grpSpPr>
            <a:xfrm>
              <a:off x="7224840" y="2909880"/>
              <a:ext cx="1176120" cy="455040"/>
              <a:chOff x="7224840" y="2909880"/>
              <a:chExt cx="1176120" cy="45504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7916760" y="2925360"/>
                <a:ext cx="484200" cy="43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8" name=""/>
              <p:cNvGrpSpPr/>
              <p:nvPr/>
            </p:nvGrpSpPr>
            <p:grpSpPr>
              <a:xfrm>
                <a:off x="7224840" y="2909880"/>
                <a:ext cx="776160" cy="264960"/>
                <a:chOff x="7224840" y="2909880"/>
                <a:chExt cx="776160" cy="2649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224840" y="2909880"/>
                  <a:ext cx="511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736040" y="2909880"/>
                  <a:ext cx="264960" cy="264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981920" y="3265560"/>
              <a:ext cx="37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20:14:33Z</dcterms:created>
  <dc:creator>Inatel</dc:creator>
  <dc:description/>
  <dc:language>en-US</dc:language>
  <cp:lastModifiedBy>Inatel</cp:lastModifiedBy>
  <dcterms:modified xsi:type="dcterms:W3CDTF">2004-08-18T20:25:24Z</dcterms:modified>
  <cp:revision>3</cp:revision>
  <dc:subject/>
  <dc:title>Solução</dc:title>
</cp:coreProperties>
</file>