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5AE-4FDB-49C4-99A5-23E1A611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3AF-6BA2-4A57-BE15-112637AF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23D-283D-4215-819B-1587A464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223-9C1B-4F31-856B-E0D216B8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17C-463C-4E72-B4C9-DF380E87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8B4-ECB1-4E8A-A15B-B9583235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BF7-0623-4529-82DC-1E5F0352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4A6-6624-4AF1-A496-06F89346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AE1-70ED-44ED-9B68-9354BAD0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12E-B2DC-4C72-9474-F42BF33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129-410B-43E8-BBAD-89EDC09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C14-A5A1-48E5-88F5-CDF1E472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68C5-069F-4BD8-97B5-559E1AEF6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459396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410080" y="1981080"/>
            <a:ext cx="1219320" cy="3733920"/>
            <a:chOff x="5410080" y="1981080"/>
            <a:chExt cx="1219320" cy="3733920"/>
          </a:xfrm>
        </p:grpSpPr>
        <p:sp>
          <p:nvSpPr>
            <p:cNvPr id="43" name=""/>
            <p:cNvSpPr/>
            <p:nvPr/>
          </p:nvSpPr>
          <p:spPr>
            <a:xfrm flipV="1">
              <a:off x="5791320" y="48769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410080" y="1981080"/>
              <a:ext cx="1219320" cy="228600"/>
              <a:chOff x="5410080" y="1981080"/>
              <a:chExt cx="1219320" cy="228600"/>
            </a:xfrm>
          </p:grpSpPr>
          <p:sp>
            <p:nvSpPr>
              <p:cNvPr id="45" name=""/>
              <p:cNvSpPr/>
              <p:nvPr/>
            </p:nvSpPr>
            <p:spPr>
              <a:xfrm>
                <a:off x="5410080" y="1981080"/>
                <a:ext cx="304920" cy="228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324480" y="1981080"/>
                <a:ext cx="304920" cy="228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19920" y="1981080"/>
                <a:ext cx="304560" cy="228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715000" y="1981080"/>
                <a:ext cx="304920" cy="228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5410080" y="5486400"/>
              <a:ext cx="1219320" cy="228600"/>
              <a:chOff x="5410080" y="5486400"/>
              <a:chExt cx="1219320" cy="228600"/>
            </a:xfrm>
          </p:grpSpPr>
          <p:sp>
            <p:nvSpPr>
              <p:cNvPr id="50" name=""/>
              <p:cNvSpPr/>
              <p:nvPr/>
            </p:nvSpPr>
            <p:spPr>
              <a:xfrm>
                <a:off x="6324480" y="5486400"/>
                <a:ext cx="304920" cy="228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19560" y="5486400"/>
                <a:ext cx="304920" cy="228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10080" y="5486400"/>
                <a:ext cx="304920" cy="228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715000" y="5486400"/>
                <a:ext cx="304560" cy="228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6095880" y="2362320"/>
              <a:ext cx="3081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8534520" y="4724280"/>
            <a:ext cx="3045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3124080"/>
            <a:ext cx="3045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34520" y="5638680"/>
            <a:ext cx="3045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34520" y="5181480"/>
            <a:ext cx="3045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4520" y="3657600"/>
            <a:ext cx="3045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34520" y="2209680"/>
            <a:ext cx="3045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34520" y="4191120"/>
            <a:ext cx="3045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34520" y="2666880"/>
            <a:ext cx="3045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676520"/>
            <a:ext cx="3049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1676520"/>
            <a:ext cx="3045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1676520"/>
            <a:ext cx="3045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167652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038120" y="1981080"/>
            <a:ext cx="2286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114800"/>
            <a:ext cx="3045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4114800"/>
            <a:ext cx="3045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411480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4114800"/>
            <a:ext cx="304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4419720"/>
            <a:ext cx="3049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28600"/>
            <a:ext cx="862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a) Preencher as memórias de controle na tentativa de possibilitar as seguintes conversaçõ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A1</a:t>
            </a:r>
            <a:r>
              <a:rPr b="1" lang="pt-B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6, A2</a:t>
            </a:r>
            <a:r>
              <a:rPr b="1" lang="pt-B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1, A3</a:t>
            </a:r>
            <a:r>
              <a:rPr b="1" lang="pt-B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8, A4</a:t>
            </a:r>
            <a:r>
              <a:rPr b="1" lang="pt-B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2, A5</a:t>
            </a:r>
            <a:r>
              <a:rPr b="1" lang="pt-B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3, A6</a:t>
            </a:r>
            <a:r>
              <a:rPr b="1" lang="pt-B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7, A7</a:t>
            </a:r>
            <a:r>
              <a:rPr b="1" lang="pt-B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4 e A8</a:t>
            </a:r>
            <a:r>
              <a:rPr b="1" lang="pt-B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b) Conclua a respeito do resultad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95480" y="2590920"/>
            <a:ext cx="304920" cy="3276360"/>
            <a:chOff x="2895480" y="2590920"/>
            <a:chExt cx="304920" cy="3276360"/>
          </a:xfrm>
        </p:grpSpPr>
        <p:grpSp>
          <p:nvGrpSpPr>
            <p:cNvPr id="75" name=""/>
            <p:cNvGrpSpPr/>
            <p:nvPr/>
          </p:nvGrpSpPr>
          <p:grpSpPr>
            <a:xfrm>
              <a:off x="2895480" y="2590920"/>
              <a:ext cx="304920" cy="1218960"/>
              <a:chOff x="2895480" y="2590920"/>
              <a:chExt cx="304920" cy="1218960"/>
            </a:xfrm>
          </p:grpSpPr>
          <p:sp>
            <p:nvSpPr>
              <p:cNvPr id="76" name=""/>
              <p:cNvSpPr/>
              <p:nvPr/>
            </p:nvSpPr>
            <p:spPr>
              <a:xfrm>
                <a:off x="2895480" y="25909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95480" y="289548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95480" y="32767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95480" y="358128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895480" y="4648320"/>
              <a:ext cx="304920" cy="1218960"/>
              <a:chOff x="2895480" y="4648320"/>
              <a:chExt cx="304920" cy="1218960"/>
            </a:xfrm>
          </p:grpSpPr>
          <p:sp>
            <p:nvSpPr>
              <p:cNvPr id="81" name=""/>
              <p:cNvSpPr/>
              <p:nvPr/>
            </p:nvSpPr>
            <p:spPr>
              <a:xfrm>
                <a:off x="2895480" y="46483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95480" y="495288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95480" y="53341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95480" y="563868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3505320" y="2057400"/>
            <a:ext cx="304560" cy="990720"/>
            <a:chOff x="3505320" y="2057400"/>
            <a:chExt cx="304560" cy="990720"/>
          </a:xfrm>
        </p:grpSpPr>
        <p:sp>
          <p:nvSpPr>
            <p:cNvPr id="86" name=""/>
            <p:cNvSpPr/>
            <p:nvPr/>
          </p:nvSpPr>
          <p:spPr>
            <a:xfrm>
              <a:off x="3505320" y="2057400"/>
              <a:ext cx="3045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2304720"/>
              <a:ext cx="3045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05320" y="2614680"/>
              <a:ext cx="3045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05320" y="2862360"/>
              <a:ext cx="3045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505320" y="5334120"/>
            <a:ext cx="304560" cy="990000"/>
            <a:chOff x="3505320" y="5334120"/>
            <a:chExt cx="304560" cy="990000"/>
          </a:xfrm>
        </p:grpSpPr>
        <p:sp>
          <p:nvSpPr>
            <p:cNvPr id="91" name=""/>
            <p:cNvSpPr/>
            <p:nvPr/>
          </p:nvSpPr>
          <p:spPr>
            <a:xfrm>
              <a:off x="3505320" y="5334120"/>
              <a:ext cx="304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5320" y="5581440"/>
              <a:ext cx="304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5891040"/>
              <a:ext cx="304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05320" y="6138720"/>
              <a:ext cx="304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343400" y="5410080"/>
            <a:ext cx="304920" cy="914400"/>
            <a:chOff x="4343400" y="5410080"/>
            <a:chExt cx="304920" cy="914400"/>
          </a:xfrm>
        </p:grpSpPr>
        <p:sp>
          <p:nvSpPr>
            <p:cNvPr id="96" name=""/>
            <p:cNvSpPr/>
            <p:nvPr/>
          </p:nvSpPr>
          <p:spPr>
            <a:xfrm>
              <a:off x="4343400" y="5410080"/>
              <a:ext cx="3049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43400" y="5638680"/>
              <a:ext cx="3049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43400" y="592452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3400" y="615312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952880" y="5410080"/>
            <a:ext cx="304920" cy="914040"/>
            <a:chOff x="4952880" y="5410080"/>
            <a:chExt cx="304920" cy="914040"/>
          </a:xfrm>
        </p:grpSpPr>
        <p:sp>
          <p:nvSpPr>
            <p:cNvPr id="101" name=""/>
            <p:cNvSpPr/>
            <p:nvPr/>
          </p:nvSpPr>
          <p:spPr>
            <a:xfrm>
              <a:off x="4952880" y="541008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2880" y="563832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52880" y="592452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615276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07080" y="11955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SOLU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25909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534520" y="4648320"/>
            <a:ext cx="380880" cy="380880"/>
            <a:chOff x="8534520" y="4648320"/>
            <a:chExt cx="380880" cy="380880"/>
          </a:xfrm>
        </p:grpSpPr>
        <p:sp>
          <p:nvSpPr>
            <p:cNvPr id="108" name=""/>
            <p:cNvSpPr/>
            <p:nvPr/>
          </p:nvSpPr>
          <p:spPr>
            <a:xfrm>
              <a:off x="8534520" y="4648320"/>
              <a:ext cx="3808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8534520" y="4648320"/>
              <a:ext cx="3808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8534520" y="5105520"/>
            <a:ext cx="380880" cy="380880"/>
            <a:chOff x="8534520" y="5105520"/>
            <a:chExt cx="380880" cy="380880"/>
          </a:xfrm>
        </p:grpSpPr>
        <p:sp>
          <p:nvSpPr>
            <p:cNvPr id="111" name=""/>
            <p:cNvSpPr/>
            <p:nvPr/>
          </p:nvSpPr>
          <p:spPr>
            <a:xfrm>
              <a:off x="8534520" y="5105520"/>
              <a:ext cx="3808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8534520" y="5105520"/>
              <a:ext cx="3808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019920" y="5486400"/>
            <a:ext cx="3045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64832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5486400"/>
            <a:ext cx="304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1676520"/>
            <a:ext cx="3049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114800"/>
            <a:ext cx="304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6:57:46Z</dcterms:created>
  <dc:creator>carlos</dc:creator>
  <dc:description/>
  <dc:language>en-US</dc:language>
  <cp:lastModifiedBy>Inatel</cp:lastModifiedBy>
  <dcterms:modified xsi:type="dcterms:W3CDTF">2005-03-30T18:09:54Z</dcterms:modified>
  <cp:revision>8</cp:revision>
  <dc:subject/>
  <dc:title>Slide sem título </dc:title>
</cp:coreProperties>
</file>