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98AE-B199-4491-A217-DE9598A06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B1A5-BA4A-45DB-BD05-401419DA2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16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416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FB0B-391E-43D8-8358-568217789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62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1680" y="114300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62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1680" y="3729960"/>
            <a:ext cx="2747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A6E5-146B-42D5-BD57-1C04E73DD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1D2A-F7FF-4064-B6A8-F6D8CB4CF1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9FF6B-30EF-4C0D-AE2E-9E44CAE06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416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10619-1FD0-435B-A7B0-A2BACBF37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4459-2106-4A7B-9EA0-EB898B52B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320" y="152280"/>
            <a:ext cx="678204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F970-EDA0-420D-A297-29971C0AF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416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27CE-60C1-448C-A95E-CF7CACB38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64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416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4160" y="372996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F92CD-3B8A-47CF-8B05-B670F7F42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128520"/>
            <a:ext cx="67820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4160" y="1143000"/>
            <a:ext cx="4164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729960"/>
            <a:ext cx="8534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FD369-7429-4EEF-80D6-AE683EE017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3240"/>
          <a:ext cx="9144000" cy="68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40"/>
                    <a:ext cx="9144000" cy="68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09320" y="15228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80880" y="640080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des Telefôn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510516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6324480"/>
            <a:ext cx="88390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6782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BIBLIOGRAFIA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LLAMY, John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igital telephony.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ed. New York: John Wiley, 199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LACK, Uyless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SDN &amp; SS7: architectures for digital signaling networks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ew Jersey: Prentice Hall,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DONAL, C. John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Fundamentals of Digital Switch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2ed. New York: Plenum Press,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OSSE, G. van John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gnaling in Telecomunication Network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New York: John Wiley, 199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MILL, F. J. and VALDAR, A. R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PC: Digital Telephone Exchang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Revised Ed. London: Eastern Press Ltd, 19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JESZENSKY, P. J. Etienne.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s Telefôn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São Paulo: Manole,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4EEF1-FC54-4DA5-A108-CE392534A3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8T18:01:56Z</dcterms:created>
  <dc:creator>Carlinhos</dc:creator>
  <dc:description/>
  <dc:language>en-US</dc:language>
  <cp:lastModifiedBy>carlos</cp:lastModifiedBy>
  <cp:lastPrinted>1999-05-26T19:06:50Z</cp:lastPrinted>
  <dcterms:modified xsi:type="dcterms:W3CDTF">2008-08-04T01:00:49Z</dcterms:modified>
  <cp:revision>26</cp:revision>
  <dc:subject/>
  <dc:title>ESTRUTURA DO PROTOCOLO</dc:title>
</cp:coreProperties>
</file>