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7C5D2-F7F0-4D60-A69B-3F28E9B40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8530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5560" y="3817800"/>
            <a:ext cx="8530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D4118-5BDA-4ECF-BF25-96F0CBBFF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704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5560" y="381780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7040" y="381780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A8C3-56C1-448F-9428-A4F90C939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240" y="113364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560" y="113364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5560" y="381780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240" y="381780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560" y="3817800"/>
            <a:ext cx="274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33BD-4B77-49E1-B5B8-83932256BB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5560" y="1133640"/>
            <a:ext cx="853092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773C5-0F09-441F-AF89-043899C068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85309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E612C-1EA2-4E3A-A0E6-34D9A511B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416304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7040" y="1133640"/>
            <a:ext cx="416304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8C38-D7D6-49C6-BD73-2E4BBCD7A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1E9B0-DA4C-45BB-B9E9-82803B809F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68640" y="222120"/>
            <a:ext cx="6975360" cy="21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7BB87-6D8D-4B7A-96BD-752E49A5C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7040" y="1133640"/>
            <a:ext cx="416304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5560" y="381780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8EA27-9291-4984-A9C1-F727145C9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416304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704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7040" y="381780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04FE-79CF-4333-BAFB-A9F920EB3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7040" y="1133640"/>
            <a:ext cx="41630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5560" y="3817800"/>
            <a:ext cx="853092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28E8-3CCA-45D5-8C80-10A75DC60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3240"/>
          <a:ext cx="9144000" cy="68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68640" y="222120"/>
            <a:ext cx="69753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5560" y="1133640"/>
            <a:ext cx="85309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55680" y="6426000"/>
            <a:ext cx="50464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es Telefô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300280" y="6407280"/>
            <a:ext cx="3616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Capítulo II - Comutação Telefônica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ff3300"/>
                </a:solidFill>
                <a:latin typeface="Times New Roman"/>
              </a:rPr>
              <a:t>pg </a:t>
            </a:r>
            <a:fld id="{EE699F3C-7F7F-4F6D-81CC-3A94E0CB0C10}" type="slidenum">
              <a:rPr b="0" lang="pt-BR" sz="1400" spc="-1" strike="noStrike">
                <a:solidFill>
                  <a:srgbClr val="ff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4800" y="6384960"/>
            <a:ext cx="88092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00200"/>
            <a:ext cx="779148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APÍTULO II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MUTAÇÃO TELEFÔNICA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997160"/>
            <a:ext cx="64008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os Roberto dos Sa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79160" y="280800"/>
            <a:ext cx="6705720" cy="50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UTADOR ESPACIAL DIGITA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560600"/>
          <a:ext cx="7924680" cy="42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60600"/>
                    <a:ext cx="7924680" cy="42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5950080" y="5111640"/>
            <a:ext cx="1815840" cy="292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80040" y="4998960"/>
            <a:ext cx="192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S =&gt; Memória de Cont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(Control St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64E1-136B-4429-B846-6EECD3CEF1D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71880" y="348840"/>
            <a:ext cx="6783120" cy="3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UTADOR DIGITAL OU TEMPORAL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6172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baseia na técnica TDM (Multiplexação por Divisão de Tem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caso de PCM, a Matriz de Comutação Digital extrai os canais do PCM de Entrada e rearanja-os no PCM de 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95400" y="3138480"/>
          <a:ext cx="7574040" cy="27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3138480"/>
                    <a:ext cx="757404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8B3B-E682-44D8-B52F-8A5F4F64C0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570720" cy="48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INCÍPIO DE FUNCIONAMENTO DO COMUTADOR TEMPORAL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3520" y="1236600"/>
          <a:ext cx="8229600" cy="47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36600"/>
                    <a:ext cx="8229600" cy="47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C233B-36B2-42ED-810B-64735771468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7080" y="284040"/>
            <a:ext cx="66675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PLICAÇÃO DO COMUTADOR TEMPORAL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90480" y="4014720"/>
            <a:ext cx="7778520" cy="2301120"/>
            <a:chOff x="690480" y="4014720"/>
            <a:chExt cx="7778520" cy="2301120"/>
          </a:xfrm>
        </p:grpSpPr>
        <p:sp>
          <p:nvSpPr>
            <p:cNvPr id="185" name=""/>
            <p:cNvSpPr/>
            <p:nvPr/>
          </p:nvSpPr>
          <p:spPr>
            <a:xfrm>
              <a:off x="6680160" y="4014720"/>
              <a:ext cx="889200" cy="29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5280" y="4030560"/>
              <a:ext cx="796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MU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6880" y="4014720"/>
              <a:ext cx="693720" cy="295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11960" y="4030560"/>
              <a:ext cx="50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2520" y="4210200"/>
              <a:ext cx="39708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0920" y="421956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82520" y="4699080"/>
              <a:ext cx="397080" cy="40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0920" y="470700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2520" y="5191200"/>
              <a:ext cx="39708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0920" y="520056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2520" y="5684760"/>
              <a:ext cx="397080" cy="3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0920" y="569268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0480" y="4210200"/>
              <a:ext cx="29520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45560" y="4227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0480" y="4699080"/>
              <a:ext cx="29520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556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0480" y="5191200"/>
              <a:ext cx="29520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5560" y="52084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0480" y="5684760"/>
              <a:ext cx="295200" cy="29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5560" y="570060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771560" y="4307040"/>
              <a:ext cx="592200" cy="1674720"/>
              <a:chOff x="1771560" y="4307040"/>
              <a:chExt cx="592200" cy="1674720"/>
            </a:xfrm>
          </p:grpSpPr>
          <p:sp>
            <p:nvSpPr>
              <p:cNvPr id="206" name=""/>
              <p:cNvSpPr/>
              <p:nvPr/>
            </p:nvSpPr>
            <p:spPr>
              <a:xfrm>
                <a:off x="1771560" y="4307040"/>
                <a:ext cx="592200" cy="167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1866960" y="4799160"/>
                <a:ext cx="492120" cy="296280"/>
                <a:chOff x="1866960" y="4799160"/>
                <a:chExt cx="492120" cy="296280"/>
              </a:xfrm>
            </p:grpSpPr>
            <p:sp>
              <p:nvSpPr>
                <p:cNvPr id="208" name=""/>
                <p:cNvSpPr/>
                <p:nvPr/>
              </p:nvSpPr>
              <p:spPr>
                <a:xfrm flipH="1" flipV="1">
                  <a:off x="1971720" y="4857480"/>
                  <a:ext cx="38736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866960" y="4799160"/>
                  <a:ext cx="150840" cy="125280"/>
                </a:xfrm>
                <a:custGeom>
                  <a:avLst/>
                  <a:gdLst/>
                  <a:ahLst/>
                  <a:rect l="l" t="t" r="r" b="b"/>
                  <a:pathLst>
                    <a:path w="95" h="79">
                      <a:moveTo>
                        <a:pt x="95" y="5"/>
                      </a:moveTo>
                      <a:lnTo>
                        <a:pt x="0" y="0"/>
                      </a:lnTo>
                      <a:lnTo>
                        <a:pt x="50" y="79"/>
                      </a:lnTo>
                      <a:lnTo>
                        <a:pt x="9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000160" y="4699080"/>
                <a:ext cx="258840" cy="593640"/>
                <a:chOff x="2000160" y="4699080"/>
                <a:chExt cx="258840" cy="59364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063880" y="4699080"/>
                  <a:ext cx="195120" cy="463320"/>
                </a:xfrm>
                <a:custGeom>
                  <a:avLst/>
                  <a:gdLst/>
                  <a:ahLst/>
                  <a:rect l="l" t="t" r="r" b="b"/>
                  <a:pathLst>
                    <a:path w="123" h="292">
                      <a:moveTo>
                        <a:pt x="123" y="0"/>
                      </a:moveTo>
                      <a:lnTo>
                        <a:pt x="94" y="21"/>
                      </a:lnTo>
                      <a:lnTo>
                        <a:pt x="68" y="45"/>
                      </a:lnTo>
                      <a:lnTo>
                        <a:pt x="44" y="68"/>
                      </a:lnTo>
                      <a:lnTo>
                        <a:pt x="26" y="95"/>
                      </a:lnTo>
                      <a:lnTo>
                        <a:pt x="13" y="126"/>
                      </a:lnTo>
                      <a:lnTo>
                        <a:pt x="5" y="160"/>
                      </a:lnTo>
                      <a:lnTo>
                        <a:pt x="0" y="197"/>
                      </a:lnTo>
                      <a:lnTo>
                        <a:pt x="0" y="234"/>
                      </a:lnTo>
                      <a:lnTo>
                        <a:pt x="0" y="263"/>
                      </a:lnTo>
                      <a:lnTo>
                        <a:pt x="5" y="292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000160" y="5146560"/>
                  <a:ext cx="133560" cy="146160"/>
                </a:xfrm>
                <a:custGeom>
                  <a:avLst/>
                  <a:gdLst/>
                  <a:ahLst/>
                  <a:rect l="l" t="t" r="r" b="b"/>
                  <a:pathLst>
                    <a:path w="84" h="92">
                      <a:moveTo>
                        <a:pt x="0" y="21"/>
                      </a:moveTo>
                      <a:lnTo>
                        <a:pt x="66" y="92"/>
                      </a:lnTo>
                      <a:lnTo>
                        <a:pt x="84" y="0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3" name=""/>
            <p:cNvSpPr/>
            <p:nvPr/>
          </p:nvSpPr>
          <p:spPr>
            <a:xfrm>
              <a:off x="1278000" y="4406760"/>
              <a:ext cx="493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78000" y="4896000"/>
              <a:ext cx="4935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78000" y="5388120"/>
              <a:ext cx="493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8000" y="5880240"/>
              <a:ext cx="4935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158320" y="4210200"/>
              <a:ext cx="295200" cy="296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215200" y="422748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58320" y="4699080"/>
              <a:ext cx="29520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15200" y="471636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158320" y="5191200"/>
              <a:ext cx="29520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15200" y="520848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8320" y="5684760"/>
              <a:ext cx="295200" cy="29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215200" y="5700600"/>
              <a:ext cx="25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65920" y="4210200"/>
              <a:ext cx="39528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22520" y="421956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765920" y="4699080"/>
              <a:ext cx="395280" cy="40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22520" y="470700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65920" y="5191200"/>
              <a:ext cx="395280" cy="39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22520" y="520056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765920" y="5684760"/>
              <a:ext cx="395280" cy="397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22520" y="5692680"/>
              <a:ext cx="3344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780240" y="4307040"/>
              <a:ext cx="1080720" cy="1674720"/>
              <a:chOff x="6780240" y="4307040"/>
              <a:chExt cx="1080720" cy="16747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780240" y="4307040"/>
                <a:ext cx="592200" cy="1674720"/>
                <a:chOff x="6780240" y="4307040"/>
                <a:chExt cx="592200" cy="16747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780240" y="4307040"/>
                  <a:ext cx="592200" cy="16747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"/>
                <p:cNvGrpSpPr/>
                <p:nvPr/>
              </p:nvGrpSpPr>
              <p:grpSpPr>
                <a:xfrm>
                  <a:off x="6780240" y="4799160"/>
                  <a:ext cx="492120" cy="296280"/>
                  <a:chOff x="6780240" y="4799160"/>
                  <a:chExt cx="492120" cy="29628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 flipV="1">
                    <a:off x="6780240" y="4857480"/>
                    <a:ext cx="388800" cy="2379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122960" y="4799160"/>
                    <a:ext cx="14940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82">
                        <a:moveTo>
                          <a:pt x="44" y="82"/>
                        </a:moveTo>
                        <a:lnTo>
                          <a:pt x="94" y="0"/>
                        </a:lnTo>
                        <a:lnTo>
                          <a:pt x="0" y="8"/>
                        </a:lnTo>
                        <a:lnTo>
                          <a:pt x="44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" name=""/>
                <p:cNvGrpSpPr/>
                <p:nvPr/>
              </p:nvGrpSpPr>
              <p:grpSpPr>
                <a:xfrm>
                  <a:off x="6880320" y="4699080"/>
                  <a:ext cx="253800" cy="593640"/>
                  <a:chOff x="6880320" y="4699080"/>
                  <a:chExt cx="253800" cy="59364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6880320" y="4699080"/>
                    <a:ext cx="196920" cy="46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292">
                        <a:moveTo>
                          <a:pt x="0" y="0"/>
                        </a:moveTo>
                        <a:lnTo>
                          <a:pt x="29" y="21"/>
                        </a:lnTo>
                        <a:lnTo>
                          <a:pt x="58" y="45"/>
                        </a:lnTo>
                        <a:lnTo>
                          <a:pt x="79" y="68"/>
                        </a:lnTo>
                        <a:lnTo>
                          <a:pt x="97" y="95"/>
                        </a:lnTo>
                        <a:lnTo>
                          <a:pt x="111" y="126"/>
                        </a:lnTo>
                        <a:lnTo>
                          <a:pt x="118" y="160"/>
                        </a:lnTo>
                        <a:lnTo>
                          <a:pt x="124" y="197"/>
                        </a:lnTo>
                        <a:lnTo>
                          <a:pt x="124" y="234"/>
                        </a:lnTo>
                        <a:lnTo>
                          <a:pt x="121" y="263"/>
                        </a:lnTo>
                        <a:lnTo>
                          <a:pt x="116" y="29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000920" y="5146560"/>
                    <a:ext cx="13320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92">
                        <a:moveTo>
                          <a:pt x="0" y="0"/>
                        </a:moveTo>
                        <a:lnTo>
                          <a:pt x="21" y="92"/>
                        </a:lnTo>
                        <a:lnTo>
                          <a:pt x="84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2" name=""/>
              <p:cNvSpPr/>
              <p:nvPr/>
            </p:nvSpPr>
            <p:spPr>
              <a:xfrm flipH="1">
                <a:off x="7368840" y="4406760"/>
                <a:ext cx="4921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7368840" y="4896000"/>
                <a:ext cx="49212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368840" y="5388120"/>
                <a:ext cx="492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368840" y="5880240"/>
                <a:ext cx="4921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359080" y="5029200"/>
              <a:ext cx="1866960" cy="138240"/>
              <a:chOff x="2359080" y="5029200"/>
              <a:chExt cx="1866960" cy="138240"/>
            </a:xfrm>
          </p:grpSpPr>
          <p:sp>
            <p:nvSpPr>
              <p:cNvPr id="247" name=""/>
              <p:cNvSpPr/>
              <p:nvPr/>
            </p:nvSpPr>
            <p:spPr>
              <a:xfrm>
                <a:off x="2359080" y="5095800"/>
                <a:ext cx="17413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92480" y="5029200"/>
                <a:ext cx="133560" cy="138240"/>
              </a:xfrm>
              <a:custGeom>
                <a:avLst/>
                <a:gdLst/>
                <a:ahLst/>
                <a:rect l="l" t="t" r="r" b="b"/>
                <a:pathLst>
                  <a:path w="84" h="87">
                    <a:moveTo>
                      <a:pt x="0" y="87"/>
                    </a:moveTo>
                    <a:lnTo>
                      <a:pt x="84" y="42"/>
                    </a:lnTo>
                    <a:lnTo>
                      <a:pt x="0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5207040" y="5095800"/>
              <a:ext cx="15732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815000" y="4703760"/>
              <a:ext cx="391680" cy="392040"/>
              <a:chOff x="4815000" y="4703760"/>
              <a:chExt cx="391680" cy="392040"/>
            </a:xfrm>
          </p:grpSpPr>
          <p:sp>
            <p:nvSpPr>
              <p:cNvPr id="251" name=""/>
              <p:cNvSpPr/>
              <p:nvPr/>
            </p:nvSpPr>
            <p:spPr>
              <a:xfrm flipH="1" flipV="1">
                <a:off x="4901760" y="479124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15000" y="4703760"/>
                <a:ext cx="145800" cy="141120"/>
              </a:xfrm>
              <a:custGeom>
                <a:avLst/>
                <a:gdLst/>
                <a:ahLst/>
                <a:rect l="l" t="t" r="r" b="b"/>
                <a:pathLst>
                  <a:path w="92" h="89">
                    <a:moveTo>
                      <a:pt x="92" y="29"/>
                    </a:moveTo>
                    <a:lnTo>
                      <a:pt x="0" y="0"/>
                    </a:lnTo>
                    <a:lnTo>
                      <a:pt x="28" y="89"/>
                    </a:lnTo>
                    <a:lnTo>
                      <a:pt x="9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752560" y="4406760"/>
              <a:ext cx="1181160" cy="29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14120" y="4422600"/>
              <a:ext cx="10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9728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82960" y="4422600"/>
              <a:ext cx="29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5116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36120" y="44226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5608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8880" y="4422600"/>
              <a:ext cx="19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1492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40080" y="4699080"/>
              <a:ext cx="3016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9984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37080" y="4699080"/>
              <a:ext cx="29664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9684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8120" y="4699080"/>
              <a:ext cx="29664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10284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52560" y="4699080"/>
              <a:ext cx="30024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088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07200" y="4406760"/>
              <a:ext cx="1180800" cy="297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5160" y="4422600"/>
              <a:ext cx="10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4832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2560" y="4422600"/>
              <a:ext cx="29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0220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87160" y="4422600"/>
              <a:ext cx="2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0712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9920" y="4422600"/>
              <a:ext cx="19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65960" y="4514760"/>
              <a:ext cx="64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6160" y="4699080"/>
              <a:ext cx="29520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5412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88120" y="4699080"/>
              <a:ext cx="2998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34644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99160" y="4699080"/>
              <a:ext cx="29988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5748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07200" y="4699080"/>
              <a:ext cx="296640" cy="299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6192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18080" y="4406760"/>
              <a:ext cx="200160" cy="12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8440" y="4414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08440" y="4716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08440" y="5011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8440" y="53211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83200" y="4406760"/>
              <a:ext cx="43956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17480" y="442260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83200" y="4699080"/>
              <a:ext cx="439560" cy="40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73920" y="471636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183200" y="4991040"/>
              <a:ext cx="439560" cy="40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17480" y="50086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3200" y="5288040"/>
              <a:ext cx="439560" cy="39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17480" y="5303880"/>
              <a:ext cx="266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348160" y="5191200"/>
              <a:ext cx="158760" cy="10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18000" y="52005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18000" y="5500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8000" y="5800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18000" y="6102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15080" y="5191200"/>
              <a:ext cx="395280" cy="342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60160" y="52135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15080" y="5442120"/>
              <a:ext cx="395280" cy="33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6240" y="54626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15080" y="5688000"/>
              <a:ext cx="395280" cy="343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60160" y="5710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15080" y="5935680"/>
              <a:ext cx="395280" cy="34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060160" y="59562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4943520" y="4898880"/>
              <a:ext cx="138240" cy="292320"/>
              <a:chOff x="4943520" y="4898880"/>
              <a:chExt cx="138240" cy="292320"/>
            </a:xfrm>
          </p:grpSpPr>
          <p:sp>
            <p:nvSpPr>
              <p:cNvPr id="314" name=""/>
              <p:cNvSpPr/>
              <p:nvPr/>
            </p:nvSpPr>
            <p:spPr>
              <a:xfrm>
                <a:off x="5010120" y="5024520"/>
                <a:ext cx="144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943520" y="4898880"/>
                <a:ext cx="138240" cy="133560"/>
              </a:xfrm>
              <a:custGeom>
                <a:avLst/>
                <a:gdLst/>
                <a:ahLst/>
                <a:rect l="l" t="t" r="r" b="b"/>
                <a:pathLst>
                  <a:path w="87" h="84">
                    <a:moveTo>
                      <a:pt x="87" y="84"/>
                    </a:moveTo>
                    <a:lnTo>
                      <a:pt x="42" y="0"/>
                    </a:lnTo>
                    <a:lnTo>
                      <a:pt x="0" y="84"/>
                    </a:lnTo>
                    <a:lnTo>
                      <a:pt x="87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985680" y="3089160"/>
            <a:ext cx="789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O FAZER COM QUE A1 FALE COM B3, A2 COM B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3 COM B2 E A4 COM B1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09480" y="1036800"/>
            <a:ext cx="7848720" cy="2097000"/>
            <a:chOff x="609480" y="1036800"/>
            <a:chExt cx="7848720" cy="209700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609480" y="1036800"/>
              <a:ext cx="7848720" cy="20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3962520" y="1432080"/>
              <a:ext cx="129528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F214-0693-4211-A727-2D985B6434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44520" y="293400"/>
            <a:ext cx="6746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MUTADOR TEMPORAL DE 256 CANAIS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85800" y="1255680"/>
            <a:ext cx="7772400" cy="4168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98520" y="5595840"/>
            <a:ext cx="872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Qual o Número Máximo de Canais </a:t>
            </a:r>
            <a:r>
              <a:rPr b="0" i="1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que Pode Ser Tolerado Por uma Memória de Leitura e Escrita Simultânea?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759A-9666-4F25-81C3-B1072F8507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666880" y="22860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XEMPLO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801720" y="1778040"/>
            <a:ext cx="7924680" cy="45086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04920" y="990720"/>
            <a:ext cx="85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encher as memórias de controle na tentativa de possibilitar as seguintes conversaçõ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 e B6, A2 e B1, A3 e B8, A4 e B2, A5 e B3, A6 eB7, A7 e B4 e A8 e B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Concluir a respe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6B64-0B7C-4AFE-AD27-B4EB492C4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68640" y="168120"/>
            <a:ext cx="6975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2346480" y="141120"/>
            <a:ext cx="5338440" cy="640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8679D-F43B-4D9E-90C1-BDBF648CFF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78080" y="25848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QUIVALENTE ESPACIAL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14400" y="1143000"/>
            <a:ext cx="7062840" cy="4955400"/>
            <a:chOff x="914400" y="1143000"/>
            <a:chExt cx="7062840" cy="4955400"/>
          </a:xfrm>
        </p:grpSpPr>
        <p:grpSp>
          <p:nvGrpSpPr>
            <p:cNvPr id="330" name=""/>
            <p:cNvGrpSpPr/>
            <p:nvPr/>
          </p:nvGrpSpPr>
          <p:grpSpPr>
            <a:xfrm>
              <a:off x="914400" y="1143000"/>
              <a:ext cx="7062840" cy="4579560"/>
              <a:chOff x="914400" y="1143000"/>
              <a:chExt cx="7062840" cy="4579560"/>
            </a:xfrm>
          </p:grpSpPr>
          <p:sp>
            <p:nvSpPr>
              <p:cNvPr id="331" name=""/>
              <p:cNvSpPr/>
              <p:nvPr/>
            </p:nvSpPr>
            <p:spPr>
              <a:xfrm>
                <a:off x="4379760" y="543096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794120" y="114804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833360" y="11430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833360" y="1352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33360" y="1567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25800" y="114804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64680" y="11430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64680" y="1352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64680" y="1567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14880" y="1206720"/>
                <a:ext cx="466560" cy="755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3809520" y="1317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3809520" y="155268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809520" y="178128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30800" y="1494000"/>
                <a:ext cx="23472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93440" y="14846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676400" y="1317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676400" y="155268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676400" y="178128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94120" y="207360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833360" y="20685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33360" y="2278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33360" y="24926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25800" y="207360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64680" y="20685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64680" y="2278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64680" y="24926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214880" y="2132280"/>
                <a:ext cx="466560" cy="75564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3809520" y="2244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3809520" y="247824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809520" y="270684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30800" y="2419560"/>
                <a:ext cx="23472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93440" y="24098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4676400" y="2244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676400" y="247824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4676400" y="270684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794120" y="4618080"/>
                <a:ext cx="176400" cy="69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33360" y="4618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833360" y="48276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833360" y="50371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25800" y="4618080"/>
                <a:ext cx="176400" cy="696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964680" y="4618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4680" y="48276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64680" y="50371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214880" y="4676760"/>
                <a:ext cx="466560" cy="7606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3809520" y="47944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809520" y="50230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809520" y="52563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30800" y="4969080"/>
                <a:ext cx="23472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339440" y="4959360"/>
                <a:ext cx="204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4676400" y="47944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4676400" y="50230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4676400" y="52563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552680" y="1206720"/>
                <a:ext cx="468360" cy="9889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1147320" y="1317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1147320" y="14940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1147320" y="16700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914400" y="1148040"/>
                <a:ext cx="23328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986760" y="11430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986760" y="1352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986760" y="1567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10520" y="17766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937080" y="198612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670040" y="1611360"/>
                <a:ext cx="22860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33040" y="1602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2015640" y="1317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015640" y="14940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2015640" y="16700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>
                <a:off x="1147320" y="20736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2015640" y="20736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794120" y="300060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833360" y="29959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33360" y="32054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833360" y="34196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925800" y="3000600"/>
                <a:ext cx="176400" cy="69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64680" y="29959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964680" y="32054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64680" y="34196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14880" y="3059280"/>
                <a:ext cx="466560" cy="75420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3809520" y="31705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3809520" y="34052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3809520" y="36338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30800" y="3346560"/>
                <a:ext cx="23472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93440" y="33372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4676400" y="31705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4676400" y="34052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4676400" y="36338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30800" y="3926160"/>
                <a:ext cx="209520" cy="55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4160" y="3926160"/>
                <a:ext cx="81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94160" y="4203720"/>
                <a:ext cx="813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52680" y="2824200"/>
                <a:ext cx="468360" cy="989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1147320" y="29419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1147320" y="3111480"/>
                <a:ext cx="405000" cy="5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1147320" y="32878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914400" y="2765520"/>
                <a:ext cx="23328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986760" y="27655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986760" y="29750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86760" y="31845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10520" y="33940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37080" y="360396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70040" y="3229200"/>
                <a:ext cx="22860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733040" y="3224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2015640" y="29419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2015640" y="3111480"/>
                <a:ext cx="405000" cy="5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2015640" y="32878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1147320" y="369252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2015640" y="369252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52680" y="4389480"/>
                <a:ext cx="468360" cy="989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1147320" y="4500720"/>
                <a:ext cx="405000" cy="4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>
                <a:off x="1147320" y="467676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1147320" y="48517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14400" y="4330800"/>
                <a:ext cx="23328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86760" y="43261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86760" y="45403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86760" y="4749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010520" y="495936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37080" y="516888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70040" y="4794480"/>
                <a:ext cx="22860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33040" y="478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015640" y="4500720"/>
                <a:ext cx="405000" cy="4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2015640" y="467676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2015640" y="48517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147320" y="52563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2015640" y="52563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362320" y="5256360"/>
                <a:ext cx="1622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421000" y="1317960"/>
                <a:ext cx="1622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21000" y="1494000"/>
                <a:ext cx="1388880" cy="750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21000" y="1670040"/>
                <a:ext cx="1388880" cy="1500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21000" y="2073600"/>
                <a:ext cx="1388880" cy="2720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2421000" y="1552320"/>
                <a:ext cx="1388880" cy="1389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2421000" y="2477880"/>
                <a:ext cx="1388880" cy="63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21000" y="3287880"/>
                <a:ext cx="1388880" cy="117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21000" y="3692520"/>
                <a:ext cx="1388880" cy="1330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2421000" y="1781280"/>
                <a:ext cx="1388880" cy="2719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421000" y="2706840"/>
                <a:ext cx="1388880" cy="1969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2421000" y="3633480"/>
                <a:ext cx="1388880" cy="1217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6470280" y="13179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6470280" y="14940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6470280" y="167004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880320" y="1206720"/>
                <a:ext cx="468360" cy="98892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748640" y="1148040"/>
                <a:ext cx="22860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15960" y="114300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815960" y="13528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815960" y="156708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40080" y="177660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66640" y="198612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993000" y="1611360"/>
                <a:ext cx="23328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060680" y="16020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7338960" y="131796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338960" y="149400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7338960" y="1670040"/>
                <a:ext cx="4096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6470280" y="207360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7338960" y="207360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470280" y="29419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470280" y="3111480"/>
                <a:ext cx="405000" cy="5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6470280" y="328788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880320" y="2824200"/>
                <a:ext cx="468360" cy="989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748640" y="2765520"/>
                <a:ext cx="22860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815960" y="27655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15960" y="29750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15960" y="318456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840080" y="339408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766640" y="360396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993000" y="3229200"/>
                <a:ext cx="233280" cy="29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060680" y="32245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7338960" y="294192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7338960" y="3111480"/>
                <a:ext cx="409680" cy="50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7338960" y="328788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6470280" y="369252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7338960" y="3692520"/>
                <a:ext cx="4096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880320" y="4389480"/>
                <a:ext cx="468360" cy="989280"/>
              </a:xfrm>
              <a:prstGeom prst="rect">
                <a:avLst/>
              </a:prstGeom>
              <a:solidFill>
                <a:srgbClr val="ffffff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6470280" y="4500720"/>
                <a:ext cx="405000" cy="4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470280" y="4676760"/>
                <a:ext cx="4050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470280" y="485172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748640" y="4330800"/>
                <a:ext cx="228600" cy="98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815960" y="43261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815960" y="454032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15960" y="4749840"/>
                <a:ext cx="968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840080" y="4959360"/>
                <a:ext cx="54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: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766640" y="5168880"/>
                <a:ext cx="192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3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93000" y="4794480"/>
                <a:ext cx="233280" cy="28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060680" y="47833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7338960" y="4500720"/>
                <a:ext cx="409680" cy="4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38960" y="4676760"/>
                <a:ext cx="40968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7338960" y="485172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6470280" y="5256360"/>
                <a:ext cx="4050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7338960" y="5256360"/>
                <a:ext cx="4096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70520" y="1317960"/>
                <a:ext cx="161748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22720" y="5256360"/>
                <a:ext cx="16243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081760" y="1552680"/>
                <a:ext cx="1388880" cy="1389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081760" y="1781280"/>
                <a:ext cx="1388880" cy="2719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5081760" y="1494000"/>
                <a:ext cx="1388880" cy="750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5081760" y="1670040"/>
                <a:ext cx="1388880" cy="15004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081760" y="2478240"/>
                <a:ext cx="1388880" cy="63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081760" y="2706840"/>
                <a:ext cx="1388880" cy="1969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5081760" y="3287880"/>
                <a:ext cx="1388880" cy="1173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081760" y="2073600"/>
                <a:ext cx="1388880" cy="2720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5081760" y="3692520"/>
                <a:ext cx="1388880" cy="1330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1760" y="3633840"/>
                <a:ext cx="1388880" cy="1217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616040" y="5432760"/>
                <a:ext cx="341280" cy="223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707840" y="54277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934320" y="5432760"/>
                <a:ext cx="34596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030800" y="543276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1067040" y="56386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º Está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61280" y="56386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º Está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75880" y="56386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º Estág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1A57D-A62C-49A7-8B5A-62584867A84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81080" y="31104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TRIZ DE 03 ESTÁGIO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00200" y="4952880"/>
            <a:ext cx="6095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de se  interligar com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ravés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mi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38080" y="1162080"/>
            <a:ext cx="7315200" cy="3638520"/>
            <a:chOff x="838080" y="1162080"/>
            <a:chExt cx="7315200" cy="3638520"/>
          </a:xfrm>
        </p:grpSpPr>
        <p:sp>
          <p:nvSpPr>
            <p:cNvPr id="539" name=""/>
            <p:cNvSpPr/>
            <p:nvPr/>
          </p:nvSpPr>
          <p:spPr>
            <a:xfrm>
              <a:off x="2914560" y="2838600"/>
              <a:ext cx="1133640" cy="925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57560" y="346392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57560" y="24004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57560" y="138924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192400" y="24004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08200" y="2509920"/>
              <a:ext cx="496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1735200" y="2638440"/>
              <a:ext cx="457200" cy="6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03520" y="2833560"/>
              <a:ext cx="488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49560" y="3452760"/>
              <a:ext cx="74592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1689120" y="3565080"/>
              <a:ext cx="4744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703520" y="3652560"/>
              <a:ext cx="44604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60680" y="3886200"/>
              <a:ext cx="48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91040" y="2400480"/>
              <a:ext cx="74484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45240" y="2438280"/>
              <a:ext cx="43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45240" y="2657520"/>
              <a:ext cx="446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45240" y="2828880"/>
              <a:ext cx="460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05440" y="346392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59640" y="3540240"/>
              <a:ext cx="4316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659640" y="3720960"/>
              <a:ext cx="4460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659640" y="3892680"/>
              <a:ext cx="46044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91040" y="1389240"/>
              <a:ext cx="74484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45240" y="1465200"/>
              <a:ext cx="433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45240" y="1600200"/>
              <a:ext cx="44604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645240" y="1817640"/>
              <a:ext cx="4604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58920" y="1389240"/>
              <a:ext cx="7462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754280" y="1494000"/>
              <a:ext cx="419040" cy="9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1703520" y="1599840"/>
              <a:ext cx="45540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70040" y="1822320"/>
              <a:ext cx="4888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17800" y="1506600"/>
              <a:ext cx="1130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16440" y="1494000"/>
              <a:ext cx="10479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17800" y="1666800"/>
              <a:ext cx="1130400" cy="843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16440" y="1655640"/>
              <a:ext cx="1060560" cy="87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17800" y="1859040"/>
              <a:ext cx="1130400" cy="174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2946240" y="1631880"/>
              <a:ext cx="1101960" cy="889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46240" y="2679840"/>
              <a:ext cx="11019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905200" y="1827360"/>
              <a:ext cx="1143000" cy="170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905200" y="2806560"/>
              <a:ext cx="1143000" cy="9352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889360" y="3922560"/>
              <a:ext cx="1163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16440" y="1847880"/>
              <a:ext cx="1074600" cy="172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816440" y="1643040"/>
              <a:ext cx="1047960" cy="84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16440" y="2679840"/>
              <a:ext cx="1047960" cy="28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16440" y="2840040"/>
              <a:ext cx="1074600" cy="890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816440" y="1815840"/>
              <a:ext cx="1060560" cy="1741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802040" y="2806560"/>
              <a:ext cx="1062360" cy="966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816440" y="3922560"/>
              <a:ext cx="10605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24240" y="146988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37560" y="1476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24240" y="2479680"/>
              <a:ext cx="2314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69600" y="2487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378160" y="3530520"/>
              <a:ext cx="24588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28200" y="35402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22880" y="146988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36200" y="1476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89400" y="2479680"/>
              <a:ext cx="233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336200" y="2487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317840" y="3541680"/>
              <a:ext cx="19548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56000" y="355140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57800" y="146988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0040" y="1476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122880" y="2479680"/>
              <a:ext cx="23364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170040" y="24876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0760" y="3541680"/>
              <a:ext cx="17280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220800" y="355140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07960" y="1332000"/>
              <a:ext cx="169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23800" y="1338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86000" y="1631880"/>
              <a:ext cx="24264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436040" y="16383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79600" y="2324160"/>
              <a:ext cx="1681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493640" y="2332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407960" y="2654280"/>
              <a:ext cx="1987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52240" y="26622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95360" y="3360600"/>
              <a:ext cx="16668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07600" y="3367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82760" y="3759120"/>
              <a:ext cx="1951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423800" y="3767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46240" y="1184400"/>
              <a:ext cx="1666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58840" y="134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05200" y="1905120"/>
              <a:ext cx="7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38680" y="1162080"/>
              <a:ext cx="16668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28680" y="1341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05000" y="1922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56240" y="1184400"/>
              <a:ext cx="1666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4640" y="12952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789520" y="1916280"/>
              <a:ext cx="1634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20840" y="192240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84840" y="1162080"/>
              <a:ext cx="1699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833720" y="1317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76760" y="1905120"/>
              <a:ext cx="139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92320" y="191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60560" y="3076560"/>
              <a:ext cx="16848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76040" y="32259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82960" y="3940200"/>
              <a:ext cx="16200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909160" y="391176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50000" y="3098880"/>
              <a:ext cx="16668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22640" y="3268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78640" y="3998880"/>
              <a:ext cx="1616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95280" y="3919680"/>
              <a:ext cx="6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75520" y="1251000"/>
              <a:ext cx="1681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89560" y="12603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1120" y="1697040"/>
              <a:ext cx="2667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02520" y="17035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57960" y="2290680"/>
              <a:ext cx="16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72000" y="2297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216920" y="2755800"/>
              <a:ext cx="264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257960" y="27655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7960" y="3325680"/>
              <a:ext cx="1699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72000" y="33336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45360" y="3772080"/>
              <a:ext cx="2649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284960" y="377820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8080" y="2452680"/>
              <a:ext cx="31140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93880" y="24591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785000" y="2373480"/>
              <a:ext cx="36828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831080" y="23796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143000" y="1523880"/>
              <a:ext cx="177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370280" y="254160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84320" y="4449600"/>
              <a:ext cx="689616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44840" y="3005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54640" y="3005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75520" y="3005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80720" y="419112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º Est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9520" y="419112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º Est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866920" y="4191120"/>
              <a:ext cx="1215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º Estág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62160" y="2232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820760" y="282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04920" y="3308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839840" y="3902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230E-C9A9-450E-83BD-1859A4FF4AF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980720" y="256680"/>
            <a:ext cx="7162920" cy="5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ERCÍCIO: MATRIZ DE COMUTAÇÃO DE 3 ESTÁGIOS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4880" y="1260360"/>
            <a:ext cx="86058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uma central de comutação utilizando uma matriz de comutação de 3 estágios. A central possui 9 enlaces de entrada e 9 enlaces de saída.Todos os três estágios têm o mesmo número de matrizes básicas e é igual a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) Desenhe uma estrutura de conexão para essa matriz, especificando os números de entradas e de saídas para cada matriz bás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) Estudar uma situação de bloqueio interno. (Uma situação de bloqueio interno é quando por ex., uma entrada X e uma saída Y estão livres, mas não podem fazer uma conexão por falta de um caminho inter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) Determine o número de pontos de cruzamento no caso anteri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F25C-5353-488C-9EAE-FAFAC3D538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8200" y="222120"/>
            <a:ext cx="55386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IPOS DE COMUTADORE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5560" y="1277640"/>
            <a:ext cx="8530920" cy="49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UTADORES DE CIRC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TAÇÃO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TAÇÃO TEMPO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UTADORES DE PAC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6A826-EC7E-473F-81AD-CDF19671DA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49120" y="274680"/>
            <a:ext cx="5356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OLUÇÃ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E603-6939-43E7-8341-F9B6931753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109600" y="171360"/>
            <a:ext cx="70340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TRIZ DE 3 ESTÁGIOS: CONDIÇÃO DE NÃO BLOQUEIO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960" y="1066680"/>
            <a:ext cx="754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 é o número de matrizes básicas no 2o estágio para não haver bloque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624120" y="2739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40320" y="2739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35480" y="272880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29080" y="476712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19000" y="22240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99280" y="34275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893880" y="1994040"/>
            <a:ext cx="7315200" cy="3112920"/>
            <a:chOff x="893880" y="1994040"/>
            <a:chExt cx="7315200" cy="3112920"/>
          </a:xfrm>
        </p:grpSpPr>
        <p:sp>
          <p:nvSpPr>
            <p:cNvPr id="677" name=""/>
            <p:cNvSpPr/>
            <p:nvPr/>
          </p:nvSpPr>
          <p:spPr>
            <a:xfrm>
              <a:off x="4113360" y="42958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13360" y="32320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13360" y="222084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247840" y="3232080"/>
              <a:ext cx="74484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764000" y="3341520"/>
              <a:ext cx="4968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790640" y="3470040"/>
              <a:ext cx="457200" cy="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58960" y="3665520"/>
              <a:ext cx="48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5000" y="4284720"/>
              <a:ext cx="7462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1744920" y="4397040"/>
              <a:ext cx="47448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1758960" y="4522680"/>
              <a:ext cx="446040" cy="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716120" y="4718160"/>
              <a:ext cx="48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46840" y="32320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01040" y="3308400"/>
              <a:ext cx="433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701040" y="3489480"/>
              <a:ext cx="446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701040" y="366084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961240" y="429588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15080" y="4371840"/>
              <a:ext cx="432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715080" y="4552920"/>
              <a:ext cx="4464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715080" y="4724280"/>
              <a:ext cx="46044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46840" y="2220840"/>
              <a:ext cx="74448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01040" y="2297160"/>
              <a:ext cx="433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01040" y="2479680"/>
              <a:ext cx="44604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1040" y="2649600"/>
              <a:ext cx="4604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14720" y="2220840"/>
              <a:ext cx="745920" cy="50472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09720" y="2325600"/>
              <a:ext cx="4194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758960" y="2458800"/>
              <a:ext cx="455760" cy="4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25840" y="2654280"/>
              <a:ext cx="488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73600" y="2338200"/>
              <a:ext cx="11300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72240" y="2325600"/>
              <a:ext cx="10476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973600" y="2498760"/>
              <a:ext cx="1130040" cy="842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872240" y="2487600"/>
              <a:ext cx="1060200" cy="878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973600" y="2690640"/>
              <a:ext cx="1130040" cy="174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002040" y="2463480"/>
              <a:ext cx="1101600" cy="88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02040" y="3511440"/>
              <a:ext cx="11016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14640" y="3672000"/>
              <a:ext cx="1089000" cy="92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2960640" y="2658600"/>
              <a:ext cx="1143000" cy="1708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2960640" y="3638160"/>
              <a:ext cx="1143000" cy="934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73600" y="4754520"/>
              <a:ext cx="1116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2240" y="2679840"/>
              <a:ext cx="1074600" cy="1720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4872240" y="2475000"/>
              <a:ext cx="1047600" cy="844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872240" y="3511440"/>
              <a:ext cx="1047600" cy="3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872240" y="3672000"/>
              <a:ext cx="1074600" cy="890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4872240" y="2647800"/>
              <a:ext cx="1060200" cy="174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857840" y="3638520"/>
              <a:ext cx="1062000" cy="966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72240" y="4754520"/>
              <a:ext cx="1060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479680" y="230184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93360" y="2308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79680" y="3311640"/>
              <a:ext cx="23184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25040" y="3319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3600" y="4362480"/>
              <a:ext cx="24624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84000" y="437184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/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78320" y="230184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92000" y="2308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45200" y="3311640"/>
              <a:ext cx="233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392000" y="3319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73640" y="4373640"/>
              <a:ext cx="19548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11080" y="438300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13600" y="2301840"/>
              <a:ext cx="204840" cy="34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225480" y="2308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78680" y="3311640"/>
              <a:ext cx="233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25480" y="331956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226200" y="4373640"/>
              <a:ext cx="17316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76240" y="438300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/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63760" y="2163600"/>
              <a:ext cx="1699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479240" y="217008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441440" y="2463840"/>
              <a:ext cx="24300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491480" y="247032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400" y="3156120"/>
              <a:ext cx="1681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49080" y="3164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63760" y="3486240"/>
              <a:ext cx="19836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08040" y="3494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51160" y="4192560"/>
              <a:ext cx="16668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3400" y="41990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38560" y="4591080"/>
              <a:ext cx="1951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479240" y="45990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2040" y="2016000"/>
              <a:ext cx="166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14280" y="202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25720" y="2835360"/>
              <a:ext cx="16380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60280" y="28447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894120" y="1994040"/>
              <a:ext cx="16668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908160" y="200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019760" y="2803680"/>
              <a:ext cx="20160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612040" y="2016000"/>
              <a:ext cx="166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24280" y="20239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845320" y="2803680"/>
              <a:ext cx="1634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40280" y="1994040"/>
              <a:ext cx="1699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5760" y="200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732560" y="2792520"/>
              <a:ext cx="1396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16360" y="3908520"/>
              <a:ext cx="1681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31840" y="391464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038760" y="4772160"/>
              <a:ext cx="16164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70080" y="47815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05440" y="3930480"/>
              <a:ext cx="16704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16240" y="39384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34080" y="4830840"/>
              <a:ext cx="16200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31320" y="2082960"/>
              <a:ext cx="168120" cy="27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45000" y="20923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216920" y="2529000"/>
              <a:ext cx="2667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57960" y="2535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313760" y="3122640"/>
              <a:ext cx="1699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27800" y="3129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72360" y="3587760"/>
              <a:ext cx="2653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313400" y="359712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13760" y="4157640"/>
              <a:ext cx="169920" cy="2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27800" y="41655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301160" y="4603680"/>
              <a:ext cx="26496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340400" y="461016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93880" y="3284640"/>
              <a:ext cx="31104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949320" y="32907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840800" y="3205080"/>
              <a:ext cx="368280" cy="35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886880" y="3211560"/>
              <a:ext cx="13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204920" y="2284560"/>
              <a:ext cx="24300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585200" y="3489480"/>
              <a:ext cx="243000" cy="35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600280" y="38368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0080" y="38368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330960" y="38368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857160" y="5095800"/>
            <a:ext cx="7587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ndição de não bloqueio em uma matriz de 3 estágios f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icialmente publicada por Clos em 19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4DF3-D56A-43FE-AAA3-1A17647D4F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120760" y="293400"/>
            <a:ext cx="647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DIÇÃO DE NÃO BLOQUEI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98560" y="1251000"/>
            <a:ext cx="80978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los analisou a situação de pior ca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ha que a entrada x queira se interligar com  a saída y.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ior caso as (n-1) entradas do 1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gio poderão estar ocupad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m conversação), necessitando, portanto (n-1) matrizes 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gio. Por outro lado, as (n-1) saídas do 3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gio pod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ão estar ocupadas, necessitando também (n-1) matrizes bá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se modo, para não haver bloqu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(n-1) +(n-1) +1 = 2n-1 matrizes básicas no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stá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2n 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95800" y="5635800"/>
            <a:ext cx="1714320" cy="419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57B02-FF16-4018-A504-9105731422F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4771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úmero de Pontos de Cruzamentos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94600" y="1584360"/>
            <a:ext cx="3211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em bloque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Para um está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038480" y="2590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4724280" y="2362320"/>
                <a:ext cx="1675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1732680" y="3413160"/>
            <a:ext cx="263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Para três estág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1530360" y="4487760"/>
                <a:ext cx="6756480" cy="230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n-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N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A1397-6EF7-468F-89D3-320F503E536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58520" y="285480"/>
            <a:ext cx="5899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EMPL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ja uma central de comutação que utiliza uma matriz de comutação de 3 estágios, sem bloqueio, com 32 enlaces de entrada e 32 enlaces de saída (32X32). Estudar as situações (pontos de cruzamento, número de matrizes,...) se forem utilizadas matrizes básicas no primeiro (e terceiro) estágios, com 2, 4, 8 e 16 entradas (saí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685800" y="2895480"/>
            <a:ext cx="7772400" cy="2590920"/>
            <a:chOff x="685800" y="2895480"/>
            <a:chExt cx="7772400" cy="2590920"/>
          </a:xfrm>
        </p:grpSpPr>
        <p:sp>
          <p:nvSpPr>
            <p:cNvPr id="806" name=""/>
            <p:cNvSpPr/>
            <p:nvPr/>
          </p:nvSpPr>
          <p:spPr>
            <a:xfrm>
              <a:off x="685800" y="3581280"/>
              <a:ext cx="116532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5800" y="3962520"/>
              <a:ext cx="116532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5800" y="4343400"/>
              <a:ext cx="116532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5800" y="4724280"/>
              <a:ext cx="116532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5105520"/>
              <a:ext cx="116532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685800" y="2895480"/>
              <a:ext cx="7772400" cy="685800"/>
              <a:chOff x="685800" y="2895480"/>
              <a:chExt cx="7772400" cy="685800"/>
            </a:xfrm>
          </p:grpSpPr>
          <p:sp>
            <p:nvSpPr>
              <p:cNvPr id="812" name=""/>
              <p:cNvSpPr/>
              <p:nvPr/>
            </p:nvSpPr>
            <p:spPr>
              <a:xfrm>
                <a:off x="6705720" y="3200400"/>
                <a:ext cx="762120" cy="380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d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467840" y="3200400"/>
                <a:ext cx="990360" cy="3808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85800" y="2895480"/>
                <a:ext cx="3048120" cy="30492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imeiro Estág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3920" y="2895480"/>
                <a:ext cx="1905120" cy="30492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gundo Estág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639040" y="2895480"/>
                <a:ext cx="1828800" cy="3049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rceiro Estági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85800" y="3200400"/>
                <a:ext cx="116532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tradas (n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51120" y="3200400"/>
                <a:ext cx="116532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• Matriz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16440" y="3200400"/>
                <a:ext cx="717480" cy="38088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d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33920" y="3200400"/>
                <a:ext cx="117936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• Matriz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913280" y="3200400"/>
                <a:ext cx="72576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Orde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39040" y="3200400"/>
                <a:ext cx="1066680" cy="380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• Matriz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6705720" y="3581280"/>
              <a:ext cx="761760" cy="38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467480" y="3581280"/>
              <a:ext cx="990720" cy="3812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9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51120" y="3581280"/>
              <a:ext cx="1164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016080" y="3581280"/>
              <a:ext cx="7178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733920" y="3581280"/>
              <a:ext cx="117936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13280" y="3581280"/>
              <a:ext cx="7254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X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38680" y="3581280"/>
              <a:ext cx="1067040" cy="38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05720" y="3962520"/>
              <a:ext cx="76176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X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67480" y="3962520"/>
              <a:ext cx="99072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9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51120" y="3962520"/>
              <a:ext cx="1164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16080" y="3962520"/>
              <a:ext cx="7178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X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733920" y="3962520"/>
              <a:ext cx="11793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13280" y="3962520"/>
              <a:ext cx="725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X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638680" y="3962520"/>
              <a:ext cx="106704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705720" y="4343400"/>
              <a:ext cx="76176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X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67480" y="4343400"/>
              <a:ext cx="990720" cy="3808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51120" y="4343400"/>
              <a:ext cx="1164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016080" y="4343400"/>
              <a:ext cx="7178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X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33920" y="4343400"/>
              <a:ext cx="117936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913280" y="4343400"/>
              <a:ext cx="725400" cy="380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X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38680" y="4343400"/>
              <a:ext cx="1067040" cy="380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05720" y="4724280"/>
              <a:ext cx="761760" cy="38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X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67480" y="4724280"/>
              <a:ext cx="990720" cy="3812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1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51120" y="4724280"/>
              <a:ext cx="1164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016080" y="4724280"/>
              <a:ext cx="71784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X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33920" y="4724280"/>
              <a:ext cx="117936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13280" y="4724280"/>
              <a:ext cx="725400" cy="3812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638680" y="4724280"/>
              <a:ext cx="1067040" cy="38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"/>
            <p:cNvGrpSpPr/>
            <p:nvPr/>
          </p:nvGrpSpPr>
          <p:grpSpPr>
            <a:xfrm>
              <a:off x="1851120" y="5105520"/>
              <a:ext cx="6607080" cy="380880"/>
              <a:chOff x="1851120" y="5105520"/>
              <a:chExt cx="6607080" cy="380880"/>
            </a:xfrm>
          </p:grpSpPr>
          <p:sp>
            <p:nvSpPr>
              <p:cNvPr id="852" name=""/>
              <p:cNvSpPr/>
              <p:nvPr/>
            </p:nvSpPr>
            <p:spPr>
              <a:xfrm>
                <a:off x="1851120" y="5105520"/>
                <a:ext cx="11653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016440" y="5105520"/>
                <a:ext cx="7174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2X3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733920" y="5105520"/>
                <a:ext cx="117936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x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913280" y="5105520"/>
                <a:ext cx="72576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x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639040" y="5105520"/>
                <a:ext cx="106668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705720" y="5105520"/>
                <a:ext cx="76212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xxx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467840" y="5105520"/>
                <a:ext cx="990360" cy="38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2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A54FB-095B-499F-B12A-604ABF88C8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78080" y="222120"/>
            <a:ext cx="68659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UTAÇÃO DE CIRCUITO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5560" y="1133640"/>
            <a:ext cx="853092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caminho estabelecido entre dois pontos  durante uma chamada permanece dedicado ao transporte das informações até o final da 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quada para tráfego contínuo e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resenta retardo de transferência 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0BBAD-CEC1-4FAB-BC19-306BACDFA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19200" y="222120"/>
            <a:ext cx="672480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UTAÇÃO DE CIRCUIT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62000" y="1892160"/>
          <a:ext cx="7300800" cy="35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892160"/>
                    <a:ext cx="7300800" cy="35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E5B42-5A91-4B79-A674-65AD05C1BB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47840" y="231840"/>
            <a:ext cx="689616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ases da Comutação de Circuito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13184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elecimento do Circ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ência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onex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2271600"/>
            <a:ext cx="563868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A519-7A7B-4CC2-B93A-9DEDB9AB28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6640" y="280800"/>
            <a:ext cx="662940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OMUTAÇÃO ESPACIAL E TEMPORAL</a:t>
            </a:r>
            <a:endParaRPr b="0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1520" y="2354400"/>
            <a:ext cx="3370680" cy="2590560"/>
            <a:chOff x="461520" y="2354400"/>
            <a:chExt cx="3370680" cy="2590560"/>
          </a:xfrm>
        </p:grpSpPr>
        <p:grpSp>
          <p:nvGrpSpPr>
            <p:cNvPr id="57" name=""/>
            <p:cNvGrpSpPr/>
            <p:nvPr/>
          </p:nvGrpSpPr>
          <p:grpSpPr>
            <a:xfrm>
              <a:off x="461520" y="2354400"/>
              <a:ext cx="3370680" cy="2590560"/>
              <a:chOff x="461520" y="2354400"/>
              <a:chExt cx="3370680" cy="259056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360440" y="2354400"/>
                <a:ext cx="1573200" cy="2590560"/>
                <a:chOff x="1360440" y="2354400"/>
                <a:chExt cx="1573200" cy="259056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84720" y="2354400"/>
                  <a:ext cx="1124280" cy="25905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360440" y="2642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360440" y="3218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360440" y="37936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60440" y="43682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707920" y="2642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707920" y="3218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707920" y="37936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707920" y="43682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584720" y="451260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2483280" y="451260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2483280" y="393696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584720" y="393696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84720" y="336240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483280" y="336240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584720" y="278676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2483280" y="2786760"/>
                  <a:ext cx="225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497880" y="2458080"/>
                <a:ext cx="763200" cy="287640"/>
                <a:chOff x="497880" y="2458080"/>
                <a:chExt cx="763200" cy="2876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66440" y="24580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035000" y="2458080"/>
                  <a:ext cx="22608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97880" y="24580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497880" y="3029040"/>
                <a:ext cx="762480" cy="287640"/>
                <a:chOff x="497880" y="3029040"/>
                <a:chExt cx="762480" cy="2876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66440" y="3029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035360" y="3029040"/>
                  <a:ext cx="22500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97880" y="3029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97880" y="3602520"/>
                <a:ext cx="762480" cy="287640"/>
                <a:chOff x="497880" y="3602520"/>
                <a:chExt cx="762480" cy="2876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66440" y="360252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035360" y="3602520"/>
                  <a:ext cx="22500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97880" y="360252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97880" y="4174560"/>
                <a:ext cx="762480" cy="287640"/>
                <a:chOff x="497880" y="4174560"/>
                <a:chExt cx="762480" cy="287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766440" y="417456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035360" y="4174560"/>
                  <a:ext cx="22500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97880" y="417456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002040" y="2458080"/>
                <a:ext cx="762840" cy="287640"/>
                <a:chOff x="3002040" y="2458080"/>
                <a:chExt cx="762840" cy="28764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270240" y="24580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39160" y="245808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002040" y="2458080"/>
                  <a:ext cx="22536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002040" y="3029040"/>
                <a:ext cx="762840" cy="287640"/>
                <a:chOff x="3002040" y="3029040"/>
                <a:chExt cx="762840" cy="287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270240" y="3029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39160" y="302904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002040" y="3029040"/>
                  <a:ext cx="22536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002040" y="4174560"/>
                <a:ext cx="762840" cy="287640"/>
                <a:chOff x="3002040" y="4174560"/>
                <a:chExt cx="762840" cy="28764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270240" y="417456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539160" y="417456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02040" y="4174560"/>
                  <a:ext cx="22536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002040" y="3602520"/>
                <a:ext cx="762840" cy="287640"/>
                <a:chOff x="3002040" y="3602520"/>
                <a:chExt cx="762840" cy="287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270240" y="360252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539160" y="3602520"/>
                  <a:ext cx="22572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02040" y="3602520"/>
                  <a:ext cx="225360" cy="287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600" rIns="12600" tIns="12600" bIns="12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 flipH="1">
                <a:off x="461520" y="2786760"/>
                <a:ext cx="899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61880" y="336240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61880" y="393696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461880" y="451260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932920" y="278676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932920" y="393696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932920" y="336240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932920" y="4512600"/>
                <a:ext cx="8992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1798200" y="2772720"/>
              <a:ext cx="686160" cy="174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6680" y="2786760"/>
              <a:ext cx="691920" cy="11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8200" y="3357720"/>
              <a:ext cx="686160" cy="115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798200" y="3364200"/>
              <a:ext cx="680400" cy="5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5440" y="2867040"/>
            <a:ext cx="314280" cy="479520"/>
            <a:chOff x="5275440" y="2867040"/>
            <a:chExt cx="314280" cy="479520"/>
          </a:xfrm>
        </p:grpSpPr>
        <p:sp>
          <p:nvSpPr>
            <p:cNvPr id="121" name=""/>
            <p:cNvSpPr/>
            <p:nvPr/>
          </p:nvSpPr>
          <p:spPr>
            <a:xfrm>
              <a:off x="5275440" y="2867040"/>
              <a:ext cx="314280" cy="479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0520" y="2948760"/>
              <a:ext cx="22500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911920" y="2349360"/>
            <a:ext cx="1173240" cy="25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75280" y="3384720"/>
            <a:ext cx="1525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78640" y="3259080"/>
            <a:ext cx="23652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85160" y="3259080"/>
            <a:ext cx="234720" cy="281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19760" y="2984400"/>
            <a:ext cx="27468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133880" y="2900520"/>
            <a:ext cx="353880" cy="409320"/>
            <a:chOff x="4133880" y="2900520"/>
            <a:chExt cx="353880" cy="409320"/>
          </a:xfrm>
        </p:grpSpPr>
        <p:sp>
          <p:nvSpPr>
            <p:cNvPr id="129" name=""/>
            <p:cNvSpPr/>
            <p:nvPr/>
          </p:nvSpPr>
          <p:spPr>
            <a:xfrm>
              <a:off x="4207320" y="3009600"/>
              <a:ext cx="236160" cy="28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133880" y="2900520"/>
              <a:ext cx="353880" cy="409320"/>
              <a:chOff x="4133880" y="2900520"/>
              <a:chExt cx="353880" cy="40932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6120" y="3308760"/>
                <a:ext cx="341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133880" y="2900520"/>
                <a:ext cx="178560" cy="40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12440" y="2919960"/>
                <a:ext cx="167400" cy="38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" name=""/>
          <p:cNvGrpSpPr/>
          <p:nvPr/>
        </p:nvGrpSpPr>
        <p:grpSpPr>
          <a:xfrm>
            <a:off x="4464000" y="2933640"/>
            <a:ext cx="354240" cy="409320"/>
            <a:chOff x="4464000" y="2933640"/>
            <a:chExt cx="354240" cy="409320"/>
          </a:xfrm>
        </p:grpSpPr>
        <p:sp>
          <p:nvSpPr>
            <p:cNvPr id="135" name=""/>
            <p:cNvSpPr/>
            <p:nvPr/>
          </p:nvSpPr>
          <p:spPr>
            <a:xfrm>
              <a:off x="4578480" y="2962080"/>
              <a:ext cx="196560" cy="27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64000" y="2933640"/>
              <a:ext cx="354240" cy="409320"/>
              <a:chOff x="4464000" y="2933640"/>
              <a:chExt cx="354240" cy="409320"/>
            </a:xfrm>
          </p:grpSpPr>
          <p:sp>
            <p:nvSpPr>
              <p:cNvPr id="137" name=""/>
              <p:cNvSpPr/>
              <p:nvPr/>
            </p:nvSpPr>
            <p:spPr>
              <a:xfrm>
                <a:off x="4476240" y="2933640"/>
                <a:ext cx="342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64000" y="2933640"/>
                <a:ext cx="179280" cy="40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4643280" y="2933640"/>
                <a:ext cx="167400" cy="39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" name=""/>
          <p:cNvSpPr/>
          <p:nvPr/>
        </p:nvSpPr>
        <p:spPr>
          <a:xfrm>
            <a:off x="1965240" y="5010120"/>
            <a:ext cx="3873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9960" y="4943520"/>
            <a:ext cx="38736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395520"/>
            <a:ext cx="152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096400" y="2889360"/>
            <a:ext cx="314280" cy="479160"/>
            <a:chOff x="8096400" y="2889360"/>
            <a:chExt cx="314280" cy="479160"/>
          </a:xfrm>
        </p:grpSpPr>
        <p:sp>
          <p:nvSpPr>
            <p:cNvPr id="144" name=""/>
            <p:cNvSpPr/>
            <p:nvPr/>
          </p:nvSpPr>
          <p:spPr>
            <a:xfrm>
              <a:off x="8096400" y="2889360"/>
              <a:ext cx="314280" cy="47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51480" y="2971080"/>
              <a:ext cx="225000" cy="30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397640" y="3041640"/>
            <a:ext cx="274680" cy="3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7707240" y="2927520"/>
            <a:ext cx="354240" cy="409320"/>
            <a:chOff x="7707240" y="2927520"/>
            <a:chExt cx="354240" cy="409320"/>
          </a:xfrm>
        </p:grpSpPr>
        <p:sp>
          <p:nvSpPr>
            <p:cNvPr id="148" name=""/>
            <p:cNvSpPr/>
            <p:nvPr/>
          </p:nvSpPr>
          <p:spPr>
            <a:xfrm>
              <a:off x="7780680" y="3036600"/>
              <a:ext cx="236520" cy="28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707240" y="2927520"/>
              <a:ext cx="354240" cy="409320"/>
              <a:chOff x="7707240" y="2927520"/>
              <a:chExt cx="354240" cy="409320"/>
            </a:xfrm>
          </p:grpSpPr>
          <p:sp>
            <p:nvSpPr>
              <p:cNvPr id="150" name=""/>
              <p:cNvSpPr/>
              <p:nvPr/>
            </p:nvSpPr>
            <p:spPr>
              <a:xfrm>
                <a:off x="7719480" y="3335760"/>
                <a:ext cx="34200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7707240" y="2927520"/>
                <a:ext cx="178560" cy="40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85800" y="2946960"/>
                <a:ext cx="167400" cy="38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8423280" y="2944800"/>
            <a:ext cx="353880" cy="409320"/>
            <a:chOff x="8423280" y="2944800"/>
            <a:chExt cx="353880" cy="409320"/>
          </a:xfrm>
        </p:grpSpPr>
        <p:sp>
          <p:nvSpPr>
            <p:cNvPr id="154" name=""/>
            <p:cNvSpPr/>
            <p:nvPr/>
          </p:nvSpPr>
          <p:spPr>
            <a:xfrm>
              <a:off x="8537400" y="2973240"/>
              <a:ext cx="196200" cy="27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8423280" y="2944800"/>
              <a:ext cx="353880" cy="409320"/>
              <a:chOff x="8423280" y="2944800"/>
              <a:chExt cx="353880" cy="409320"/>
            </a:xfrm>
          </p:grpSpPr>
          <p:sp>
            <p:nvSpPr>
              <p:cNvPr id="156" name=""/>
              <p:cNvSpPr/>
              <p:nvPr/>
            </p:nvSpPr>
            <p:spPr>
              <a:xfrm>
                <a:off x="8435520" y="2944800"/>
                <a:ext cx="341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23280" y="2944800"/>
                <a:ext cx="178920" cy="40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8602200" y="2944800"/>
                <a:ext cx="167400" cy="39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B5C0-EB45-4C99-B146-0E9F71305E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68640" y="222120"/>
            <a:ext cx="697536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OMUTAÇÃO DE CIRCUITO (DIGITAL OU TDM)</a:t>
            </a:r>
            <a:endParaRPr b="0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122480" y="1017720"/>
          <a:ext cx="66405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2480" y="1017720"/>
                    <a:ext cx="66405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165320" y="3013200"/>
          <a:ext cx="4189320" cy="3230280"/>
        </p:xfrm>
        <a:graphic>
          <a:graphicData uri="http://schemas.openxmlformats.org/drawingml/2006/table">
            <a:tbl>
              <a:tblPr/>
              <a:tblGrid>
                <a:gridCol w="1047600"/>
                <a:gridCol w="1047960"/>
                <a:gridCol w="1047600"/>
                <a:gridCol w="1046160"/>
              </a:tblGrid>
              <a:tr h="4374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lace de Ent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lace de Saí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rowSpan="5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rowSpan="5"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924C-1EE6-42C1-BB6B-EC72291172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80920" y="257040"/>
            <a:ext cx="5676840" cy="4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UTAÇÃO TELEFÔNIC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153800"/>
            <a:ext cx="7772400" cy="21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ENT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unção de realizar a comutação  (estabelecimento de um caminho de áudio) entre 2 terminais ou jun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utação entre termi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utação entre cent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22440" y="3583080"/>
          <a:ext cx="8294400" cy="19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3583080"/>
                    <a:ext cx="8294400" cy="19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2E91-C664-49FA-8BED-0B18CE397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85920" y="228240"/>
            <a:ext cx="64771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MUTADORES ANALÓGICOS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141720" y="3095640"/>
          <a:ext cx="30560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1720" y="3095640"/>
                    <a:ext cx="3056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7000" y="1019160"/>
            <a:ext cx="7918200" cy="20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ão baseados em Matrizes Analó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elece um caminho físico de áudio entre dois canais que se desejam comuni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tação Espa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ilizadas em CPA -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3EB17-7E74-4466-9519-5C09A0FB0A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0T19:12:02Z</dcterms:created>
  <dc:creator>Carlinhos</dc:creator>
  <dc:description/>
  <dc:language>en-US</dc:language>
  <cp:lastModifiedBy>carlos</cp:lastModifiedBy>
  <dcterms:modified xsi:type="dcterms:W3CDTF">2008-08-04T01:02:24Z</dcterms:modified>
  <cp:revision>11</cp:revision>
  <dc:subject/>
  <dc:title>CAPÍTULO II</dc:title>
</cp:coreProperties>
</file>