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BE1BC-666F-4B2A-B5F1-AE38D44637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33360" y="2430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520" y="3809880"/>
            <a:ext cx="8458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CAE9F-F037-40DE-83CB-75AEB511F5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33360" y="2430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520" y="380988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4560" y="380988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CD90D-02AC-4F82-A5E0-D15E9659EA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133360" y="2430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0360" y="114300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0560" y="114300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520" y="380988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0360" y="380988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0560" y="3809880"/>
            <a:ext cx="2723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0C71E-8231-4B53-B55D-04B86844D1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33360" y="2430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C0EEC-A327-4722-AD92-B72DC808E9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360" y="2430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128E4-37E8-43B8-874A-EB151DD129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360" y="2430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69DD8-B4B9-47BF-AA3D-785C5A5048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33360" y="2430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97A86-C5D1-4365-AE79-C9B9980691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133360" y="304920"/>
            <a:ext cx="70102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11CD5-1BFC-4492-AE5A-3169E17B61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360" y="2430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520" y="380988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7E019-5B40-423A-8C23-9A8D947051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33360" y="2430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4560" y="380988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64DAB-5C9B-46BC-B1A5-8BB1282331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33360" y="2430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4560" y="1143000"/>
            <a:ext cx="4127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520" y="3809880"/>
            <a:ext cx="84582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0C1EE-62B9-40BF-8E48-9DE1679E16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3240"/>
          <a:ext cx="9144000" cy="685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240"/>
                    <a:ext cx="9144000" cy="68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33360" y="304920"/>
            <a:ext cx="7010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30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80880" y="6324120"/>
            <a:ext cx="5486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edes Telefôn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019560" y="6324120"/>
            <a:ext cx="2819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apítulo III - Sinalização Telefônic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pg. </a:t>
            </a:r>
            <a:fld id="{6D40DB69-0C7A-48CE-B5CA-CFEE3F4AE885}" type="slidenum"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6324480"/>
            <a:ext cx="88390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APÍTULO III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INALIZAÇÃO TELEFÔNICA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os Roberto do Sa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7080" y="239400"/>
            <a:ext cx="66279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inalização E + M Pulsada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25360" y="1295280"/>
            <a:ext cx="689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Usada nos juntores a 6 ou 7 fios analógico bem como nos juntores digit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98640" y="3352680"/>
            <a:ext cx="1828800" cy="2286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05240" y="3352680"/>
            <a:ext cx="1828800" cy="2286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27440" y="3657600"/>
            <a:ext cx="147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27440" y="3733920"/>
            <a:ext cx="147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27440" y="4191120"/>
            <a:ext cx="147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27440" y="4267080"/>
            <a:ext cx="147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27440" y="4800600"/>
            <a:ext cx="147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27440" y="5334120"/>
            <a:ext cx="147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78440" y="3505320"/>
            <a:ext cx="84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078440" y="4648320"/>
            <a:ext cx="84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4078440" y="4038480"/>
            <a:ext cx="84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4078440" y="5181480"/>
            <a:ext cx="84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09960" y="2971800"/>
            <a:ext cx="16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Juntor de Saí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205240" y="2971800"/>
            <a:ext cx="197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Juntor de Entr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05160" y="35053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05160" y="403848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76440" y="4648320"/>
            <a:ext cx="63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376440" y="5181480"/>
            <a:ext cx="4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05240" y="3505320"/>
            <a:ext cx="5623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205240" y="4038480"/>
            <a:ext cx="84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49520" y="46324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19640" y="515772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D9BE4-5D1B-45E4-B82F-0D93DBE49BA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3372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inalização E + M Pulsada: Codificação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219320" y="1860480"/>
          <a:ext cx="6653160" cy="518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60480"/>
                    <a:ext cx="6653160" cy="51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1275120" y="5715000"/>
            <a:ext cx="70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urta duração (150ms ± 30 ms); Longa duração (600ms ± 120ms)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76520" y="2971800"/>
            <a:ext cx="5790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00200" y="373392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79210-9AFA-4FA6-AA94-19616B5CA3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03080" y="222120"/>
            <a:ext cx="64119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Sinalização de Registro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É responsável pela troca de informações entre órgãos de controle das centrais. São informações relacionadas ao assinantes, como: número, tipos, condiçõe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cação do assinante cham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do operacional do assinante cham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ia do assinante cham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cação do assinante cham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dos operacionais dos órgãos envolvidos na cham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orre antes da conver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iliza o canal de voz para troca de informação entre as centra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3F98A-410B-4CAF-A622-68BB30303A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33360" y="304920"/>
            <a:ext cx="7010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Sinalização de Registro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tiliza-se a sinalização multifreqüencial compelida (MFC - 5C) para circuitos interligados fisicamente ou via rádio, permitindo a existência de sinais para frente e para tr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tiliza-se a sinalização multifreqüencial (5S) para comunicação via satélite, onde só existe um sinal para trás referente ao assinante 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4148A-8A21-449D-BA8D-86D64C1215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414520" y="221760"/>
            <a:ext cx="650088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inalização de Registro - Codificação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266840" y="2133720"/>
          <a:ext cx="6846840" cy="38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6840" y="2133720"/>
                    <a:ext cx="6846840" cy="38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5257800" y="21337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0" y="21337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5880" y="21337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400800" y="21337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705720" y="21337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010280" y="21337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0120" y="21337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21337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21337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297180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95280" y="419112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6A367-5E41-4A43-9A82-956EAC1DF7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33360" y="304920"/>
            <a:ext cx="7010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ignificado dos Sinais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457200" y="952560"/>
            <a:ext cx="8412120" cy="5339520"/>
            <a:chOff x="457200" y="952560"/>
            <a:chExt cx="8412120" cy="5339520"/>
          </a:xfrm>
        </p:grpSpPr>
        <p:sp>
          <p:nvSpPr>
            <p:cNvPr id="266" name=""/>
            <p:cNvSpPr/>
            <p:nvPr/>
          </p:nvSpPr>
          <p:spPr>
            <a:xfrm>
              <a:off x="459000" y="1087560"/>
              <a:ext cx="8410320" cy="520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IN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INAIS PARA FREN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RUPO 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RUPO I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lgarismo 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ssinante comu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lgarismo 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ssinante com tarifação especi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lgarismo 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quipamento de manutenção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lgarismo 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elefone público loc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lgarismo 5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elefonist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lgarismo 6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quipamento de comutação de dado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lgarismo 7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P interurbano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lgarismo 8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municação de dados - serviço internacion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lgarismo 9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ssinante com prioridade - serviço internacion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lgarismo 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elefonista com facilidade de transferência -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rviço internacion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serção de semi-supress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 eco na orige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ssinante com facilidade de transferênci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edido recusado ou indicaçã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 trânsito internaciona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serv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cesso a equipamento de tes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serv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serção de semi-supressor 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co de destino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serv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im de número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serv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" y="990720"/>
              <a:ext cx="808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57200" y="6248520"/>
              <a:ext cx="808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57200" y="987480"/>
              <a:ext cx="0" cy="523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537400" y="952560"/>
              <a:ext cx="0" cy="532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61880" y="1365120"/>
              <a:ext cx="807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61880" y="1878120"/>
              <a:ext cx="807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1880" y="2859120"/>
              <a:ext cx="807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61880" y="3070080"/>
              <a:ext cx="807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61880" y="3338640"/>
              <a:ext cx="807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1880" y="3592440"/>
              <a:ext cx="807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61880" y="3816360"/>
              <a:ext cx="807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61880" y="4307040"/>
              <a:ext cx="807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61880" y="4811760"/>
              <a:ext cx="807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61880" y="5289480"/>
              <a:ext cx="807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61880" y="5562720"/>
              <a:ext cx="807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61880" y="6022800"/>
              <a:ext cx="807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1880" y="2093760"/>
              <a:ext cx="807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61880" y="2362320"/>
              <a:ext cx="807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1880" y="2616120"/>
              <a:ext cx="807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1880" y="1603440"/>
              <a:ext cx="807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006800" y="1365120"/>
              <a:ext cx="0" cy="488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236600" y="995400"/>
              <a:ext cx="0" cy="525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FA149-5D17-4728-901E-F3A5D28116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33360" y="304920"/>
            <a:ext cx="701028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ignificado dos Sinais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7080" y="1030320"/>
            <a:ext cx="93247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NA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NAIS PARA TRÁ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UPO 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UPO 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viar o próximo algarism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ha de assinante livre com tarifaçã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viar o primeiro algarismo enviad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ha de assinante ocupad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parar para a recepção de sinais do grupo 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ha de assinante com número mudad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gestionament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gestionament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viar categoria e identidade do assinante chamad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ha de assinante livre sem tarifaçã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erv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ha de assinante livre com tarifação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car retenção sob controle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sinante chamad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viar o algarismo N-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ível ou número vag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viar o algarismo N-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erv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viar o algarismo N-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erv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erv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erv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viar a indicação de trânsito internaciona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erv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viar dígito de idioma ou de discriminaçã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erv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viar indicação do local do registrad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nacional de orige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erv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licitar informação da necessidade de inser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 semi-supressor de eco de destin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erv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gestionamento na central internaciona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erv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25280" y="1030320"/>
            <a:ext cx="0" cy="524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25280" y="1030320"/>
            <a:ext cx="892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051840" y="1030320"/>
            <a:ext cx="0" cy="524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25280" y="6286680"/>
            <a:ext cx="892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5280" y="1306440"/>
            <a:ext cx="892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5280" y="1800360"/>
            <a:ext cx="892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5280" y="1554120"/>
            <a:ext cx="892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25280" y="4721400"/>
            <a:ext cx="892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5280" y="4968720"/>
            <a:ext cx="892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5280" y="5462640"/>
            <a:ext cx="892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5280" y="5956200"/>
            <a:ext cx="892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5280" y="2782800"/>
            <a:ext cx="892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5280" y="3505320"/>
            <a:ext cx="892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5280" y="3751200"/>
            <a:ext cx="892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5280" y="3998880"/>
            <a:ext cx="892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5280" y="4246560"/>
            <a:ext cx="892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5280" y="4475160"/>
            <a:ext cx="892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5280" y="2041560"/>
            <a:ext cx="892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5280" y="2287440"/>
            <a:ext cx="892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5280" y="2535120"/>
            <a:ext cx="892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522760" y="1312920"/>
            <a:ext cx="0" cy="496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36720" y="1030320"/>
            <a:ext cx="0" cy="526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80DA3-A2AC-4BEF-84C6-83C7B27415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133360" y="304920"/>
            <a:ext cx="7010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inalização Associada a Canal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informações de sinalização concorrem com o sinal de voz dentro do mesmo espaço físico, ou seja, a sinalização utiliza os mesmos circuitos que posteriormente irão transportar a 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766800" y="2286000"/>
            <a:ext cx="7930800" cy="1600200"/>
            <a:chOff x="766800" y="2286000"/>
            <a:chExt cx="7930800" cy="1600200"/>
          </a:xfrm>
        </p:grpSpPr>
        <p:grpSp>
          <p:nvGrpSpPr>
            <p:cNvPr id="316" name=""/>
            <p:cNvGrpSpPr/>
            <p:nvPr/>
          </p:nvGrpSpPr>
          <p:grpSpPr>
            <a:xfrm>
              <a:off x="3281400" y="2610360"/>
              <a:ext cx="2942640" cy="522360"/>
              <a:chOff x="3281400" y="2610360"/>
              <a:chExt cx="2942640" cy="522360"/>
            </a:xfrm>
          </p:grpSpPr>
          <p:sp>
            <p:nvSpPr>
              <p:cNvPr id="317" name=""/>
              <p:cNvSpPr/>
              <p:nvPr/>
            </p:nvSpPr>
            <p:spPr>
              <a:xfrm rot="5400000">
                <a:off x="4557960" y="1395000"/>
                <a:ext cx="389160" cy="2942640"/>
              </a:xfrm>
              <a:prstGeom prst="can">
                <a:avLst>
                  <a:gd name="adj" fmla="val 593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544560" y="2689560"/>
                <a:ext cx="2453760" cy="368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Voz    Registro    Linh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9" name=""/>
              <p:cNvGrpSpPr/>
              <p:nvPr/>
            </p:nvGrpSpPr>
            <p:grpSpPr>
              <a:xfrm>
                <a:off x="4079880" y="2610360"/>
                <a:ext cx="147600" cy="522360"/>
                <a:chOff x="4079880" y="2610360"/>
                <a:chExt cx="147600" cy="522360"/>
              </a:xfrm>
            </p:grpSpPr>
            <p:sp>
              <p:nvSpPr>
                <p:cNvPr id="320" name=""/>
                <p:cNvSpPr/>
                <p:nvPr/>
              </p:nvSpPr>
              <p:spPr>
                <a:xfrm flipH="1">
                  <a:off x="4079880" y="2668680"/>
                  <a:ext cx="147600" cy="464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H="1" flipV="1">
                  <a:off x="4079880" y="2610000"/>
                  <a:ext cx="147600" cy="464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5108040" y="2610360"/>
                <a:ext cx="147600" cy="522360"/>
                <a:chOff x="5108040" y="2610360"/>
                <a:chExt cx="147600" cy="522360"/>
              </a:xfrm>
            </p:grpSpPr>
            <p:sp>
              <p:nvSpPr>
                <p:cNvPr id="323" name=""/>
                <p:cNvSpPr/>
                <p:nvPr/>
              </p:nvSpPr>
              <p:spPr>
                <a:xfrm flipH="1">
                  <a:off x="5108040" y="2668680"/>
                  <a:ext cx="147600" cy="464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flipH="1" flipV="1">
                  <a:off x="5108040" y="2610000"/>
                  <a:ext cx="147600" cy="464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5" name=""/>
            <p:cNvGrpSpPr/>
            <p:nvPr/>
          </p:nvGrpSpPr>
          <p:grpSpPr>
            <a:xfrm>
              <a:off x="766800" y="2311560"/>
              <a:ext cx="2524680" cy="1574640"/>
              <a:chOff x="766800" y="2311560"/>
              <a:chExt cx="2524680" cy="157464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2035080" y="2311560"/>
                <a:ext cx="829800" cy="1233360"/>
                <a:chOff x="2035080" y="2311560"/>
                <a:chExt cx="829800" cy="123336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2035080" y="2311560"/>
                  <a:ext cx="829800" cy="1233360"/>
                </a:xfrm>
                <a:prstGeom prst="rect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2228760" y="2552760"/>
                  <a:ext cx="630360" cy="733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</a:rPr>
                    <a:t>Junto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</a:rPr>
                    <a:t>analó-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</a:rPr>
                    <a:t>gic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9" name=""/>
              <p:cNvSpPr/>
              <p:nvPr/>
            </p:nvSpPr>
            <p:spPr>
              <a:xfrm flipH="1">
                <a:off x="2847600" y="2882880"/>
                <a:ext cx="44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895320" y="3176640"/>
                <a:ext cx="50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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66800" y="2335320"/>
                <a:ext cx="7963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</a:rPr>
                  <a:t>Rec/En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565280" y="2476440"/>
                <a:ext cx="46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222200" y="3492720"/>
                <a:ext cx="81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047680" y="2476440"/>
                <a:ext cx="829800" cy="4190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V="1">
                <a:off x="2035080" y="2882520"/>
                <a:ext cx="825120" cy="6224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943280" y="3517920"/>
                <a:ext cx="1078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entral 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6172920" y="2286000"/>
              <a:ext cx="2524680" cy="1574640"/>
              <a:chOff x="6172920" y="2286000"/>
              <a:chExt cx="2524680" cy="1574640"/>
            </a:xfrm>
          </p:grpSpPr>
          <p:grpSp>
            <p:nvGrpSpPr>
              <p:cNvPr id="338" name=""/>
              <p:cNvGrpSpPr/>
              <p:nvPr/>
            </p:nvGrpSpPr>
            <p:grpSpPr>
              <a:xfrm>
                <a:off x="6599520" y="2286000"/>
                <a:ext cx="829800" cy="1233360"/>
                <a:chOff x="6599520" y="2286000"/>
                <a:chExt cx="829800" cy="1233360"/>
              </a:xfrm>
            </p:grpSpPr>
            <p:sp>
              <p:nvSpPr>
                <p:cNvPr id="339" name=""/>
                <p:cNvSpPr/>
                <p:nvPr/>
              </p:nvSpPr>
              <p:spPr>
                <a:xfrm flipH="1">
                  <a:off x="6599160" y="2286000"/>
                  <a:ext cx="829800" cy="1233360"/>
                </a:xfrm>
                <a:prstGeom prst="rect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flipH="1">
                  <a:off x="6604920" y="2527200"/>
                  <a:ext cx="630360" cy="733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</a:rPr>
                    <a:t>Junto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</a:rPr>
                    <a:t>analó-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</a:rPr>
                    <a:t>gic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1" name=""/>
              <p:cNvSpPr/>
              <p:nvPr/>
            </p:nvSpPr>
            <p:spPr>
              <a:xfrm>
                <a:off x="6172920" y="2857320"/>
                <a:ext cx="44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8067960" y="3151080"/>
                <a:ext cx="50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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7901280" y="2309760"/>
                <a:ext cx="7963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</a:rPr>
                  <a:t>Rec/En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7429680" y="2450880"/>
                <a:ext cx="46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7429680" y="3467160"/>
                <a:ext cx="81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6586920" y="2450880"/>
                <a:ext cx="829800" cy="4190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 flipV="1">
                <a:off x="6604200" y="2856960"/>
                <a:ext cx="825120" cy="6224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>
                <a:off x="7366320" y="3492360"/>
                <a:ext cx="1066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entral 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9" name=""/>
          <p:cNvGrpSpPr/>
          <p:nvPr/>
        </p:nvGrpSpPr>
        <p:grpSpPr>
          <a:xfrm>
            <a:off x="519480" y="4038480"/>
            <a:ext cx="8466840" cy="2288160"/>
            <a:chOff x="519480" y="4038480"/>
            <a:chExt cx="8466840" cy="2288160"/>
          </a:xfrm>
        </p:grpSpPr>
        <p:grpSp>
          <p:nvGrpSpPr>
            <p:cNvPr id="350" name=""/>
            <p:cNvGrpSpPr/>
            <p:nvPr/>
          </p:nvGrpSpPr>
          <p:grpSpPr>
            <a:xfrm>
              <a:off x="519480" y="4038480"/>
              <a:ext cx="2525400" cy="1574640"/>
              <a:chOff x="519480" y="4038480"/>
              <a:chExt cx="2525400" cy="1574640"/>
            </a:xfrm>
          </p:grpSpPr>
          <p:grpSp>
            <p:nvGrpSpPr>
              <p:cNvPr id="351" name=""/>
              <p:cNvGrpSpPr/>
              <p:nvPr/>
            </p:nvGrpSpPr>
            <p:grpSpPr>
              <a:xfrm>
                <a:off x="1787760" y="4038480"/>
                <a:ext cx="830160" cy="1233360"/>
                <a:chOff x="1787760" y="4038480"/>
                <a:chExt cx="830160" cy="123336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1787760" y="4038480"/>
                  <a:ext cx="830160" cy="1233360"/>
                </a:xfrm>
                <a:prstGeom prst="rect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981800" y="4279680"/>
                  <a:ext cx="630360" cy="733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</a:rPr>
                    <a:t>Junto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</a:rPr>
                    <a:t>digi-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</a:rPr>
                    <a:t>ta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4" name=""/>
              <p:cNvSpPr/>
              <p:nvPr/>
            </p:nvSpPr>
            <p:spPr>
              <a:xfrm flipH="1">
                <a:off x="2600640" y="4609800"/>
                <a:ext cx="44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48360" y="4903560"/>
                <a:ext cx="50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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19480" y="4062240"/>
                <a:ext cx="7963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</a:rPr>
                  <a:t>Rec/En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317960" y="4203360"/>
                <a:ext cx="469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974880" y="5219640"/>
                <a:ext cx="81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800360" y="4203360"/>
                <a:ext cx="830160" cy="4190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V="1">
                <a:off x="1787760" y="4609440"/>
                <a:ext cx="825480" cy="6224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696320" y="5244840"/>
                <a:ext cx="1078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entral 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6460920" y="4038480"/>
              <a:ext cx="2525400" cy="1574640"/>
              <a:chOff x="6460920" y="4038480"/>
              <a:chExt cx="2525400" cy="1574640"/>
            </a:xfrm>
          </p:grpSpPr>
          <p:grpSp>
            <p:nvGrpSpPr>
              <p:cNvPr id="363" name=""/>
              <p:cNvGrpSpPr/>
              <p:nvPr/>
            </p:nvGrpSpPr>
            <p:grpSpPr>
              <a:xfrm>
                <a:off x="6887880" y="4038480"/>
                <a:ext cx="830160" cy="1233360"/>
                <a:chOff x="6887880" y="4038480"/>
                <a:chExt cx="830160" cy="1233360"/>
              </a:xfrm>
            </p:grpSpPr>
            <p:sp>
              <p:nvSpPr>
                <p:cNvPr id="364" name=""/>
                <p:cNvSpPr/>
                <p:nvPr/>
              </p:nvSpPr>
              <p:spPr>
                <a:xfrm flipH="1">
                  <a:off x="6887880" y="4038480"/>
                  <a:ext cx="830160" cy="1233360"/>
                </a:xfrm>
                <a:prstGeom prst="rect">
                  <a:avLst/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H="1">
                  <a:off x="6893280" y="4279680"/>
                  <a:ext cx="630360" cy="73332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</a:rPr>
                    <a:t>Junto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</a:rPr>
                    <a:t>digi-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Times New Roman"/>
                    </a:rPr>
                    <a:t>ta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6" name=""/>
              <p:cNvSpPr/>
              <p:nvPr/>
            </p:nvSpPr>
            <p:spPr>
              <a:xfrm>
                <a:off x="6460920" y="4609800"/>
                <a:ext cx="44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8356320" y="4903560"/>
                <a:ext cx="50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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8190000" y="4062240"/>
                <a:ext cx="79632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Times New Roman"/>
                  </a:rPr>
                  <a:t>Rec/En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7718040" y="4203360"/>
                <a:ext cx="469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7718040" y="5219640"/>
                <a:ext cx="812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6875280" y="4203360"/>
                <a:ext cx="830160" cy="4190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6892560" y="4609440"/>
                <a:ext cx="825480" cy="6224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H="1">
                <a:off x="6743880" y="5244840"/>
                <a:ext cx="1066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entral 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2892600" y="461016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3186360" y="4074840"/>
              <a:ext cx="2695320" cy="544680"/>
              <a:chOff x="3186360" y="4074840"/>
              <a:chExt cx="2695320" cy="544680"/>
            </a:xfrm>
          </p:grpSpPr>
          <p:sp>
            <p:nvSpPr>
              <p:cNvPr id="376" name=""/>
              <p:cNvSpPr/>
              <p:nvPr/>
            </p:nvSpPr>
            <p:spPr>
              <a:xfrm>
                <a:off x="5622840" y="4165200"/>
                <a:ext cx="22860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260880" y="4165200"/>
                <a:ext cx="228600" cy="15264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489480" y="4165200"/>
                <a:ext cx="228600" cy="1526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098960" y="4165200"/>
                <a:ext cx="228600" cy="1526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327560" y="4165200"/>
                <a:ext cx="228600" cy="152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556160" y="4165200"/>
                <a:ext cx="228600" cy="15264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394240" y="4165200"/>
                <a:ext cx="228600" cy="1526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165640" y="4165200"/>
                <a:ext cx="228600" cy="15264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718080" y="4165200"/>
                <a:ext cx="3808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784760" y="4165200"/>
                <a:ext cx="3808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186360" y="4343040"/>
                <a:ext cx="2695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31   30           17   16  15             2    1    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702600" y="4074840"/>
                <a:ext cx="41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:::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769280" y="4074840"/>
                <a:ext cx="41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:::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>
              <a:off x="1295280" y="5779800"/>
              <a:ext cx="22860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295280" y="6084720"/>
              <a:ext cx="228600" cy="1522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581840" y="5715000"/>
              <a:ext cx="1681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inalização de Linh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579320" y="6019560"/>
              <a:ext cx="226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inalização de registro + vo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5B5EC-B2AB-44A1-BCB0-B0B853F036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133360" y="304560"/>
            <a:ext cx="70102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Desvantagens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77640" y="1143000"/>
            <a:ext cx="8613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da enlace transporta a sinalização referente a seu(s) próprio(s) circuito(s). Não é possível o envio de códigos por um enlace, relacionados a canais de voz de outro enla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ódigos formados por pares de freqüências formam um quadro limitado de significados, todos eles telefônicos. Isso gera a impossibilidade de enviar informação não relativa ao tratamento de chamada (dado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Tratamento seqüencial. O completar de uma chamada requer numerosa troca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inalização dentro da banda de voz, impossibilitando sinalizar em conversa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879BB-967B-4AA7-84CA-E6EAB2A30B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7080" y="239760"/>
            <a:ext cx="662796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BJETIVO DA SINALIZAÇÃO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r as centrais envolvidas em uma chamada, das informações necessárias ao estabelecimento das mesm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de s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re terminais e cen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arelhos telefô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fônico púb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pamentos CPCT ou PAB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re centr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72791-1474-49B7-986C-95D8E2ADBA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3360" y="304920"/>
            <a:ext cx="7010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Sinalização</a:t>
            </a:r>
            <a:endParaRPr b="0" lang="en-US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municação entre Assinantes e Cent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inalização de assin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iscagem decá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iscagem multifrequ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inalização acú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ons diversos, campainh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municação entre Centr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ssociada a Canal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inalização de Lin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inalização de Regis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anal Com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80000" y="4797360"/>
            <a:ext cx="144360" cy="719280"/>
          </a:xfrm>
          <a:custGeom>
            <a:avLst/>
            <a:gdLst>
              <a:gd name="textAreaLeft" fmla="*/ 92160 w 144360"/>
              <a:gd name="textAreaRight" fmla="*/ 144360 w 14436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65B27-9835-447E-B45D-3CE103FB8D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3360" y="304560"/>
            <a:ext cx="701028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Times New Roman"/>
              </a:rPr>
              <a:t>Discagem Decádica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362320" y="3876840"/>
            <a:ext cx="4551120" cy="2288520"/>
            <a:chOff x="2362320" y="3876840"/>
            <a:chExt cx="4551120" cy="2288520"/>
          </a:xfrm>
        </p:grpSpPr>
        <p:sp>
          <p:nvSpPr>
            <p:cNvPr id="52" name=""/>
            <p:cNvSpPr/>
            <p:nvPr/>
          </p:nvSpPr>
          <p:spPr>
            <a:xfrm>
              <a:off x="2362320" y="3876840"/>
              <a:ext cx="45511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09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33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77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3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362320" y="4334040"/>
              <a:ext cx="45511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97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362320" y="4791240"/>
              <a:ext cx="45511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7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362320" y="5248440"/>
              <a:ext cx="45511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5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62320" y="5705640"/>
              <a:ext cx="455112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4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#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200040" y="387684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14440" y="387684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105160" y="387684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560" y="387684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420480" y="2362320"/>
            <a:ext cx="85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: Break (60ms); M: Make (40ms); I: Interdigital interval (&gt;300 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56480" y="914400"/>
            <a:ext cx="8535240" cy="1297800"/>
            <a:chOff x="456480" y="914400"/>
            <a:chExt cx="8535240" cy="1297800"/>
          </a:xfrm>
        </p:grpSpPr>
        <p:grpSp>
          <p:nvGrpSpPr>
            <p:cNvPr id="63" name=""/>
            <p:cNvGrpSpPr/>
            <p:nvPr/>
          </p:nvGrpSpPr>
          <p:grpSpPr>
            <a:xfrm>
              <a:off x="456840" y="990360"/>
              <a:ext cx="8534880" cy="1221840"/>
              <a:chOff x="456840" y="990360"/>
              <a:chExt cx="8534880" cy="1221840"/>
            </a:xfrm>
          </p:grpSpPr>
          <p:grpSp>
            <p:nvGrpSpPr>
              <p:cNvPr id="64" name=""/>
              <p:cNvGrpSpPr/>
              <p:nvPr/>
            </p:nvGrpSpPr>
            <p:grpSpPr>
              <a:xfrm>
                <a:off x="456840" y="1405440"/>
                <a:ext cx="8534880" cy="804240"/>
                <a:chOff x="456840" y="1405440"/>
                <a:chExt cx="8534880" cy="804240"/>
              </a:xfrm>
            </p:grpSpPr>
            <p:grpSp>
              <p:nvGrpSpPr>
                <p:cNvPr id="65" name=""/>
                <p:cNvGrpSpPr/>
                <p:nvPr/>
              </p:nvGrpSpPr>
              <p:grpSpPr>
                <a:xfrm>
                  <a:off x="1600200" y="1600200"/>
                  <a:ext cx="1219320" cy="609480"/>
                  <a:chOff x="1600200" y="1600200"/>
                  <a:chExt cx="1219320" cy="60948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1600200" y="2209680"/>
                    <a:ext cx="685800" cy="0"/>
                  </a:xfrm>
                  <a:prstGeom prst="line">
                    <a:avLst/>
                  </a:prstGeom>
                  <a:ln w="2844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2286000" y="1600200"/>
                    <a:ext cx="533520" cy="0"/>
                  </a:xfrm>
                  <a:prstGeom prst="line">
                    <a:avLst/>
                  </a:prstGeom>
                  <a:ln w="2844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1600200" y="160020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2286000" y="160020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" name=""/>
                <p:cNvGrpSpPr/>
                <p:nvPr/>
              </p:nvGrpSpPr>
              <p:grpSpPr>
                <a:xfrm>
                  <a:off x="2819520" y="1600200"/>
                  <a:ext cx="1219320" cy="609480"/>
                  <a:chOff x="2819520" y="1600200"/>
                  <a:chExt cx="1219320" cy="609480"/>
                </a:xfrm>
              </p:grpSpPr>
              <p:sp>
                <p:nvSpPr>
                  <p:cNvPr id="71" name=""/>
                  <p:cNvSpPr/>
                  <p:nvPr/>
                </p:nvSpPr>
                <p:spPr>
                  <a:xfrm>
                    <a:off x="2819520" y="2209680"/>
                    <a:ext cx="685800" cy="0"/>
                  </a:xfrm>
                  <a:prstGeom prst="line">
                    <a:avLst/>
                  </a:prstGeom>
                  <a:ln w="2844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3505320" y="1600200"/>
                    <a:ext cx="533520" cy="0"/>
                  </a:xfrm>
                  <a:prstGeom prst="line">
                    <a:avLst/>
                  </a:prstGeom>
                  <a:ln w="2844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2819520" y="160020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3505320" y="160020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4038840" y="1600200"/>
                  <a:ext cx="1218600" cy="609480"/>
                  <a:chOff x="4038840" y="1600200"/>
                  <a:chExt cx="1218600" cy="6094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>
                    <a:off x="4038840" y="2209680"/>
                    <a:ext cx="685440" cy="0"/>
                  </a:xfrm>
                  <a:prstGeom prst="line">
                    <a:avLst/>
                  </a:prstGeom>
                  <a:ln w="2844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4724280" y="1600200"/>
                    <a:ext cx="533160" cy="0"/>
                  </a:xfrm>
                  <a:prstGeom prst="line">
                    <a:avLst/>
                  </a:prstGeom>
                  <a:ln w="2844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4038840" y="160020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4724280" y="160020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0" name=""/>
                <p:cNvGrpSpPr/>
                <p:nvPr/>
              </p:nvGrpSpPr>
              <p:grpSpPr>
                <a:xfrm>
                  <a:off x="6553440" y="1600200"/>
                  <a:ext cx="1218600" cy="609480"/>
                  <a:chOff x="6553440" y="1600200"/>
                  <a:chExt cx="1218600" cy="60948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>
                    <a:off x="6553440" y="2209680"/>
                    <a:ext cx="685440" cy="0"/>
                  </a:xfrm>
                  <a:prstGeom prst="line">
                    <a:avLst/>
                  </a:prstGeom>
                  <a:ln w="2844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238880" y="1600200"/>
                    <a:ext cx="533160" cy="0"/>
                  </a:xfrm>
                  <a:prstGeom prst="line">
                    <a:avLst/>
                  </a:prstGeom>
                  <a:ln w="2844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6553440" y="160020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238880" y="160020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" name=""/>
                <p:cNvGrpSpPr/>
                <p:nvPr/>
              </p:nvGrpSpPr>
              <p:grpSpPr>
                <a:xfrm>
                  <a:off x="7772400" y="1600200"/>
                  <a:ext cx="1219320" cy="609480"/>
                  <a:chOff x="7772400" y="1600200"/>
                  <a:chExt cx="1219320" cy="609480"/>
                </a:xfrm>
              </p:grpSpPr>
              <p:sp>
                <p:nvSpPr>
                  <p:cNvPr id="86" name=""/>
                  <p:cNvSpPr/>
                  <p:nvPr/>
                </p:nvSpPr>
                <p:spPr>
                  <a:xfrm>
                    <a:off x="7772400" y="2209680"/>
                    <a:ext cx="685800" cy="0"/>
                  </a:xfrm>
                  <a:prstGeom prst="line">
                    <a:avLst/>
                  </a:prstGeom>
                  <a:ln w="2844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8458200" y="1600200"/>
                    <a:ext cx="533520" cy="0"/>
                  </a:xfrm>
                  <a:prstGeom prst="line">
                    <a:avLst/>
                  </a:prstGeom>
                  <a:ln w="2844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772400" y="160020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8458200" y="160020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" name=""/>
                <p:cNvSpPr/>
                <p:nvPr/>
              </p:nvSpPr>
              <p:spPr>
                <a:xfrm flipH="1">
                  <a:off x="5333760" y="1600200"/>
                  <a:ext cx="1219320" cy="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 rot="5400000">
                  <a:off x="5114880" y="1387080"/>
                  <a:ext cx="42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cc99"/>
                      </a:solidFill>
                      <a:latin typeface="Symbol"/>
                      <a:ea typeface="Symbol"/>
                    </a:rPr>
                    <a:t>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H="1">
                  <a:off x="456840" y="1600200"/>
                  <a:ext cx="1143000" cy="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" name=""/>
              <p:cNvSpPr/>
              <p:nvPr/>
            </p:nvSpPr>
            <p:spPr>
              <a:xfrm>
                <a:off x="1678320" y="175248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287800" y="175248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926840" y="175248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707520" y="175248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192920" y="175248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973600" y="175248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583080" y="175248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317000" y="175248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335560" y="175248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896200" y="990360"/>
                <a:ext cx="118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ígito 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934680" y="1066680"/>
                <a:ext cx="118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ígito 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456480" y="914400"/>
              <a:ext cx="968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ora 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anch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0" y="3048120"/>
            <a:ext cx="9144000" cy="642600"/>
            <a:chOff x="0" y="3048120"/>
            <a:chExt cx="9144000" cy="642600"/>
          </a:xfrm>
        </p:grpSpPr>
        <p:sp>
          <p:nvSpPr>
            <p:cNvPr id="106" name=""/>
            <p:cNvSpPr/>
            <p:nvPr/>
          </p:nvSpPr>
          <p:spPr>
            <a:xfrm>
              <a:off x="2061720" y="3048120"/>
              <a:ext cx="519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600" spc="-1" strike="noStrike">
                  <a:solidFill>
                    <a:srgbClr val="000000"/>
                  </a:solidFill>
                  <a:latin typeface="Times New Roman"/>
                </a:rPr>
                <a:t>Discagem Multifreqüencia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3124080"/>
              <a:ext cx="9144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1F19F-8B5C-495C-98B3-1A4B0AD2EC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33360" y="304920"/>
            <a:ext cx="701028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inalização Acústica (faixa de 425Hz)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04360" y="3276720"/>
            <a:ext cx="3665880" cy="1011600"/>
            <a:chOff x="504360" y="3276720"/>
            <a:chExt cx="3665880" cy="1011600"/>
          </a:xfrm>
        </p:grpSpPr>
        <p:sp>
          <p:nvSpPr>
            <p:cNvPr id="110" name=""/>
            <p:cNvSpPr/>
            <p:nvPr/>
          </p:nvSpPr>
          <p:spPr>
            <a:xfrm>
              <a:off x="525240" y="3276720"/>
              <a:ext cx="364500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00000" y="3276720"/>
              <a:ext cx="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71600" y="3276720"/>
              <a:ext cx="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52480" y="3276720"/>
              <a:ext cx="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5240" y="3276720"/>
              <a:ext cx="368280" cy="2156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78080" y="3276720"/>
              <a:ext cx="368280" cy="2156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5240" y="3651120"/>
              <a:ext cx="173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9120" y="358128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00000" y="358128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71600" y="358128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4360" y="3651120"/>
              <a:ext cx="3628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66480" y="3651120"/>
              <a:ext cx="3628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17080" y="3956040"/>
              <a:ext cx="26276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om de Controle de Chama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19120" y="4724280"/>
            <a:ext cx="3651120" cy="1087920"/>
            <a:chOff x="519120" y="4724280"/>
            <a:chExt cx="3651120" cy="1087920"/>
          </a:xfrm>
        </p:grpSpPr>
        <p:sp>
          <p:nvSpPr>
            <p:cNvPr id="124" name=""/>
            <p:cNvSpPr/>
            <p:nvPr/>
          </p:nvSpPr>
          <p:spPr>
            <a:xfrm>
              <a:off x="525240" y="4724280"/>
              <a:ext cx="36450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25240" y="4724280"/>
              <a:ext cx="901800" cy="2160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54040" y="4724280"/>
              <a:ext cx="901800" cy="2160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25240" y="5099040"/>
              <a:ext cx="181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9120" y="502920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33520" y="502920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81040" y="5099040"/>
              <a:ext cx="723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50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95440" y="5099040"/>
              <a:ext cx="723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50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19480" y="5479920"/>
              <a:ext cx="15912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om de Ocupa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772160" y="1828800"/>
            <a:ext cx="4075200" cy="1087920"/>
            <a:chOff x="4772160" y="1828800"/>
            <a:chExt cx="4075200" cy="1087920"/>
          </a:xfrm>
        </p:grpSpPr>
        <p:sp>
          <p:nvSpPr>
            <p:cNvPr id="134" name=""/>
            <p:cNvSpPr/>
            <p:nvPr/>
          </p:nvSpPr>
          <p:spPr>
            <a:xfrm>
              <a:off x="4943520" y="1828800"/>
              <a:ext cx="36464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96040" y="182880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53240" y="182880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137440" y="182880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943520" y="1828800"/>
              <a:ext cx="446040" cy="2160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57920" y="1828800"/>
              <a:ext cx="2274840" cy="2160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43520" y="2203560"/>
              <a:ext cx="364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594640" y="213372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137440" y="213372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53240" y="213372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96040" y="213372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938840" y="213372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123400" y="2279520"/>
              <a:ext cx="723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50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523200" y="2279520"/>
              <a:ext cx="723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750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80200" y="2279520"/>
              <a:ext cx="723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50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772160" y="2279520"/>
              <a:ext cx="723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50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37160" y="2584440"/>
              <a:ext cx="2473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om de Número Inacessív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848480" y="3276720"/>
            <a:ext cx="3741480" cy="1087920"/>
            <a:chOff x="4848480" y="3276720"/>
            <a:chExt cx="3741480" cy="1087920"/>
          </a:xfrm>
        </p:grpSpPr>
        <p:sp>
          <p:nvSpPr>
            <p:cNvPr id="152" name=""/>
            <p:cNvSpPr/>
            <p:nvPr/>
          </p:nvSpPr>
          <p:spPr>
            <a:xfrm>
              <a:off x="4943520" y="3276720"/>
              <a:ext cx="364644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167440" y="3276720"/>
              <a:ext cx="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43600" y="3276720"/>
              <a:ext cx="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70760" y="3276720"/>
              <a:ext cx="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43520" y="3276720"/>
              <a:ext cx="217440" cy="2156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48640" y="3276720"/>
              <a:ext cx="217440" cy="2156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943520" y="3651120"/>
              <a:ext cx="189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843600" y="358128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67440" y="358128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938840" y="358128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48480" y="3727440"/>
              <a:ext cx="621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50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84400" y="3727440"/>
              <a:ext cx="8262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00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080320" y="4032360"/>
              <a:ext cx="33012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om de Aviso de Chamada em Espe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4938840" y="4724280"/>
            <a:ext cx="3651120" cy="1087920"/>
            <a:chOff x="4938840" y="4724280"/>
            <a:chExt cx="3651120" cy="1087920"/>
          </a:xfrm>
        </p:grpSpPr>
        <p:sp>
          <p:nvSpPr>
            <p:cNvPr id="166" name=""/>
            <p:cNvSpPr/>
            <p:nvPr/>
          </p:nvSpPr>
          <p:spPr>
            <a:xfrm>
              <a:off x="4943520" y="4724280"/>
              <a:ext cx="364644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943520" y="4724280"/>
              <a:ext cx="903240" cy="2160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72320" y="4724280"/>
              <a:ext cx="903240" cy="2160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67640" y="502920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43520" y="5099040"/>
              <a:ext cx="181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53240" y="502920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38840" y="502920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98960" y="5099040"/>
              <a:ext cx="723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25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13360" y="5099040"/>
              <a:ext cx="723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25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536440" y="5479920"/>
              <a:ext cx="2705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om de Aviso de Programaçã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504360" y="1219320"/>
            <a:ext cx="3915000" cy="1621080"/>
            <a:chOff x="504360" y="1219320"/>
            <a:chExt cx="3915000" cy="1621080"/>
          </a:xfrm>
        </p:grpSpPr>
        <p:sp>
          <p:nvSpPr>
            <p:cNvPr id="177" name=""/>
            <p:cNvSpPr/>
            <p:nvPr/>
          </p:nvSpPr>
          <p:spPr>
            <a:xfrm>
              <a:off x="525240" y="1828800"/>
              <a:ext cx="3645000" cy="21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900000" y="182880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71600" y="182880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652480" y="182880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5240" y="1828800"/>
              <a:ext cx="368280" cy="2160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78080" y="1828800"/>
              <a:ext cx="368280" cy="2160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25240" y="2203560"/>
              <a:ext cx="1739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19120" y="213372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900000" y="213372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71600" y="213372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4360" y="2203560"/>
              <a:ext cx="3628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66480" y="2203560"/>
              <a:ext cx="3628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44240" y="2508120"/>
              <a:ext cx="17038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rrente de To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57600" y="1219320"/>
              <a:ext cx="761760" cy="457200"/>
            </a:xfrm>
            <a:prstGeom prst="wedgeRoundRectCallout">
              <a:avLst>
                <a:gd name="adj1" fmla="val -45000"/>
                <a:gd name="adj2" fmla="val 70138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 H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81E39-7D64-4DAE-BE26-B30B2D7FBED3}" type="slidenum">
              <a:t>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33360" y="304920"/>
            <a:ext cx="7010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INALIZAÇÃO ENTRE CENTRAIS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inalização de Lin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É a que estabelece a comunicação entre centrais nas linhas de junções (juntores) e que agem durante toda a conexão. São trocas de informações relacionadas com os estágios da conexão e supervisão da linha de jun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icia procedimentos de ocupação e liberação de jun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forma colocação e retirada de fone no gancho do assinante (chamado para fins de tarifaçã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corre em todas as fases da cham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F893B-349E-4F59-A235-EC8E8FC32D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048120" y="3581280"/>
            <a:ext cx="28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33360" y="304920"/>
            <a:ext cx="7010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Tipos de Sinais de Linha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76520" y="3048120"/>
            <a:ext cx="1406520" cy="16761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67280" y="3048120"/>
            <a:ext cx="1406520" cy="16761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 flipH="1" rot="10800000">
            <a:off x="7499520" y="4571640"/>
            <a:ext cx="760320" cy="3999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 flipH="1" rot="10800000">
            <a:off x="534960" y="4571640"/>
            <a:ext cx="760320" cy="3999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 flipH="1">
            <a:off x="1053720" y="3809880"/>
            <a:ext cx="62244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44640" y="3886200"/>
            <a:ext cx="5634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2895480"/>
            <a:ext cx="147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809520" y="4724280"/>
            <a:ext cx="147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2080" y="41148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937280" y="41911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52680" y="228600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ais para Fr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581280" y="5029200"/>
            <a:ext cx="246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ais para Trá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20840" y="5029200"/>
            <a:ext cx="176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454880" y="5029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m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057400" y="3276720"/>
            <a:ext cx="1006560" cy="580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Juntor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í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867280" y="3276720"/>
            <a:ext cx="1006560" cy="580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Juntor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Entr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B92E7-5914-4CDE-8349-4824CCB1A2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7080" y="239400"/>
            <a:ext cx="662796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Tipos de Sinais de Linha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151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up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rmação de ocup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end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ligar para tr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ligar para frente ou desconex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84680" y="1143000"/>
            <a:ext cx="4154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rmação de desconex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onexão forç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que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if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0EA24-0E6A-4D73-9D75-E5C1B61F7F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42720" y="304920"/>
            <a:ext cx="7000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rotocolos de Sinalização de Linha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0520" y="1384200"/>
            <a:ext cx="845820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nte Contín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+ M  Puls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+ M Contín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 Dig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97098-2721-446D-8ECD-DFD5673F28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8:30:00Z</dcterms:created>
  <dc:creator>Carlinhos</dc:creator>
  <dc:description/>
  <dc:language>en-US</dc:language>
  <cp:lastModifiedBy>carlos</cp:lastModifiedBy>
  <dcterms:modified xsi:type="dcterms:W3CDTF">2008-08-04T01:03:01Z</dcterms:modified>
  <cp:revision>16</cp:revision>
  <dc:subject/>
  <dc:title>CAPÍTULO III</dc:title>
</cp:coreProperties>
</file>