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90BF-159A-4080-B253-E7FDEF8298F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0A4D-57AB-46D2-926C-6E2074EB7FB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5520" cy="342612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91B0E-9960-40E2-99A7-4BED3C7D2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5640" y="13608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7161F-CBB0-43E9-A9DD-7BFAAD71D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5640" y="13608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088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33B7B-7936-445D-B489-EB1A6B1825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5640" y="13608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668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6880" y="114300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668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6880" y="3729960"/>
            <a:ext cx="2723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6DEEC-A857-423C-AD64-BD5EB24C5E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5640" y="13608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C17B-2FF3-465B-B1BF-8A61FE677C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5640" y="13608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39BE0-9AA9-4798-B46C-E2B64C9EC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5640" y="13608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23BDF-CABB-455F-B438-E5BB30A37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5640" y="13608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9F5DE-B492-4528-A798-79B0D9114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629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4ACC-F6D7-42A0-8A53-5F252BF09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5640" y="13608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A7076-2F6E-4615-9225-692A361DF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5640" y="13608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0880" y="372996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3AE43-8BD4-4E78-A7C0-F1BE025BF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5640" y="13608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143000"/>
            <a:ext cx="4127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2996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75605-CAEE-4C06-893E-F95C499C1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3240"/>
          <a:ext cx="9144000" cy="68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57200" y="632412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des Telefôn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5334120" y="6324120"/>
            <a:ext cx="3504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Capítulo I – Introdução à Rede Telefônica</a:t>
            </a:r>
            <a:r>
              <a:rPr b="1" i="1" lang="pt-BR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400" spc="-1" strike="noStrike">
                <a:solidFill>
                  <a:srgbClr val="ff0066"/>
                </a:solidFill>
                <a:latin typeface="Times New Roman"/>
              </a:rPr>
              <a:t>pg </a:t>
            </a:r>
            <a:fld id="{1C29BFCF-A855-4929-8F68-EB2EC75C5E44}" type="slidenum">
              <a:rPr b="0" lang="pt-BR" sz="1400" spc="-1" strike="noStrike">
                <a:solidFill>
                  <a:srgbClr val="ff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6324480"/>
            <a:ext cx="8839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P 319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REDES DE ACESSO, REDES TELEFÔNICAS E REDES DE TRANSPORTE</a:t>
            </a:r>
            <a:endParaRPr b="0" lang="en-US" sz="4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os Roberto dos Sa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590560" y="3049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REDE TELEFÔNICA - ESTRUTURA TOPOLÓGICA</a:t>
            </a:r>
            <a:endParaRPr b="0" lang="en-US" sz="2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603680" y="4489560"/>
            <a:ext cx="3463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27520" y="449424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718080" y="2828880"/>
            <a:ext cx="18032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054840" y="4819680"/>
            <a:ext cx="3445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176880" y="482292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314880" y="4405320"/>
            <a:ext cx="3492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441600" y="441324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261200" y="2836800"/>
            <a:ext cx="3445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383240" y="284004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382760" y="2422440"/>
            <a:ext cx="3492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509480" y="242892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222200" y="3416400"/>
            <a:ext cx="3495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349280" y="341964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914560" y="1098720"/>
            <a:ext cx="3463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038400" y="110664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2914560" y="4570560"/>
            <a:ext cx="59868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178760" y="2587680"/>
            <a:ext cx="43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018200" y="2671920"/>
            <a:ext cx="43020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6939000" y="3001680"/>
            <a:ext cx="144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7101000" y="3247920"/>
            <a:ext cx="34128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939000" y="3497400"/>
            <a:ext cx="342720" cy="2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7101000" y="4239720"/>
            <a:ext cx="341280" cy="24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7261200" y="4570200"/>
            <a:ext cx="34128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 flipV="1">
            <a:off x="4765320" y="4654080"/>
            <a:ext cx="68580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568840" y="4900680"/>
            <a:ext cx="60192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68400" y="4570560"/>
            <a:ext cx="17136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flipV="1">
            <a:off x="1465200" y="3580920"/>
            <a:ext cx="34128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 flipV="1">
            <a:off x="1625760" y="3247920"/>
            <a:ext cx="25704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1868040" y="3166920"/>
            <a:ext cx="25740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H="1" flipV="1">
            <a:off x="1625760" y="3001680"/>
            <a:ext cx="34272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1625400" y="2587680"/>
            <a:ext cx="43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H="1" flipV="1">
            <a:off x="2190240" y="1263600"/>
            <a:ext cx="341640" cy="2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2671920" y="1263600"/>
            <a:ext cx="342720" cy="2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2590920" y="1098360"/>
            <a:ext cx="8892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623720" y="137160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925880" y="3909960"/>
            <a:ext cx="34776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051160" y="3917880"/>
            <a:ext cx="281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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2671920" y="2917800"/>
            <a:ext cx="85860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590920" y="1677960"/>
            <a:ext cx="34452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V="1">
            <a:off x="2190600" y="2257560"/>
            <a:ext cx="771840" cy="2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2028960" y="1596960"/>
            <a:ext cx="514080" cy="90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947960" y="3662280"/>
            <a:ext cx="60156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1868400" y="3990600"/>
            <a:ext cx="68436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H="1" flipV="1">
            <a:off x="2671920" y="3909960"/>
            <a:ext cx="85680" cy="74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5649840" y="2172960"/>
            <a:ext cx="773280" cy="57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649840" y="2917800"/>
            <a:ext cx="773280" cy="11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535800" y="2173320"/>
            <a:ext cx="51588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>
            <a:off x="6454440" y="1600200"/>
            <a:ext cx="631800" cy="40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6454440" y="3413160"/>
            <a:ext cx="430200" cy="66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 flipV="1">
            <a:off x="6454440" y="4240080"/>
            <a:ext cx="601560" cy="33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5568840" y="4240080"/>
            <a:ext cx="860400" cy="57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076560" y="2257560"/>
            <a:ext cx="42696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416320" y="1362240"/>
            <a:ext cx="349200" cy="333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2843280" y="2050920"/>
            <a:ext cx="345960" cy="333360"/>
            <a:chOff x="2843280" y="2050920"/>
            <a:chExt cx="345960" cy="333360"/>
          </a:xfrm>
        </p:grpSpPr>
        <p:sp>
          <p:nvSpPr>
            <p:cNvPr id="886" name=""/>
            <p:cNvSpPr/>
            <p:nvPr/>
          </p:nvSpPr>
          <p:spPr>
            <a:xfrm>
              <a:off x="2843280" y="2050920"/>
              <a:ext cx="345960" cy="3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890800" y="2112840"/>
              <a:ext cx="260280" cy="20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2676600" y="4619520"/>
            <a:ext cx="344520" cy="333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3397320" y="2671920"/>
            <a:ext cx="345960" cy="333360"/>
            <a:chOff x="3397320" y="2671920"/>
            <a:chExt cx="345960" cy="333360"/>
          </a:xfrm>
        </p:grpSpPr>
        <p:sp>
          <p:nvSpPr>
            <p:cNvPr id="890" name=""/>
            <p:cNvSpPr/>
            <p:nvPr/>
          </p:nvSpPr>
          <p:spPr>
            <a:xfrm>
              <a:off x="3397320" y="2671920"/>
              <a:ext cx="345960" cy="3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568680" y="2671920"/>
              <a:ext cx="144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5407200" y="2671920"/>
            <a:ext cx="349200" cy="333360"/>
            <a:chOff x="5407200" y="2671920"/>
            <a:chExt cx="349200" cy="333360"/>
          </a:xfrm>
        </p:grpSpPr>
        <p:sp>
          <p:nvSpPr>
            <p:cNvPr id="893" name=""/>
            <p:cNvSpPr/>
            <p:nvPr/>
          </p:nvSpPr>
          <p:spPr>
            <a:xfrm>
              <a:off x="5407200" y="2671920"/>
              <a:ext cx="349200" cy="3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581800" y="2671920"/>
              <a:ext cx="144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2443320" y="3720960"/>
            <a:ext cx="349200" cy="333360"/>
            <a:chOff x="2443320" y="3720960"/>
            <a:chExt cx="349200" cy="333360"/>
          </a:xfrm>
        </p:grpSpPr>
        <p:sp>
          <p:nvSpPr>
            <p:cNvPr id="896" name=""/>
            <p:cNvSpPr/>
            <p:nvPr/>
          </p:nvSpPr>
          <p:spPr>
            <a:xfrm>
              <a:off x="2443320" y="3720960"/>
              <a:ext cx="349200" cy="3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90840" y="3784680"/>
              <a:ext cx="263520" cy="20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6262560" y="4013280"/>
            <a:ext cx="344520" cy="333360"/>
            <a:chOff x="6262560" y="4013280"/>
            <a:chExt cx="344520" cy="333360"/>
          </a:xfrm>
        </p:grpSpPr>
        <p:sp>
          <p:nvSpPr>
            <p:cNvPr id="899" name=""/>
            <p:cNvSpPr/>
            <p:nvPr/>
          </p:nvSpPr>
          <p:spPr>
            <a:xfrm>
              <a:off x="6262560" y="4013280"/>
              <a:ext cx="344520" cy="3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310440" y="4075200"/>
              <a:ext cx="260280" cy="20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6292800" y="1927080"/>
            <a:ext cx="349200" cy="333360"/>
            <a:chOff x="6292800" y="1927080"/>
            <a:chExt cx="349200" cy="333360"/>
          </a:xfrm>
        </p:grpSpPr>
        <p:sp>
          <p:nvSpPr>
            <p:cNvPr id="902" name=""/>
            <p:cNvSpPr/>
            <p:nvPr/>
          </p:nvSpPr>
          <p:spPr>
            <a:xfrm>
              <a:off x="6292800" y="1927080"/>
              <a:ext cx="349200" cy="3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340320" y="1990800"/>
              <a:ext cx="263520" cy="20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1868400" y="2436840"/>
            <a:ext cx="349200" cy="333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708200" y="3497400"/>
            <a:ext cx="345960" cy="333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604880" y="4317840"/>
            <a:ext cx="346320" cy="3366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778800" y="3247920"/>
            <a:ext cx="345960" cy="3366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991200" y="4440240"/>
            <a:ext cx="344520" cy="333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329080" y="4654440"/>
            <a:ext cx="344520" cy="333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939000" y="2422440"/>
            <a:ext cx="345960" cy="333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868400" y="2917800"/>
            <a:ext cx="346320" cy="3333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2190600" y="2836800"/>
            <a:ext cx="128592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960720" y="2506680"/>
            <a:ext cx="1289160" cy="2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063320" y="2558880"/>
            <a:ext cx="11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roncamento 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325680" y="1762200"/>
            <a:ext cx="1524240" cy="738000"/>
          </a:xfrm>
          <a:custGeom>
            <a:avLst/>
            <a:gdLst/>
            <a:ahLst/>
            <a:rect l="l" t="t" r="r" b="b"/>
            <a:pathLst>
              <a:path w="960" h="465">
                <a:moveTo>
                  <a:pt x="200" y="301"/>
                </a:moveTo>
                <a:lnTo>
                  <a:pt x="176" y="288"/>
                </a:lnTo>
                <a:lnTo>
                  <a:pt x="155" y="274"/>
                </a:lnTo>
                <a:lnTo>
                  <a:pt x="138" y="261"/>
                </a:lnTo>
                <a:lnTo>
                  <a:pt x="123" y="246"/>
                </a:lnTo>
                <a:lnTo>
                  <a:pt x="110" y="230"/>
                </a:lnTo>
                <a:lnTo>
                  <a:pt x="101" y="215"/>
                </a:lnTo>
                <a:lnTo>
                  <a:pt x="97" y="197"/>
                </a:lnTo>
                <a:lnTo>
                  <a:pt x="95" y="182"/>
                </a:lnTo>
                <a:lnTo>
                  <a:pt x="97" y="164"/>
                </a:lnTo>
                <a:lnTo>
                  <a:pt x="103" y="146"/>
                </a:lnTo>
                <a:lnTo>
                  <a:pt x="114" y="128"/>
                </a:lnTo>
                <a:lnTo>
                  <a:pt x="129" y="111"/>
                </a:lnTo>
                <a:lnTo>
                  <a:pt x="146" y="95"/>
                </a:lnTo>
                <a:lnTo>
                  <a:pt x="168" y="80"/>
                </a:lnTo>
                <a:lnTo>
                  <a:pt x="194" y="67"/>
                </a:lnTo>
                <a:lnTo>
                  <a:pt x="222" y="53"/>
                </a:lnTo>
                <a:lnTo>
                  <a:pt x="252" y="42"/>
                </a:lnTo>
                <a:lnTo>
                  <a:pt x="286" y="31"/>
                </a:lnTo>
                <a:lnTo>
                  <a:pt x="321" y="22"/>
                </a:lnTo>
                <a:lnTo>
                  <a:pt x="359" y="16"/>
                </a:lnTo>
                <a:lnTo>
                  <a:pt x="441" y="5"/>
                </a:lnTo>
                <a:lnTo>
                  <a:pt x="527" y="0"/>
                </a:lnTo>
                <a:lnTo>
                  <a:pt x="616" y="5"/>
                </a:lnTo>
                <a:lnTo>
                  <a:pt x="695" y="16"/>
                </a:lnTo>
                <a:lnTo>
                  <a:pt x="734" y="22"/>
                </a:lnTo>
                <a:lnTo>
                  <a:pt x="769" y="31"/>
                </a:lnTo>
                <a:lnTo>
                  <a:pt x="803" y="42"/>
                </a:lnTo>
                <a:lnTo>
                  <a:pt x="833" y="53"/>
                </a:lnTo>
                <a:lnTo>
                  <a:pt x="861" y="67"/>
                </a:lnTo>
                <a:lnTo>
                  <a:pt x="887" y="80"/>
                </a:lnTo>
                <a:lnTo>
                  <a:pt x="909" y="95"/>
                </a:lnTo>
                <a:lnTo>
                  <a:pt x="926" y="111"/>
                </a:lnTo>
                <a:lnTo>
                  <a:pt x="941" y="128"/>
                </a:lnTo>
                <a:lnTo>
                  <a:pt x="952" y="146"/>
                </a:lnTo>
                <a:lnTo>
                  <a:pt x="958" y="164"/>
                </a:lnTo>
                <a:lnTo>
                  <a:pt x="960" y="182"/>
                </a:lnTo>
                <a:lnTo>
                  <a:pt x="958" y="201"/>
                </a:lnTo>
                <a:lnTo>
                  <a:pt x="952" y="219"/>
                </a:lnTo>
                <a:lnTo>
                  <a:pt x="941" y="237"/>
                </a:lnTo>
                <a:lnTo>
                  <a:pt x="926" y="252"/>
                </a:lnTo>
                <a:lnTo>
                  <a:pt x="909" y="268"/>
                </a:lnTo>
                <a:lnTo>
                  <a:pt x="887" y="283"/>
                </a:lnTo>
                <a:lnTo>
                  <a:pt x="861" y="297"/>
                </a:lnTo>
                <a:lnTo>
                  <a:pt x="833" y="310"/>
                </a:lnTo>
                <a:lnTo>
                  <a:pt x="803" y="323"/>
                </a:lnTo>
                <a:lnTo>
                  <a:pt x="769" y="332"/>
                </a:lnTo>
                <a:lnTo>
                  <a:pt x="734" y="341"/>
                </a:lnTo>
                <a:lnTo>
                  <a:pt x="695" y="350"/>
                </a:lnTo>
                <a:lnTo>
                  <a:pt x="616" y="358"/>
                </a:lnTo>
                <a:lnTo>
                  <a:pt x="527" y="363"/>
                </a:lnTo>
                <a:lnTo>
                  <a:pt x="476" y="361"/>
                </a:lnTo>
                <a:lnTo>
                  <a:pt x="426" y="358"/>
                </a:lnTo>
                <a:lnTo>
                  <a:pt x="377" y="352"/>
                </a:lnTo>
                <a:lnTo>
                  <a:pt x="329" y="343"/>
                </a:lnTo>
                <a:lnTo>
                  <a:pt x="0" y="465"/>
                </a:lnTo>
                <a:lnTo>
                  <a:pt x="200" y="3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686040" y="1849320"/>
            <a:ext cx="9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ronc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692880" y="2025720"/>
            <a:ext cx="75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 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6708600" y="1039680"/>
            <a:ext cx="987480" cy="636840"/>
            <a:chOff x="6708600" y="1039680"/>
            <a:chExt cx="987480" cy="636840"/>
          </a:xfrm>
        </p:grpSpPr>
        <p:sp>
          <p:nvSpPr>
            <p:cNvPr id="919" name=""/>
            <p:cNvSpPr/>
            <p:nvPr/>
          </p:nvSpPr>
          <p:spPr>
            <a:xfrm>
              <a:off x="7046640" y="1338120"/>
              <a:ext cx="346320" cy="33840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708600" y="1204920"/>
              <a:ext cx="341280" cy="2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7272360" y="1039680"/>
              <a:ext cx="171360" cy="33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351560" y="1535040"/>
              <a:ext cx="34452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 flipV="1">
            <a:off x="7178760" y="2173320"/>
            <a:ext cx="260280" cy="2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 flipV="1">
            <a:off x="5086080" y="4156200"/>
            <a:ext cx="430200" cy="49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2511360" y="4819680"/>
            <a:ext cx="171360" cy="33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914560" y="4900680"/>
            <a:ext cx="428760" cy="16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 flipV="1">
            <a:off x="1382400" y="4321080"/>
            <a:ext cx="260280" cy="1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1625760" y="3825720"/>
            <a:ext cx="25704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1787400" y="2257560"/>
            <a:ext cx="169920" cy="2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22720" y="4075200"/>
            <a:ext cx="1120680" cy="414360"/>
          </a:xfrm>
          <a:custGeom>
            <a:avLst/>
            <a:gdLst/>
            <a:ahLst/>
            <a:rect l="l" t="t" r="r" b="b"/>
            <a:pathLst>
              <a:path w="706" h="261">
                <a:moveTo>
                  <a:pt x="79" y="0"/>
                </a:moveTo>
                <a:lnTo>
                  <a:pt x="49" y="5"/>
                </a:lnTo>
                <a:lnTo>
                  <a:pt x="23" y="14"/>
                </a:lnTo>
                <a:lnTo>
                  <a:pt x="13" y="20"/>
                </a:lnTo>
                <a:lnTo>
                  <a:pt x="6" y="27"/>
                </a:lnTo>
                <a:lnTo>
                  <a:pt x="2" y="34"/>
                </a:lnTo>
                <a:lnTo>
                  <a:pt x="0" y="42"/>
                </a:lnTo>
                <a:lnTo>
                  <a:pt x="0" y="151"/>
                </a:lnTo>
                <a:lnTo>
                  <a:pt x="0" y="217"/>
                </a:lnTo>
                <a:lnTo>
                  <a:pt x="2" y="226"/>
                </a:lnTo>
                <a:lnTo>
                  <a:pt x="6" y="235"/>
                </a:lnTo>
                <a:lnTo>
                  <a:pt x="13" y="241"/>
                </a:lnTo>
                <a:lnTo>
                  <a:pt x="23" y="248"/>
                </a:lnTo>
                <a:lnTo>
                  <a:pt x="49" y="257"/>
                </a:lnTo>
                <a:lnTo>
                  <a:pt x="79" y="261"/>
                </a:lnTo>
                <a:lnTo>
                  <a:pt x="284" y="261"/>
                </a:lnTo>
                <a:lnTo>
                  <a:pt x="405" y="261"/>
                </a:lnTo>
                <a:lnTo>
                  <a:pt x="437" y="257"/>
                </a:lnTo>
                <a:lnTo>
                  <a:pt x="463" y="248"/>
                </a:lnTo>
                <a:lnTo>
                  <a:pt x="473" y="241"/>
                </a:lnTo>
                <a:lnTo>
                  <a:pt x="480" y="235"/>
                </a:lnTo>
                <a:lnTo>
                  <a:pt x="484" y="226"/>
                </a:lnTo>
                <a:lnTo>
                  <a:pt x="486" y="217"/>
                </a:lnTo>
                <a:lnTo>
                  <a:pt x="706" y="171"/>
                </a:lnTo>
                <a:lnTo>
                  <a:pt x="486" y="151"/>
                </a:lnTo>
                <a:lnTo>
                  <a:pt x="486" y="42"/>
                </a:lnTo>
                <a:lnTo>
                  <a:pt x="484" y="34"/>
                </a:lnTo>
                <a:lnTo>
                  <a:pt x="480" y="27"/>
                </a:lnTo>
                <a:lnTo>
                  <a:pt x="473" y="20"/>
                </a:lnTo>
                <a:lnTo>
                  <a:pt x="463" y="14"/>
                </a:lnTo>
                <a:lnTo>
                  <a:pt x="437" y="5"/>
                </a:lnTo>
                <a:lnTo>
                  <a:pt x="405" y="0"/>
                </a:lnTo>
                <a:lnTo>
                  <a:pt x="284" y="0"/>
                </a:lnTo>
                <a:lnTo>
                  <a:pt x="7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266720" y="409716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ha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234680" y="4272120"/>
            <a:ext cx="60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n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879720" y="3247920"/>
            <a:ext cx="1135080" cy="676440"/>
          </a:xfrm>
          <a:custGeom>
            <a:avLst/>
            <a:gdLst/>
            <a:ahLst/>
            <a:rect l="l" t="t" r="r" b="b"/>
            <a:pathLst>
              <a:path w="715" h="426">
                <a:moveTo>
                  <a:pt x="99" y="0"/>
                </a:moveTo>
                <a:lnTo>
                  <a:pt x="60" y="4"/>
                </a:lnTo>
                <a:lnTo>
                  <a:pt x="43" y="6"/>
                </a:lnTo>
                <a:lnTo>
                  <a:pt x="30" y="13"/>
                </a:lnTo>
                <a:lnTo>
                  <a:pt x="17" y="19"/>
                </a:lnTo>
                <a:lnTo>
                  <a:pt x="8" y="26"/>
                </a:lnTo>
                <a:lnTo>
                  <a:pt x="2" y="35"/>
                </a:lnTo>
                <a:lnTo>
                  <a:pt x="0" y="44"/>
                </a:lnTo>
                <a:lnTo>
                  <a:pt x="0" y="152"/>
                </a:lnTo>
                <a:lnTo>
                  <a:pt x="0" y="218"/>
                </a:lnTo>
                <a:lnTo>
                  <a:pt x="2" y="227"/>
                </a:lnTo>
                <a:lnTo>
                  <a:pt x="8" y="234"/>
                </a:lnTo>
                <a:lnTo>
                  <a:pt x="17" y="241"/>
                </a:lnTo>
                <a:lnTo>
                  <a:pt x="30" y="247"/>
                </a:lnTo>
                <a:lnTo>
                  <a:pt x="43" y="254"/>
                </a:lnTo>
                <a:lnTo>
                  <a:pt x="60" y="256"/>
                </a:lnTo>
                <a:lnTo>
                  <a:pt x="99" y="261"/>
                </a:lnTo>
                <a:lnTo>
                  <a:pt x="346" y="261"/>
                </a:lnTo>
                <a:lnTo>
                  <a:pt x="715" y="426"/>
                </a:lnTo>
                <a:lnTo>
                  <a:pt x="495" y="261"/>
                </a:lnTo>
                <a:lnTo>
                  <a:pt x="534" y="256"/>
                </a:lnTo>
                <a:lnTo>
                  <a:pt x="551" y="254"/>
                </a:lnTo>
                <a:lnTo>
                  <a:pt x="566" y="247"/>
                </a:lnTo>
                <a:lnTo>
                  <a:pt x="577" y="241"/>
                </a:lnTo>
                <a:lnTo>
                  <a:pt x="588" y="234"/>
                </a:lnTo>
                <a:lnTo>
                  <a:pt x="592" y="227"/>
                </a:lnTo>
                <a:lnTo>
                  <a:pt x="594" y="218"/>
                </a:lnTo>
                <a:lnTo>
                  <a:pt x="594" y="152"/>
                </a:lnTo>
                <a:lnTo>
                  <a:pt x="594" y="44"/>
                </a:lnTo>
                <a:lnTo>
                  <a:pt x="592" y="35"/>
                </a:lnTo>
                <a:lnTo>
                  <a:pt x="588" y="26"/>
                </a:lnTo>
                <a:lnTo>
                  <a:pt x="577" y="19"/>
                </a:lnTo>
                <a:lnTo>
                  <a:pt x="566" y="13"/>
                </a:lnTo>
                <a:lnTo>
                  <a:pt x="551" y="6"/>
                </a:lnTo>
                <a:lnTo>
                  <a:pt x="534" y="4"/>
                </a:lnTo>
                <a:lnTo>
                  <a:pt x="495" y="0"/>
                </a:lnTo>
                <a:lnTo>
                  <a:pt x="346" y="0"/>
                </a:lnTo>
                <a:lnTo>
                  <a:pt x="99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100760" y="3268800"/>
            <a:ext cx="55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993120" y="3443400"/>
            <a:ext cx="78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Assin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609480" y="5029200"/>
            <a:ext cx="344520" cy="333360"/>
            <a:chOff x="609480" y="5029200"/>
            <a:chExt cx="344520" cy="333360"/>
          </a:xfrm>
        </p:grpSpPr>
        <p:sp>
          <p:nvSpPr>
            <p:cNvPr id="937" name=""/>
            <p:cNvSpPr/>
            <p:nvPr/>
          </p:nvSpPr>
          <p:spPr>
            <a:xfrm>
              <a:off x="609480" y="5029200"/>
              <a:ext cx="344520" cy="3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7000" y="5092560"/>
              <a:ext cx="260280" cy="20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09480" y="5443560"/>
            <a:ext cx="344520" cy="333360"/>
            <a:chOff x="609480" y="5443560"/>
            <a:chExt cx="344520" cy="333360"/>
          </a:xfrm>
        </p:grpSpPr>
        <p:sp>
          <p:nvSpPr>
            <p:cNvPr id="940" name=""/>
            <p:cNvSpPr/>
            <p:nvPr/>
          </p:nvSpPr>
          <p:spPr>
            <a:xfrm>
              <a:off x="609480" y="5443560"/>
              <a:ext cx="344520" cy="33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80840" y="5443560"/>
              <a:ext cx="1440" cy="33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609480" y="5854680"/>
            <a:ext cx="344520" cy="33660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1868400" y="5315040"/>
            <a:ext cx="14493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281960" y="5089680"/>
            <a:ext cx="98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Tan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288080" y="5505480"/>
            <a:ext cx="1192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Trânsito 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282320" y="5962680"/>
            <a:ext cx="83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23CBA-E908-4C4A-9A55-62F834A639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CLASSIFICAÇÃO DAS CENTRAIS</a:t>
            </a:r>
            <a:endParaRPr b="0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TRÂNS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TRÂNSITO INTERN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TRÂNSITO CLASS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TRÂNSITO CLASS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TRÂNSITO CLASSE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TRÂNSITO CLASSE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 TAND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A -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PA -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AD9EB-79BC-46C9-8B1F-B77E5AA36A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CENTRAIS TRÂNSITO - HIERARQUIA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809880" y="106668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cional: função única de encaminhar chamadas interna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 I: Trânsito Interurbana que se interliga com, pelo menos, uma central de trânsito internacional através de rota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e II: Trânsito Interurbana que se interliga uma central de trânsito classe I através de rota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 Final: Rota dimensionada com baixa probalidade de perda, não permitindo a existência de rotas altern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979560" y="1295280"/>
            <a:ext cx="2835360" cy="495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989CC-7C91-408A-B79B-2093DA57FF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NECESSIDADE DE COMUTAÇÃO???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graphicFrame>
        <p:nvGraphicFramePr>
          <p:cNvPr id="953" name=""/>
          <p:cNvGraphicFramePr/>
          <p:nvPr/>
        </p:nvGraphicFramePr>
        <p:xfrm>
          <a:off x="1523880" y="1095480"/>
          <a:ext cx="6172200" cy="52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095480"/>
                    <a:ext cx="617220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21C18-6582-4797-88AE-66DAE169B1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NECESSIDADE DA COMUTAÇÃO CENTRALIZADA</a:t>
            </a:r>
            <a:endParaRPr b="0" lang="en-US" sz="20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666880" y="1523880"/>
            <a:ext cx="1600200" cy="1676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1371240" y="1523880"/>
            <a:ext cx="1219320" cy="144792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447920" y="3048120"/>
            <a:ext cx="25905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990720" y="3124080"/>
            <a:ext cx="0" cy="18288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142640" y="1600200"/>
            <a:ext cx="1523880" cy="34290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1295280" y="3200400"/>
            <a:ext cx="2743200" cy="175248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666880" y="1523880"/>
            <a:ext cx="1447920" cy="35053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343400" y="3276720"/>
            <a:ext cx="0" cy="1828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371600" y="3048120"/>
            <a:ext cx="2743200" cy="22096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523880" y="5257800"/>
            <a:ext cx="259092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808160" y="1219320"/>
            <a:ext cx="39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ASSINANTES X PARES F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326640" y="17524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X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326640" y="220968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X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403680" y="48769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  X 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326640" y="28195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  X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326640" y="342900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X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326640" y="403848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  X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410440" y="571500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n x (n-1) /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2122560" y="117792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975" name="" descr=""/>
          <p:cNvPicPr/>
          <p:nvPr/>
        </p:nvPicPr>
        <p:blipFill>
          <a:blip r:embed="rId2"/>
          <a:stretch/>
        </p:blipFill>
        <p:spPr>
          <a:xfrm>
            <a:off x="3798720" y="25686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976" name="" descr=""/>
          <p:cNvPicPr/>
          <p:nvPr/>
        </p:nvPicPr>
        <p:blipFill>
          <a:blip r:embed="rId3"/>
          <a:stretch/>
        </p:blipFill>
        <p:spPr>
          <a:xfrm>
            <a:off x="520560" y="248292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977" name="" descr=""/>
          <p:cNvPicPr/>
          <p:nvPr/>
        </p:nvPicPr>
        <p:blipFill>
          <a:blip r:embed="rId4"/>
          <a:stretch/>
        </p:blipFill>
        <p:spPr>
          <a:xfrm>
            <a:off x="722160" y="461808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978" name="" descr=""/>
          <p:cNvPicPr/>
          <p:nvPr/>
        </p:nvPicPr>
        <p:blipFill>
          <a:blip r:embed="rId5"/>
          <a:stretch/>
        </p:blipFill>
        <p:spPr>
          <a:xfrm>
            <a:off x="3728880" y="4654440"/>
            <a:ext cx="1028880" cy="102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9DD3F-DF1F-4E6D-AB3F-D0A489BE20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COMUTAÇÃO CENTRALIZADA</a:t>
            </a:r>
            <a:endParaRPr b="0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Onde colocar o centro de fios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1676520" y="1886040"/>
          <a:ext cx="5181480" cy="437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86040"/>
                    <a:ext cx="5181480" cy="43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"/>
          <p:cNvSpPr/>
          <p:nvPr/>
        </p:nvSpPr>
        <p:spPr>
          <a:xfrm>
            <a:off x="569160" y="1219320"/>
            <a:ext cx="85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no qual a soma dos comprimentos das suas linhas seja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CAB2B-693F-449E-8714-D82FCD85C8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A CENTRAL 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61760" y="10666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é por volta de 1921 a comutação era realizada via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TELEFONIS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e usava uma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MESA OPERAD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aso anterior, podemos identificar 02 elementos bás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ME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OMUTAÇÃO FÍ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66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TELEFONIS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FUNÇÕES DE CONTROLE (INTELIGÊN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automatização iniciou-se pelas funções da telefon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AUTOMÁTICA: CONJUNTO DE ÓRGÃOS CAPAZES DE INTERPRETAR OS ALGARISMOS ENVIADOS PELO DISCO/TECLADO E ESTABELECER A LIGAÇÃO ENTRE DOIS ASSINANTES DA R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TAGENS: SIGILO, VELOCIDADE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5E125-C8CE-4DE6-AD8E-D68B73B183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6781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Funções Gerais da Central de Comutação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0720" y="1066680"/>
            <a:ext cx="869184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Times New Roman"/>
              </a:rPr>
              <a:t>Atendimento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Recepção de um pedido de serviço de um aparelho telefônico ou de u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central ( origem de uma chamada telefônic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cepção de Dígitos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Recepção do número do assinante cham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terpretação :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Análise do número recebido para determinar providências a tom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leção de caminhos  internos: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Seleção de um canal ou time slot (ou link)  ou um conjun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e canais ou time slots (ou links) na matriz de comutaçã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tabelecimento de caminho: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Controle dos elementos da matriz de comutação para est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lecer  um canal  físico para uma determinada chamada telefôn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Times New Roman"/>
              </a:rPr>
              <a:t>Alerta: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Sinais de campainha aos usuários chamado e chamad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pervisão: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Monitoração do chamador e do chamado para, logo após o término da ligaçã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esconectar e liberar o ca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Times New Roman"/>
              </a:rPr>
              <a:t>Transmissão da Informação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: No caso em que o telefone chamado estiver em outra centra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ão transmitidas informações de término da ligação para a outra centr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72D6D-CC55-43D2-965F-5818B56118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5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9000"/>
                            </p:stCondLst>
                            <p:childTnLst>
                              <p:par>
                                <p:cTn id="2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8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8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8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8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COMPONENTES DE UMA CENTRAL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495320" y="106668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 DE COMU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liza as conexões entre assinantes e/ou centrais, através de relés ou circuitos de comutação digita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alização entre assinantes e central e entre centrai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 DE C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e inteligente da comutaçã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a o sistema de comutação para que realize as conexões e envie as sinalizações corretam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951360" y="2747880"/>
            <a:ext cx="792000" cy="4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380880" y="2590920"/>
            <a:ext cx="4266720" cy="2350440"/>
            <a:chOff x="380880" y="2590920"/>
            <a:chExt cx="4266720" cy="2350440"/>
          </a:xfrm>
        </p:grpSpPr>
        <p:sp>
          <p:nvSpPr>
            <p:cNvPr id="992" name=""/>
            <p:cNvSpPr/>
            <p:nvPr/>
          </p:nvSpPr>
          <p:spPr>
            <a:xfrm>
              <a:off x="3698640" y="3078360"/>
              <a:ext cx="439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Outra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698640" y="3373560"/>
              <a:ext cx="549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entra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680480" y="2590920"/>
              <a:ext cx="1764360" cy="82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680480" y="4121280"/>
              <a:ext cx="1764360" cy="82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845280" y="2795400"/>
              <a:ext cx="835200" cy="303120"/>
            </a:xfrm>
            <a:custGeom>
              <a:avLst/>
              <a:gdLst/>
              <a:ahLst/>
              <a:rect l="l" t="t" r="r" b="b"/>
              <a:pathLst>
                <a:path w="407" h="148">
                  <a:moveTo>
                    <a:pt x="102" y="0"/>
                  </a:moveTo>
                  <a:lnTo>
                    <a:pt x="102" y="36"/>
                  </a:lnTo>
                  <a:lnTo>
                    <a:pt x="407" y="36"/>
                  </a:lnTo>
                  <a:lnTo>
                    <a:pt x="407" y="112"/>
                  </a:lnTo>
                  <a:lnTo>
                    <a:pt x="102" y="112"/>
                  </a:lnTo>
                  <a:lnTo>
                    <a:pt x="102" y="148"/>
                  </a:lnTo>
                  <a:lnTo>
                    <a:pt x="0" y="74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440160" y="2795400"/>
              <a:ext cx="929160" cy="303120"/>
            </a:xfrm>
            <a:custGeom>
              <a:avLst/>
              <a:gdLst/>
              <a:ahLst/>
              <a:rect l="l" t="t" r="r" b="b"/>
              <a:pathLst>
                <a:path w="453" h="148">
                  <a:moveTo>
                    <a:pt x="340" y="0"/>
                  </a:moveTo>
                  <a:lnTo>
                    <a:pt x="340" y="36"/>
                  </a:lnTo>
                  <a:lnTo>
                    <a:pt x="0" y="36"/>
                  </a:lnTo>
                  <a:lnTo>
                    <a:pt x="0" y="112"/>
                  </a:lnTo>
                  <a:lnTo>
                    <a:pt x="340" y="112"/>
                  </a:lnTo>
                  <a:lnTo>
                    <a:pt x="340" y="148"/>
                  </a:lnTo>
                  <a:lnTo>
                    <a:pt x="453" y="74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20280" y="3405600"/>
              <a:ext cx="279720" cy="715680"/>
            </a:xfrm>
            <a:custGeom>
              <a:avLst/>
              <a:gdLst/>
              <a:ahLst/>
              <a:rect l="l" t="t" r="r" b="b"/>
              <a:pathLst>
                <a:path w="137" h="350">
                  <a:moveTo>
                    <a:pt x="69" y="0"/>
                  </a:moveTo>
                  <a:lnTo>
                    <a:pt x="137" y="70"/>
                  </a:lnTo>
                  <a:lnTo>
                    <a:pt x="102" y="70"/>
                  </a:lnTo>
                  <a:lnTo>
                    <a:pt x="102" y="280"/>
                  </a:lnTo>
                  <a:lnTo>
                    <a:pt x="137" y="280"/>
                  </a:lnTo>
                  <a:lnTo>
                    <a:pt x="69" y="350"/>
                  </a:lnTo>
                  <a:lnTo>
                    <a:pt x="0" y="280"/>
                  </a:lnTo>
                  <a:lnTo>
                    <a:pt x="35" y="280"/>
                  </a:lnTo>
                  <a:lnTo>
                    <a:pt x="35" y="70"/>
                  </a:lnTo>
                  <a:lnTo>
                    <a:pt x="0" y="7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91040" y="4324320"/>
              <a:ext cx="556560" cy="41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214880" y="4403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"/>
            <p:cNvGrpSpPr/>
            <p:nvPr/>
          </p:nvGrpSpPr>
          <p:grpSpPr>
            <a:xfrm>
              <a:off x="3440160" y="4456800"/>
              <a:ext cx="649800" cy="145440"/>
              <a:chOff x="3440160" y="4456800"/>
              <a:chExt cx="649800" cy="145440"/>
            </a:xfrm>
          </p:grpSpPr>
          <p:sp>
            <p:nvSpPr>
              <p:cNvPr id="1002" name=""/>
              <p:cNvSpPr/>
              <p:nvPr/>
            </p:nvSpPr>
            <p:spPr>
              <a:xfrm>
                <a:off x="3556800" y="4529520"/>
                <a:ext cx="41436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440160" y="4456800"/>
                <a:ext cx="124920" cy="141480"/>
              </a:xfrm>
              <a:custGeom>
                <a:avLst/>
                <a:gdLst/>
                <a:ahLst/>
                <a:rect l="l" t="t" r="r" b="b"/>
                <a:pathLst>
                  <a:path w="61" h="70">
                    <a:moveTo>
                      <a:pt x="61" y="0"/>
                    </a:moveTo>
                    <a:lnTo>
                      <a:pt x="0" y="36"/>
                    </a:lnTo>
                    <a:lnTo>
                      <a:pt x="61" y="7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963240" y="4460760"/>
                <a:ext cx="126720" cy="141480"/>
              </a:xfrm>
              <a:custGeom>
                <a:avLst/>
                <a:gdLst/>
                <a:ahLst/>
                <a:rect l="l" t="t" r="r" b="b"/>
                <a:pathLst>
                  <a:path w="62" h="70">
                    <a:moveTo>
                      <a:pt x="0" y="70"/>
                    </a:moveTo>
                    <a:lnTo>
                      <a:pt x="62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"/>
            <p:cNvSpPr/>
            <p:nvPr/>
          </p:nvSpPr>
          <p:spPr>
            <a:xfrm>
              <a:off x="380880" y="2748600"/>
              <a:ext cx="469080" cy="41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41440" y="2828880"/>
              <a:ext cx="322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60440" y="3311640"/>
              <a:ext cx="71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ssinant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960920" y="2691360"/>
              <a:ext cx="1392120" cy="614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075040" y="2750040"/>
              <a:ext cx="96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SISTEMA D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017800" y="3001680"/>
              <a:ext cx="1061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OMUTAÇÃ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66960" y="4220280"/>
              <a:ext cx="1392120" cy="620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84320" y="4282560"/>
              <a:ext cx="96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SISTEMA D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038680" y="4533840"/>
              <a:ext cx="87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CONTRO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67BBA-8A86-4098-A17C-E197DC418B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"/>
          <p:cNvSpPr/>
          <p:nvPr/>
        </p:nvSpPr>
        <p:spPr>
          <a:xfrm>
            <a:off x="2133720" y="304920"/>
            <a:ext cx="662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PENETRAÇÃO DA TECNOLOGIA DIG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985680" y="1446120"/>
            <a:ext cx="7254720" cy="641520"/>
            <a:chOff x="985680" y="1446120"/>
            <a:chExt cx="7254720" cy="641520"/>
          </a:xfrm>
        </p:grpSpPr>
        <p:sp>
          <p:nvSpPr>
            <p:cNvPr id="1016" name=""/>
            <p:cNvSpPr/>
            <p:nvPr/>
          </p:nvSpPr>
          <p:spPr>
            <a:xfrm>
              <a:off x="1601640" y="177012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7" name=""/>
            <p:cNvGraphicFramePr/>
            <p:nvPr/>
          </p:nvGraphicFramePr>
          <p:xfrm>
            <a:off x="985680" y="1593720"/>
            <a:ext cx="855720" cy="493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85680" y="1593720"/>
                      <a:ext cx="855720" cy="4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9" name=""/>
            <p:cNvGraphicFramePr/>
            <p:nvPr/>
          </p:nvGraphicFramePr>
          <p:xfrm>
            <a:off x="7385040" y="1593720"/>
            <a:ext cx="855360" cy="493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85040" y="1593720"/>
                      <a:ext cx="855360" cy="4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1" name=""/>
            <p:cNvSpPr/>
            <p:nvPr/>
          </p:nvSpPr>
          <p:spPr>
            <a:xfrm>
              <a:off x="5946120" y="1542960"/>
              <a:ext cx="835200" cy="53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269600" y="1542960"/>
              <a:ext cx="834840" cy="53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423320" y="1619280"/>
              <a:ext cx="525600" cy="325440"/>
            </a:xfrm>
            <a:custGeom>
              <a:avLst/>
              <a:gdLst/>
              <a:ahLst/>
              <a:rect l="l" t="t" r="r" b="b"/>
              <a:pathLst>
                <a:path w="331" h="205">
                  <a:moveTo>
                    <a:pt x="0" y="109"/>
                  </a:moveTo>
                  <a:lnTo>
                    <a:pt x="0" y="122"/>
                  </a:lnTo>
                  <a:lnTo>
                    <a:pt x="5" y="131"/>
                  </a:lnTo>
                  <a:lnTo>
                    <a:pt x="5" y="138"/>
                  </a:lnTo>
                  <a:lnTo>
                    <a:pt x="5" y="143"/>
                  </a:lnTo>
                  <a:lnTo>
                    <a:pt x="5" y="145"/>
                  </a:lnTo>
                  <a:lnTo>
                    <a:pt x="10" y="150"/>
                  </a:lnTo>
                  <a:lnTo>
                    <a:pt x="15" y="159"/>
                  </a:lnTo>
                  <a:lnTo>
                    <a:pt x="20" y="170"/>
                  </a:lnTo>
                  <a:lnTo>
                    <a:pt x="20" y="179"/>
                  </a:lnTo>
                  <a:lnTo>
                    <a:pt x="20" y="181"/>
                  </a:lnTo>
                  <a:lnTo>
                    <a:pt x="25" y="184"/>
                  </a:lnTo>
                  <a:lnTo>
                    <a:pt x="40" y="190"/>
                  </a:lnTo>
                  <a:lnTo>
                    <a:pt x="45" y="193"/>
                  </a:lnTo>
                  <a:lnTo>
                    <a:pt x="50" y="195"/>
                  </a:lnTo>
                  <a:lnTo>
                    <a:pt x="60" y="197"/>
                  </a:lnTo>
                  <a:lnTo>
                    <a:pt x="65" y="202"/>
                  </a:lnTo>
                  <a:lnTo>
                    <a:pt x="70" y="204"/>
                  </a:lnTo>
                  <a:lnTo>
                    <a:pt x="95" y="202"/>
                  </a:lnTo>
                  <a:lnTo>
                    <a:pt x="115" y="197"/>
                  </a:lnTo>
                  <a:lnTo>
                    <a:pt x="125" y="197"/>
                  </a:lnTo>
                  <a:lnTo>
                    <a:pt x="130" y="195"/>
                  </a:lnTo>
                  <a:lnTo>
                    <a:pt x="130" y="188"/>
                  </a:lnTo>
                  <a:lnTo>
                    <a:pt x="130" y="179"/>
                  </a:lnTo>
                  <a:lnTo>
                    <a:pt x="140" y="175"/>
                  </a:lnTo>
                  <a:lnTo>
                    <a:pt x="145" y="170"/>
                  </a:lnTo>
                  <a:lnTo>
                    <a:pt x="150" y="150"/>
                  </a:lnTo>
                  <a:lnTo>
                    <a:pt x="160" y="127"/>
                  </a:lnTo>
                  <a:lnTo>
                    <a:pt x="165" y="79"/>
                  </a:lnTo>
                  <a:lnTo>
                    <a:pt x="175" y="57"/>
                  </a:lnTo>
                  <a:lnTo>
                    <a:pt x="185" y="38"/>
                  </a:lnTo>
                  <a:lnTo>
                    <a:pt x="190" y="29"/>
                  </a:lnTo>
                  <a:lnTo>
                    <a:pt x="190" y="23"/>
                  </a:lnTo>
                  <a:lnTo>
                    <a:pt x="200" y="9"/>
                  </a:lnTo>
                  <a:lnTo>
                    <a:pt x="210" y="2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50" y="0"/>
                  </a:lnTo>
                  <a:lnTo>
                    <a:pt x="280" y="4"/>
                  </a:lnTo>
                  <a:lnTo>
                    <a:pt x="285" y="7"/>
                  </a:lnTo>
                  <a:lnTo>
                    <a:pt x="285" y="11"/>
                  </a:lnTo>
                  <a:lnTo>
                    <a:pt x="285" y="16"/>
                  </a:lnTo>
                  <a:lnTo>
                    <a:pt x="290" y="18"/>
                  </a:lnTo>
                  <a:lnTo>
                    <a:pt x="295" y="20"/>
                  </a:lnTo>
                  <a:lnTo>
                    <a:pt x="300" y="23"/>
                  </a:lnTo>
                  <a:lnTo>
                    <a:pt x="310" y="32"/>
                  </a:lnTo>
                  <a:lnTo>
                    <a:pt x="320" y="36"/>
                  </a:lnTo>
                  <a:lnTo>
                    <a:pt x="320" y="43"/>
                  </a:lnTo>
                  <a:lnTo>
                    <a:pt x="325" y="61"/>
                  </a:lnTo>
                  <a:lnTo>
                    <a:pt x="325" y="79"/>
                  </a:lnTo>
                  <a:lnTo>
                    <a:pt x="325" y="88"/>
                  </a:lnTo>
                  <a:lnTo>
                    <a:pt x="330" y="95"/>
                  </a:lnTo>
                  <a:lnTo>
                    <a:pt x="330" y="104"/>
                  </a:lnTo>
                  <a:lnTo>
                    <a:pt x="330" y="107"/>
                  </a:lnTo>
                  <a:lnTo>
                    <a:pt x="330" y="109"/>
                  </a:lnTo>
                  <a:lnTo>
                    <a:pt x="330" y="109"/>
                  </a:lnTo>
                  <a:lnTo>
                    <a:pt x="330" y="111"/>
                  </a:lnTo>
                  <a:lnTo>
                    <a:pt x="330" y="116"/>
                  </a:lnTo>
                  <a:lnTo>
                    <a:pt x="330" y="1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102000" y="1617840"/>
              <a:ext cx="531720" cy="307800"/>
            </a:xfrm>
            <a:custGeom>
              <a:avLst/>
              <a:gdLst/>
              <a:ahLst/>
              <a:rect l="l" t="t" r="r" b="b"/>
              <a:pathLst>
                <a:path w="335" h="194">
                  <a:moveTo>
                    <a:pt x="0" y="103"/>
                  </a:moveTo>
                  <a:lnTo>
                    <a:pt x="0" y="117"/>
                  </a:lnTo>
                  <a:lnTo>
                    <a:pt x="0" y="126"/>
                  </a:lnTo>
                  <a:lnTo>
                    <a:pt x="0" y="130"/>
                  </a:lnTo>
                  <a:lnTo>
                    <a:pt x="0" y="135"/>
                  </a:lnTo>
                  <a:lnTo>
                    <a:pt x="7" y="139"/>
                  </a:lnTo>
                  <a:lnTo>
                    <a:pt x="7" y="144"/>
                  </a:lnTo>
                  <a:lnTo>
                    <a:pt x="13" y="150"/>
                  </a:lnTo>
                  <a:lnTo>
                    <a:pt x="20" y="162"/>
                  </a:lnTo>
                  <a:lnTo>
                    <a:pt x="20" y="168"/>
                  </a:lnTo>
                  <a:lnTo>
                    <a:pt x="27" y="175"/>
                  </a:lnTo>
                  <a:lnTo>
                    <a:pt x="40" y="180"/>
                  </a:lnTo>
                  <a:lnTo>
                    <a:pt x="47" y="182"/>
                  </a:lnTo>
                  <a:lnTo>
                    <a:pt x="53" y="184"/>
                  </a:lnTo>
                  <a:lnTo>
                    <a:pt x="60" y="189"/>
                  </a:lnTo>
                  <a:lnTo>
                    <a:pt x="67" y="191"/>
                  </a:lnTo>
                  <a:lnTo>
                    <a:pt x="67" y="193"/>
                  </a:lnTo>
                  <a:lnTo>
                    <a:pt x="93" y="191"/>
                  </a:lnTo>
                  <a:lnTo>
                    <a:pt x="113" y="189"/>
                  </a:lnTo>
                  <a:lnTo>
                    <a:pt x="120" y="186"/>
                  </a:lnTo>
                  <a:lnTo>
                    <a:pt x="127" y="184"/>
                  </a:lnTo>
                  <a:lnTo>
                    <a:pt x="127" y="177"/>
                  </a:lnTo>
                  <a:lnTo>
                    <a:pt x="134" y="168"/>
                  </a:lnTo>
                  <a:lnTo>
                    <a:pt x="140" y="166"/>
                  </a:lnTo>
                  <a:lnTo>
                    <a:pt x="140" y="162"/>
                  </a:lnTo>
                  <a:lnTo>
                    <a:pt x="147" y="150"/>
                  </a:lnTo>
                  <a:lnTo>
                    <a:pt x="154" y="141"/>
                  </a:lnTo>
                  <a:lnTo>
                    <a:pt x="154" y="132"/>
                  </a:lnTo>
                  <a:lnTo>
                    <a:pt x="160" y="121"/>
                  </a:lnTo>
                  <a:lnTo>
                    <a:pt x="167" y="76"/>
                  </a:lnTo>
                  <a:lnTo>
                    <a:pt x="174" y="54"/>
                  </a:lnTo>
                  <a:lnTo>
                    <a:pt x="187" y="36"/>
                  </a:lnTo>
                  <a:lnTo>
                    <a:pt x="187" y="22"/>
                  </a:lnTo>
                  <a:lnTo>
                    <a:pt x="200" y="9"/>
                  </a:lnTo>
                  <a:lnTo>
                    <a:pt x="214" y="2"/>
                  </a:lnTo>
                  <a:lnTo>
                    <a:pt x="220" y="0"/>
                  </a:lnTo>
                  <a:lnTo>
                    <a:pt x="254" y="2"/>
                  </a:lnTo>
                  <a:lnTo>
                    <a:pt x="267" y="2"/>
                  </a:lnTo>
                  <a:lnTo>
                    <a:pt x="281" y="4"/>
                  </a:lnTo>
                  <a:lnTo>
                    <a:pt x="281" y="6"/>
                  </a:lnTo>
                  <a:lnTo>
                    <a:pt x="287" y="11"/>
                  </a:lnTo>
                  <a:lnTo>
                    <a:pt x="287" y="15"/>
                  </a:lnTo>
                  <a:lnTo>
                    <a:pt x="287" y="18"/>
                  </a:lnTo>
                  <a:lnTo>
                    <a:pt x="294" y="20"/>
                  </a:lnTo>
                  <a:lnTo>
                    <a:pt x="301" y="22"/>
                  </a:lnTo>
                  <a:lnTo>
                    <a:pt x="314" y="31"/>
                  </a:lnTo>
                  <a:lnTo>
                    <a:pt x="314" y="36"/>
                  </a:lnTo>
                  <a:lnTo>
                    <a:pt x="321" y="40"/>
                  </a:lnTo>
                  <a:lnTo>
                    <a:pt x="321" y="58"/>
                  </a:lnTo>
                  <a:lnTo>
                    <a:pt x="321" y="76"/>
                  </a:lnTo>
                  <a:lnTo>
                    <a:pt x="321" y="85"/>
                  </a:lnTo>
                  <a:lnTo>
                    <a:pt x="327" y="92"/>
                  </a:lnTo>
                  <a:lnTo>
                    <a:pt x="327" y="99"/>
                  </a:lnTo>
                  <a:lnTo>
                    <a:pt x="334" y="103"/>
                  </a:lnTo>
                  <a:lnTo>
                    <a:pt x="334" y="103"/>
                  </a:lnTo>
                  <a:lnTo>
                    <a:pt x="334" y="103"/>
                  </a:lnTo>
                  <a:lnTo>
                    <a:pt x="334" y="105"/>
                  </a:lnTo>
                  <a:lnTo>
                    <a:pt x="334" y="110"/>
                  </a:lnTo>
                  <a:lnTo>
                    <a:pt x="334" y="12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828800" y="1446120"/>
              <a:ext cx="380880" cy="250920"/>
            </a:xfrm>
            <a:custGeom>
              <a:avLst/>
              <a:gdLst/>
              <a:ahLst/>
              <a:rect l="l" t="t" r="r" b="b"/>
              <a:pathLst>
                <a:path w="240" h="158">
                  <a:moveTo>
                    <a:pt x="0" y="84"/>
                  </a:moveTo>
                  <a:lnTo>
                    <a:pt x="3" y="94"/>
                  </a:lnTo>
                  <a:lnTo>
                    <a:pt x="3" y="103"/>
                  </a:lnTo>
                  <a:lnTo>
                    <a:pt x="3" y="107"/>
                  </a:lnTo>
                  <a:lnTo>
                    <a:pt x="5" y="109"/>
                  </a:lnTo>
                  <a:lnTo>
                    <a:pt x="5" y="113"/>
                  </a:lnTo>
                  <a:lnTo>
                    <a:pt x="7" y="117"/>
                  </a:lnTo>
                  <a:lnTo>
                    <a:pt x="9" y="121"/>
                  </a:lnTo>
                  <a:lnTo>
                    <a:pt x="14" y="131"/>
                  </a:lnTo>
                  <a:lnTo>
                    <a:pt x="16" y="137"/>
                  </a:lnTo>
                  <a:lnTo>
                    <a:pt x="20" y="143"/>
                  </a:lnTo>
                  <a:lnTo>
                    <a:pt x="27" y="145"/>
                  </a:lnTo>
                  <a:lnTo>
                    <a:pt x="29" y="147"/>
                  </a:lnTo>
                  <a:lnTo>
                    <a:pt x="34" y="149"/>
                  </a:lnTo>
                  <a:lnTo>
                    <a:pt x="38" y="151"/>
                  </a:lnTo>
                  <a:lnTo>
                    <a:pt x="45" y="153"/>
                  </a:lnTo>
                  <a:lnTo>
                    <a:pt x="49" y="155"/>
                  </a:lnTo>
                  <a:lnTo>
                    <a:pt x="52" y="157"/>
                  </a:lnTo>
                  <a:lnTo>
                    <a:pt x="69" y="155"/>
                  </a:lnTo>
                  <a:lnTo>
                    <a:pt x="85" y="153"/>
                  </a:lnTo>
                  <a:lnTo>
                    <a:pt x="89" y="153"/>
                  </a:lnTo>
                  <a:lnTo>
                    <a:pt x="94" y="149"/>
                  </a:lnTo>
                  <a:lnTo>
                    <a:pt x="94" y="145"/>
                  </a:lnTo>
                  <a:lnTo>
                    <a:pt x="94" y="139"/>
                  </a:lnTo>
                  <a:lnTo>
                    <a:pt x="98" y="135"/>
                  </a:lnTo>
                  <a:lnTo>
                    <a:pt x="103" y="131"/>
                  </a:lnTo>
                  <a:lnTo>
                    <a:pt x="110" y="115"/>
                  </a:lnTo>
                  <a:lnTo>
                    <a:pt x="114" y="98"/>
                  </a:lnTo>
                  <a:lnTo>
                    <a:pt x="121" y="62"/>
                  </a:lnTo>
                  <a:lnTo>
                    <a:pt x="125" y="44"/>
                  </a:lnTo>
                  <a:lnTo>
                    <a:pt x="134" y="30"/>
                  </a:lnTo>
                  <a:lnTo>
                    <a:pt x="136" y="18"/>
                  </a:lnTo>
                  <a:lnTo>
                    <a:pt x="138" y="12"/>
                  </a:lnTo>
                  <a:lnTo>
                    <a:pt x="143" y="8"/>
                  </a:lnTo>
                  <a:lnTo>
                    <a:pt x="154" y="2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81" y="2"/>
                  </a:lnTo>
                  <a:lnTo>
                    <a:pt x="192" y="2"/>
                  </a:lnTo>
                  <a:lnTo>
                    <a:pt x="201" y="4"/>
                  </a:lnTo>
                  <a:lnTo>
                    <a:pt x="205" y="10"/>
                  </a:lnTo>
                  <a:lnTo>
                    <a:pt x="210" y="16"/>
                  </a:lnTo>
                  <a:lnTo>
                    <a:pt x="214" y="18"/>
                  </a:lnTo>
                  <a:lnTo>
                    <a:pt x="216" y="18"/>
                  </a:lnTo>
                  <a:lnTo>
                    <a:pt x="223" y="26"/>
                  </a:lnTo>
                  <a:lnTo>
                    <a:pt x="228" y="30"/>
                  </a:lnTo>
                  <a:lnTo>
                    <a:pt x="230" y="34"/>
                  </a:lnTo>
                  <a:lnTo>
                    <a:pt x="232" y="48"/>
                  </a:lnTo>
                  <a:lnTo>
                    <a:pt x="232" y="62"/>
                  </a:lnTo>
                  <a:lnTo>
                    <a:pt x="234" y="74"/>
                  </a:lnTo>
                  <a:lnTo>
                    <a:pt x="237" y="80"/>
                  </a:lnTo>
                  <a:lnTo>
                    <a:pt x="239" y="82"/>
                  </a:lnTo>
                  <a:lnTo>
                    <a:pt x="239" y="84"/>
                  </a:lnTo>
                  <a:lnTo>
                    <a:pt x="239" y="84"/>
                  </a:lnTo>
                  <a:lnTo>
                    <a:pt x="239" y="84"/>
                  </a:lnTo>
                  <a:lnTo>
                    <a:pt x="239" y="88"/>
                  </a:lnTo>
                  <a:lnTo>
                    <a:pt x="239" y="9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583440" y="1446120"/>
              <a:ext cx="376200" cy="250920"/>
            </a:xfrm>
            <a:custGeom>
              <a:avLst/>
              <a:gdLst/>
              <a:ahLst/>
              <a:rect l="l" t="t" r="r" b="b"/>
              <a:pathLst>
                <a:path w="237" h="158">
                  <a:moveTo>
                    <a:pt x="0" y="84"/>
                  </a:moveTo>
                  <a:lnTo>
                    <a:pt x="0" y="94"/>
                  </a:lnTo>
                  <a:lnTo>
                    <a:pt x="4" y="103"/>
                  </a:lnTo>
                  <a:lnTo>
                    <a:pt x="4" y="107"/>
                  </a:lnTo>
                  <a:lnTo>
                    <a:pt x="4" y="109"/>
                  </a:lnTo>
                  <a:lnTo>
                    <a:pt x="4" y="113"/>
                  </a:lnTo>
                  <a:lnTo>
                    <a:pt x="4" y="117"/>
                  </a:lnTo>
                  <a:lnTo>
                    <a:pt x="8" y="121"/>
                  </a:lnTo>
                  <a:lnTo>
                    <a:pt x="12" y="131"/>
                  </a:lnTo>
                  <a:lnTo>
                    <a:pt x="16" y="137"/>
                  </a:lnTo>
                  <a:lnTo>
                    <a:pt x="20" y="143"/>
                  </a:lnTo>
                  <a:lnTo>
                    <a:pt x="28" y="147"/>
                  </a:lnTo>
                  <a:lnTo>
                    <a:pt x="32" y="149"/>
                  </a:lnTo>
                  <a:lnTo>
                    <a:pt x="36" y="151"/>
                  </a:lnTo>
                  <a:lnTo>
                    <a:pt x="44" y="153"/>
                  </a:lnTo>
                  <a:lnTo>
                    <a:pt x="48" y="155"/>
                  </a:lnTo>
                  <a:lnTo>
                    <a:pt x="52" y="157"/>
                  </a:lnTo>
                  <a:lnTo>
                    <a:pt x="68" y="155"/>
                  </a:lnTo>
                  <a:lnTo>
                    <a:pt x="84" y="153"/>
                  </a:lnTo>
                  <a:lnTo>
                    <a:pt x="88" y="153"/>
                  </a:lnTo>
                  <a:lnTo>
                    <a:pt x="92" y="149"/>
                  </a:lnTo>
                  <a:lnTo>
                    <a:pt x="92" y="145"/>
                  </a:lnTo>
                  <a:lnTo>
                    <a:pt x="92" y="139"/>
                  </a:lnTo>
                  <a:lnTo>
                    <a:pt x="96" y="135"/>
                  </a:lnTo>
                  <a:lnTo>
                    <a:pt x="100" y="131"/>
                  </a:lnTo>
                  <a:lnTo>
                    <a:pt x="108" y="115"/>
                  </a:lnTo>
                  <a:lnTo>
                    <a:pt x="112" y="98"/>
                  </a:lnTo>
                  <a:lnTo>
                    <a:pt x="120" y="62"/>
                  </a:lnTo>
                  <a:lnTo>
                    <a:pt x="124" y="44"/>
                  </a:lnTo>
                  <a:lnTo>
                    <a:pt x="132" y="30"/>
                  </a:lnTo>
                  <a:lnTo>
                    <a:pt x="136" y="18"/>
                  </a:lnTo>
                  <a:lnTo>
                    <a:pt x="144" y="8"/>
                  </a:lnTo>
                  <a:lnTo>
                    <a:pt x="152" y="2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80" y="2"/>
                  </a:lnTo>
                  <a:lnTo>
                    <a:pt x="192" y="2"/>
                  </a:lnTo>
                  <a:lnTo>
                    <a:pt x="200" y="4"/>
                  </a:lnTo>
                  <a:lnTo>
                    <a:pt x="204" y="10"/>
                  </a:lnTo>
                  <a:lnTo>
                    <a:pt x="208" y="16"/>
                  </a:lnTo>
                  <a:lnTo>
                    <a:pt x="212" y="18"/>
                  </a:lnTo>
                  <a:lnTo>
                    <a:pt x="216" y="18"/>
                  </a:lnTo>
                  <a:lnTo>
                    <a:pt x="224" y="26"/>
                  </a:lnTo>
                  <a:lnTo>
                    <a:pt x="228" y="30"/>
                  </a:lnTo>
                  <a:lnTo>
                    <a:pt x="228" y="34"/>
                  </a:lnTo>
                  <a:lnTo>
                    <a:pt x="232" y="48"/>
                  </a:lnTo>
                  <a:lnTo>
                    <a:pt x="232" y="62"/>
                  </a:lnTo>
                  <a:lnTo>
                    <a:pt x="236" y="74"/>
                  </a:lnTo>
                  <a:lnTo>
                    <a:pt x="236" y="80"/>
                  </a:lnTo>
                  <a:lnTo>
                    <a:pt x="236" y="82"/>
                  </a:lnTo>
                  <a:lnTo>
                    <a:pt x="236" y="84"/>
                  </a:lnTo>
                  <a:lnTo>
                    <a:pt x="236" y="84"/>
                  </a:lnTo>
                  <a:lnTo>
                    <a:pt x="236" y="84"/>
                  </a:lnTo>
                  <a:lnTo>
                    <a:pt x="236" y="88"/>
                  </a:lnTo>
                  <a:lnTo>
                    <a:pt x="236" y="9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414400" y="1465200"/>
              <a:ext cx="380880" cy="250920"/>
            </a:xfrm>
            <a:custGeom>
              <a:avLst/>
              <a:gdLst/>
              <a:ahLst/>
              <a:rect l="l" t="t" r="r" b="b"/>
              <a:pathLst>
                <a:path w="240" h="158">
                  <a:moveTo>
                    <a:pt x="0" y="84"/>
                  </a:moveTo>
                  <a:lnTo>
                    <a:pt x="0" y="94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5" y="116"/>
                  </a:lnTo>
                  <a:lnTo>
                    <a:pt x="5" y="122"/>
                  </a:lnTo>
                  <a:lnTo>
                    <a:pt x="11" y="131"/>
                  </a:lnTo>
                  <a:lnTo>
                    <a:pt x="11" y="137"/>
                  </a:lnTo>
                  <a:lnTo>
                    <a:pt x="17" y="143"/>
                  </a:lnTo>
                  <a:lnTo>
                    <a:pt x="29" y="147"/>
                  </a:lnTo>
                  <a:lnTo>
                    <a:pt x="29" y="149"/>
                  </a:lnTo>
                  <a:lnTo>
                    <a:pt x="35" y="151"/>
                  </a:lnTo>
                  <a:lnTo>
                    <a:pt x="40" y="153"/>
                  </a:lnTo>
                  <a:lnTo>
                    <a:pt x="46" y="155"/>
                  </a:lnTo>
                  <a:lnTo>
                    <a:pt x="52" y="157"/>
                  </a:lnTo>
                  <a:lnTo>
                    <a:pt x="70" y="155"/>
                  </a:lnTo>
                  <a:lnTo>
                    <a:pt x="81" y="153"/>
                  </a:lnTo>
                  <a:lnTo>
                    <a:pt x="87" y="153"/>
                  </a:lnTo>
                  <a:lnTo>
                    <a:pt x="93" y="149"/>
                  </a:lnTo>
                  <a:lnTo>
                    <a:pt x="93" y="145"/>
                  </a:lnTo>
                  <a:lnTo>
                    <a:pt x="93" y="139"/>
                  </a:lnTo>
                  <a:lnTo>
                    <a:pt x="99" y="135"/>
                  </a:lnTo>
                  <a:lnTo>
                    <a:pt x="99" y="131"/>
                  </a:lnTo>
                  <a:lnTo>
                    <a:pt x="105" y="114"/>
                  </a:lnTo>
                  <a:lnTo>
                    <a:pt x="111" y="98"/>
                  </a:lnTo>
                  <a:lnTo>
                    <a:pt x="116" y="61"/>
                  </a:lnTo>
                  <a:lnTo>
                    <a:pt x="122" y="43"/>
                  </a:lnTo>
                  <a:lnTo>
                    <a:pt x="134" y="29"/>
                  </a:lnTo>
                  <a:lnTo>
                    <a:pt x="134" y="23"/>
                  </a:lnTo>
                  <a:lnTo>
                    <a:pt x="134" y="16"/>
                  </a:lnTo>
                  <a:lnTo>
                    <a:pt x="140" y="8"/>
                  </a:lnTo>
                  <a:lnTo>
                    <a:pt x="151" y="2"/>
                  </a:lnTo>
                  <a:lnTo>
                    <a:pt x="157" y="0"/>
                  </a:lnTo>
                  <a:lnTo>
                    <a:pt x="181" y="2"/>
                  </a:lnTo>
                  <a:lnTo>
                    <a:pt x="192" y="2"/>
                  </a:lnTo>
                  <a:lnTo>
                    <a:pt x="198" y="4"/>
                  </a:lnTo>
                  <a:lnTo>
                    <a:pt x="204" y="6"/>
                  </a:lnTo>
                  <a:lnTo>
                    <a:pt x="204" y="8"/>
                  </a:lnTo>
                  <a:lnTo>
                    <a:pt x="204" y="12"/>
                  </a:lnTo>
                  <a:lnTo>
                    <a:pt x="210" y="14"/>
                  </a:lnTo>
                  <a:lnTo>
                    <a:pt x="210" y="16"/>
                  </a:lnTo>
                  <a:lnTo>
                    <a:pt x="216" y="18"/>
                  </a:lnTo>
                  <a:lnTo>
                    <a:pt x="221" y="27"/>
                  </a:lnTo>
                  <a:lnTo>
                    <a:pt x="227" y="33"/>
                  </a:lnTo>
                  <a:lnTo>
                    <a:pt x="233" y="47"/>
                  </a:lnTo>
                  <a:lnTo>
                    <a:pt x="233" y="61"/>
                  </a:lnTo>
                  <a:lnTo>
                    <a:pt x="233" y="73"/>
                  </a:lnTo>
                  <a:lnTo>
                    <a:pt x="239" y="80"/>
                  </a:lnTo>
                  <a:lnTo>
                    <a:pt x="239" y="82"/>
                  </a:lnTo>
                  <a:lnTo>
                    <a:pt x="239" y="84"/>
                  </a:lnTo>
                  <a:lnTo>
                    <a:pt x="239" y="84"/>
                  </a:lnTo>
                  <a:lnTo>
                    <a:pt x="239" y="84"/>
                  </a:lnTo>
                  <a:lnTo>
                    <a:pt x="239" y="88"/>
                  </a:lnTo>
                  <a:lnTo>
                    <a:pt x="239" y="9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016760" y="1465200"/>
              <a:ext cx="379080" cy="250920"/>
            </a:xfrm>
            <a:custGeom>
              <a:avLst/>
              <a:gdLst/>
              <a:ahLst/>
              <a:rect l="l" t="t" r="r" b="b"/>
              <a:pathLst>
                <a:path w="239" h="158">
                  <a:moveTo>
                    <a:pt x="0" y="84"/>
                  </a:moveTo>
                  <a:lnTo>
                    <a:pt x="0" y="94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7" y="116"/>
                  </a:lnTo>
                  <a:lnTo>
                    <a:pt x="7" y="122"/>
                  </a:lnTo>
                  <a:lnTo>
                    <a:pt x="14" y="131"/>
                  </a:lnTo>
                  <a:lnTo>
                    <a:pt x="14" y="137"/>
                  </a:lnTo>
                  <a:lnTo>
                    <a:pt x="14" y="143"/>
                  </a:lnTo>
                  <a:lnTo>
                    <a:pt x="29" y="147"/>
                  </a:lnTo>
                  <a:lnTo>
                    <a:pt x="29" y="149"/>
                  </a:lnTo>
                  <a:lnTo>
                    <a:pt x="37" y="151"/>
                  </a:lnTo>
                  <a:lnTo>
                    <a:pt x="44" y="153"/>
                  </a:lnTo>
                  <a:lnTo>
                    <a:pt x="52" y="155"/>
                  </a:lnTo>
                  <a:lnTo>
                    <a:pt x="52" y="157"/>
                  </a:lnTo>
                  <a:lnTo>
                    <a:pt x="67" y="155"/>
                  </a:lnTo>
                  <a:lnTo>
                    <a:pt x="82" y="153"/>
                  </a:lnTo>
                  <a:lnTo>
                    <a:pt x="89" y="153"/>
                  </a:lnTo>
                  <a:lnTo>
                    <a:pt x="89" y="149"/>
                  </a:lnTo>
                  <a:lnTo>
                    <a:pt x="89" y="145"/>
                  </a:lnTo>
                  <a:lnTo>
                    <a:pt x="89" y="139"/>
                  </a:lnTo>
                  <a:lnTo>
                    <a:pt x="96" y="135"/>
                  </a:lnTo>
                  <a:lnTo>
                    <a:pt x="96" y="131"/>
                  </a:lnTo>
                  <a:lnTo>
                    <a:pt x="104" y="114"/>
                  </a:lnTo>
                  <a:lnTo>
                    <a:pt x="111" y="98"/>
                  </a:lnTo>
                  <a:lnTo>
                    <a:pt x="119" y="61"/>
                  </a:lnTo>
                  <a:lnTo>
                    <a:pt x="126" y="43"/>
                  </a:lnTo>
                  <a:lnTo>
                    <a:pt x="134" y="29"/>
                  </a:lnTo>
                  <a:lnTo>
                    <a:pt x="134" y="23"/>
                  </a:lnTo>
                  <a:lnTo>
                    <a:pt x="134" y="16"/>
                  </a:lnTo>
                  <a:lnTo>
                    <a:pt x="141" y="8"/>
                  </a:lnTo>
                  <a:lnTo>
                    <a:pt x="149" y="2"/>
                  </a:lnTo>
                  <a:lnTo>
                    <a:pt x="156" y="0"/>
                  </a:lnTo>
                  <a:lnTo>
                    <a:pt x="178" y="2"/>
                  </a:lnTo>
                  <a:lnTo>
                    <a:pt x="193" y="2"/>
                  </a:lnTo>
                  <a:lnTo>
                    <a:pt x="201" y="4"/>
                  </a:lnTo>
                  <a:lnTo>
                    <a:pt x="201" y="6"/>
                  </a:lnTo>
                  <a:lnTo>
                    <a:pt x="201" y="8"/>
                  </a:lnTo>
                  <a:lnTo>
                    <a:pt x="201" y="12"/>
                  </a:lnTo>
                  <a:lnTo>
                    <a:pt x="208" y="14"/>
                  </a:lnTo>
                  <a:lnTo>
                    <a:pt x="208" y="16"/>
                  </a:lnTo>
                  <a:lnTo>
                    <a:pt x="216" y="18"/>
                  </a:lnTo>
                  <a:lnTo>
                    <a:pt x="223" y="27"/>
                  </a:lnTo>
                  <a:lnTo>
                    <a:pt x="231" y="33"/>
                  </a:lnTo>
                  <a:lnTo>
                    <a:pt x="231" y="47"/>
                  </a:lnTo>
                  <a:lnTo>
                    <a:pt x="231" y="61"/>
                  </a:lnTo>
                  <a:lnTo>
                    <a:pt x="231" y="73"/>
                  </a:lnTo>
                  <a:lnTo>
                    <a:pt x="238" y="80"/>
                  </a:lnTo>
                  <a:lnTo>
                    <a:pt x="238" y="82"/>
                  </a:lnTo>
                  <a:lnTo>
                    <a:pt x="238" y="84"/>
                  </a:lnTo>
                  <a:lnTo>
                    <a:pt x="238" y="84"/>
                  </a:lnTo>
                  <a:lnTo>
                    <a:pt x="238" y="84"/>
                  </a:lnTo>
                  <a:lnTo>
                    <a:pt x="238" y="88"/>
                  </a:lnTo>
                  <a:lnTo>
                    <a:pt x="238" y="9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440440" y="1542960"/>
              <a:ext cx="834840" cy="53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591280" y="1619280"/>
              <a:ext cx="507960" cy="325440"/>
            </a:xfrm>
            <a:custGeom>
              <a:avLst/>
              <a:gdLst/>
              <a:ahLst/>
              <a:rect l="l" t="t" r="r" b="b"/>
              <a:pathLst>
                <a:path w="320" h="205">
                  <a:moveTo>
                    <a:pt x="0" y="109"/>
                  </a:moveTo>
                  <a:lnTo>
                    <a:pt x="3" y="122"/>
                  </a:lnTo>
                  <a:lnTo>
                    <a:pt x="3" y="131"/>
                  </a:lnTo>
                  <a:lnTo>
                    <a:pt x="3" y="138"/>
                  </a:lnTo>
                  <a:lnTo>
                    <a:pt x="6" y="143"/>
                  </a:lnTo>
                  <a:lnTo>
                    <a:pt x="6" y="145"/>
                  </a:lnTo>
                  <a:lnTo>
                    <a:pt x="9" y="150"/>
                  </a:lnTo>
                  <a:lnTo>
                    <a:pt x="12" y="159"/>
                  </a:lnTo>
                  <a:lnTo>
                    <a:pt x="19" y="170"/>
                  </a:lnTo>
                  <a:lnTo>
                    <a:pt x="22" y="179"/>
                  </a:lnTo>
                  <a:lnTo>
                    <a:pt x="22" y="181"/>
                  </a:lnTo>
                  <a:lnTo>
                    <a:pt x="25" y="184"/>
                  </a:lnTo>
                  <a:lnTo>
                    <a:pt x="34" y="188"/>
                  </a:lnTo>
                  <a:lnTo>
                    <a:pt x="41" y="190"/>
                  </a:lnTo>
                  <a:lnTo>
                    <a:pt x="47" y="193"/>
                  </a:lnTo>
                  <a:lnTo>
                    <a:pt x="50" y="195"/>
                  </a:lnTo>
                  <a:lnTo>
                    <a:pt x="59" y="197"/>
                  </a:lnTo>
                  <a:lnTo>
                    <a:pt x="66" y="202"/>
                  </a:lnTo>
                  <a:lnTo>
                    <a:pt x="69" y="204"/>
                  </a:lnTo>
                  <a:lnTo>
                    <a:pt x="91" y="202"/>
                  </a:lnTo>
                  <a:lnTo>
                    <a:pt x="113" y="197"/>
                  </a:lnTo>
                  <a:lnTo>
                    <a:pt x="119" y="197"/>
                  </a:lnTo>
                  <a:lnTo>
                    <a:pt x="125" y="195"/>
                  </a:lnTo>
                  <a:lnTo>
                    <a:pt x="128" y="188"/>
                  </a:lnTo>
                  <a:lnTo>
                    <a:pt x="128" y="179"/>
                  </a:lnTo>
                  <a:lnTo>
                    <a:pt x="134" y="175"/>
                  </a:lnTo>
                  <a:lnTo>
                    <a:pt x="138" y="170"/>
                  </a:lnTo>
                  <a:lnTo>
                    <a:pt x="147" y="150"/>
                  </a:lnTo>
                  <a:lnTo>
                    <a:pt x="153" y="127"/>
                  </a:lnTo>
                  <a:lnTo>
                    <a:pt x="163" y="79"/>
                  </a:lnTo>
                  <a:lnTo>
                    <a:pt x="169" y="57"/>
                  </a:lnTo>
                  <a:lnTo>
                    <a:pt x="178" y="38"/>
                  </a:lnTo>
                  <a:lnTo>
                    <a:pt x="181" y="29"/>
                  </a:lnTo>
                  <a:lnTo>
                    <a:pt x="181" y="23"/>
                  </a:lnTo>
                  <a:lnTo>
                    <a:pt x="188" y="16"/>
                  </a:lnTo>
                  <a:lnTo>
                    <a:pt x="194" y="9"/>
                  </a:lnTo>
                  <a:lnTo>
                    <a:pt x="206" y="2"/>
                  </a:lnTo>
                  <a:lnTo>
                    <a:pt x="209" y="0"/>
                  </a:lnTo>
                  <a:lnTo>
                    <a:pt x="213" y="0"/>
                  </a:lnTo>
                  <a:lnTo>
                    <a:pt x="241" y="0"/>
                  </a:lnTo>
                  <a:lnTo>
                    <a:pt x="269" y="4"/>
                  </a:lnTo>
                  <a:lnTo>
                    <a:pt x="272" y="7"/>
                  </a:lnTo>
                  <a:lnTo>
                    <a:pt x="275" y="11"/>
                  </a:lnTo>
                  <a:lnTo>
                    <a:pt x="278" y="16"/>
                  </a:lnTo>
                  <a:lnTo>
                    <a:pt x="281" y="18"/>
                  </a:lnTo>
                  <a:lnTo>
                    <a:pt x="288" y="20"/>
                  </a:lnTo>
                  <a:lnTo>
                    <a:pt x="291" y="23"/>
                  </a:lnTo>
                  <a:lnTo>
                    <a:pt x="300" y="32"/>
                  </a:lnTo>
                  <a:lnTo>
                    <a:pt x="309" y="43"/>
                  </a:lnTo>
                  <a:lnTo>
                    <a:pt x="313" y="61"/>
                  </a:lnTo>
                  <a:lnTo>
                    <a:pt x="313" y="79"/>
                  </a:lnTo>
                  <a:lnTo>
                    <a:pt x="316" y="88"/>
                  </a:lnTo>
                  <a:lnTo>
                    <a:pt x="316" y="95"/>
                  </a:lnTo>
                  <a:lnTo>
                    <a:pt x="319" y="104"/>
                  </a:lnTo>
                  <a:lnTo>
                    <a:pt x="319" y="107"/>
                  </a:lnTo>
                  <a:lnTo>
                    <a:pt x="319" y="109"/>
                  </a:lnTo>
                  <a:lnTo>
                    <a:pt x="319" y="109"/>
                  </a:lnTo>
                  <a:lnTo>
                    <a:pt x="319" y="111"/>
                  </a:lnTo>
                  <a:lnTo>
                    <a:pt x="319" y="116"/>
                  </a:lnTo>
                  <a:lnTo>
                    <a:pt x="319" y="1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1" name=""/>
          <p:cNvGrpSpPr/>
          <p:nvPr/>
        </p:nvGrpSpPr>
        <p:grpSpPr>
          <a:xfrm>
            <a:off x="985680" y="2666880"/>
            <a:ext cx="7254720" cy="704160"/>
            <a:chOff x="985680" y="2666880"/>
            <a:chExt cx="7254720" cy="704160"/>
          </a:xfrm>
        </p:grpSpPr>
        <p:sp>
          <p:nvSpPr>
            <p:cNvPr id="1032" name=""/>
            <p:cNvSpPr/>
            <p:nvPr/>
          </p:nvSpPr>
          <p:spPr>
            <a:xfrm>
              <a:off x="1601640" y="298944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33" name=""/>
            <p:cNvGraphicFramePr/>
            <p:nvPr/>
          </p:nvGraphicFramePr>
          <p:xfrm>
            <a:off x="985680" y="2717640"/>
            <a:ext cx="855720" cy="49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85680" y="2717640"/>
                      <a:ext cx="855720" cy="4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5" name=""/>
            <p:cNvGraphicFramePr/>
            <p:nvPr/>
          </p:nvGraphicFramePr>
          <p:xfrm>
            <a:off x="7385040" y="2717640"/>
            <a:ext cx="855360" cy="493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3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85040" y="2717640"/>
                      <a:ext cx="855360" cy="49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7" name=""/>
            <p:cNvSpPr/>
            <p:nvPr/>
          </p:nvSpPr>
          <p:spPr>
            <a:xfrm>
              <a:off x="2440440" y="2762280"/>
              <a:ext cx="834840" cy="53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022440" y="2762280"/>
              <a:ext cx="835200" cy="53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269600" y="2762280"/>
              <a:ext cx="834840" cy="530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591280" y="2840040"/>
              <a:ext cx="531720" cy="324000"/>
            </a:xfrm>
            <a:custGeom>
              <a:avLst/>
              <a:gdLst/>
              <a:ahLst/>
              <a:rect l="l" t="t" r="r" b="b"/>
              <a:pathLst>
                <a:path w="335" h="204">
                  <a:moveTo>
                    <a:pt x="0" y="109"/>
                  </a:moveTo>
                  <a:lnTo>
                    <a:pt x="3" y="123"/>
                  </a:lnTo>
                  <a:lnTo>
                    <a:pt x="3" y="133"/>
                  </a:lnTo>
                  <a:lnTo>
                    <a:pt x="6" y="140"/>
                  </a:lnTo>
                  <a:lnTo>
                    <a:pt x="9" y="151"/>
                  </a:lnTo>
                  <a:lnTo>
                    <a:pt x="13" y="158"/>
                  </a:lnTo>
                  <a:lnTo>
                    <a:pt x="19" y="168"/>
                  </a:lnTo>
                  <a:lnTo>
                    <a:pt x="22" y="175"/>
                  </a:lnTo>
                  <a:lnTo>
                    <a:pt x="25" y="182"/>
                  </a:lnTo>
                  <a:lnTo>
                    <a:pt x="28" y="182"/>
                  </a:lnTo>
                  <a:lnTo>
                    <a:pt x="38" y="186"/>
                  </a:lnTo>
                  <a:lnTo>
                    <a:pt x="41" y="189"/>
                  </a:lnTo>
                  <a:lnTo>
                    <a:pt x="47" y="189"/>
                  </a:lnTo>
                  <a:lnTo>
                    <a:pt x="53" y="193"/>
                  </a:lnTo>
                  <a:lnTo>
                    <a:pt x="63" y="196"/>
                  </a:lnTo>
                  <a:lnTo>
                    <a:pt x="69" y="200"/>
                  </a:lnTo>
                  <a:lnTo>
                    <a:pt x="72" y="203"/>
                  </a:lnTo>
                  <a:lnTo>
                    <a:pt x="94" y="200"/>
                  </a:lnTo>
                  <a:lnTo>
                    <a:pt x="116" y="196"/>
                  </a:lnTo>
                  <a:lnTo>
                    <a:pt x="123" y="196"/>
                  </a:lnTo>
                  <a:lnTo>
                    <a:pt x="129" y="193"/>
                  </a:lnTo>
                  <a:lnTo>
                    <a:pt x="132" y="186"/>
                  </a:lnTo>
                  <a:lnTo>
                    <a:pt x="135" y="179"/>
                  </a:lnTo>
                  <a:lnTo>
                    <a:pt x="142" y="172"/>
                  </a:lnTo>
                  <a:lnTo>
                    <a:pt x="145" y="168"/>
                  </a:lnTo>
                  <a:lnTo>
                    <a:pt x="154" y="147"/>
                  </a:lnTo>
                  <a:lnTo>
                    <a:pt x="161" y="126"/>
                  </a:lnTo>
                  <a:lnTo>
                    <a:pt x="170" y="77"/>
                  </a:lnTo>
                  <a:lnTo>
                    <a:pt x="176" y="56"/>
                  </a:lnTo>
                  <a:lnTo>
                    <a:pt x="186" y="39"/>
                  </a:lnTo>
                  <a:lnTo>
                    <a:pt x="189" y="21"/>
                  </a:lnTo>
                  <a:lnTo>
                    <a:pt x="195" y="14"/>
                  </a:lnTo>
                  <a:lnTo>
                    <a:pt x="202" y="7"/>
                  </a:lnTo>
                  <a:lnTo>
                    <a:pt x="208" y="4"/>
                  </a:lnTo>
                  <a:lnTo>
                    <a:pt x="214" y="4"/>
                  </a:lnTo>
                  <a:lnTo>
                    <a:pt x="220" y="0"/>
                  </a:lnTo>
                  <a:lnTo>
                    <a:pt x="224" y="0"/>
                  </a:lnTo>
                  <a:lnTo>
                    <a:pt x="252" y="0"/>
                  </a:lnTo>
                  <a:lnTo>
                    <a:pt x="268" y="0"/>
                  </a:lnTo>
                  <a:lnTo>
                    <a:pt x="280" y="4"/>
                  </a:lnTo>
                  <a:lnTo>
                    <a:pt x="283" y="7"/>
                  </a:lnTo>
                  <a:lnTo>
                    <a:pt x="287" y="11"/>
                  </a:lnTo>
                  <a:lnTo>
                    <a:pt x="293" y="18"/>
                  </a:lnTo>
                  <a:lnTo>
                    <a:pt x="299" y="21"/>
                  </a:lnTo>
                  <a:lnTo>
                    <a:pt x="305" y="21"/>
                  </a:lnTo>
                  <a:lnTo>
                    <a:pt x="309" y="25"/>
                  </a:lnTo>
                  <a:lnTo>
                    <a:pt x="315" y="32"/>
                  </a:lnTo>
                  <a:lnTo>
                    <a:pt x="321" y="35"/>
                  </a:lnTo>
                  <a:lnTo>
                    <a:pt x="324" y="42"/>
                  </a:lnTo>
                  <a:lnTo>
                    <a:pt x="328" y="60"/>
                  </a:lnTo>
                  <a:lnTo>
                    <a:pt x="328" y="81"/>
                  </a:lnTo>
                  <a:lnTo>
                    <a:pt x="331" y="95"/>
                  </a:lnTo>
                  <a:lnTo>
                    <a:pt x="334" y="105"/>
                  </a:lnTo>
                  <a:lnTo>
                    <a:pt x="334" y="109"/>
                  </a:lnTo>
                  <a:lnTo>
                    <a:pt x="334" y="109"/>
                  </a:lnTo>
                  <a:lnTo>
                    <a:pt x="334" y="109"/>
                  </a:lnTo>
                  <a:lnTo>
                    <a:pt x="334" y="109"/>
                  </a:lnTo>
                  <a:lnTo>
                    <a:pt x="334" y="116"/>
                  </a:lnTo>
                  <a:lnTo>
                    <a:pt x="334" y="1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423320" y="2840040"/>
              <a:ext cx="525600" cy="324000"/>
            </a:xfrm>
            <a:custGeom>
              <a:avLst/>
              <a:gdLst/>
              <a:ahLst/>
              <a:rect l="l" t="t" r="r" b="b"/>
              <a:pathLst>
                <a:path w="331" h="204">
                  <a:moveTo>
                    <a:pt x="0" y="109"/>
                  </a:moveTo>
                  <a:lnTo>
                    <a:pt x="0" y="123"/>
                  </a:lnTo>
                  <a:lnTo>
                    <a:pt x="5" y="133"/>
                  </a:lnTo>
                  <a:lnTo>
                    <a:pt x="5" y="140"/>
                  </a:lnTo>
                  <a:lnTo>
                    <a:pt x="10" y="151"/>
                  </a:lnTo>
                  <a:lnTo>
                    <a:pt x="15" y="158"/>
                  </a:lnTo>
                  <a:lnTo>
                    <a:pt x="20" y="168"/>
                  </a:lnTo>
                  <a:lnTo>
                    <a:pt x="20" y="175"/>
                  </a:lnTo>
                  <a:lnTo>
                    <a:pt x="20" y="182"/>
                  </a:lnTo>
                  <a:lnTo>
                    <a:pt x="25" y="182"/>
                  </a:lnTo>
                  <a:lnTo>
                    <a:pt x="40" y="189"/>
                  </a:lnTo>
                  <a:lnTo>
                    <a:pt x="45" y="189"/>
                  </a:lnTo>
                  <a:lnTo>
                    <a:pt x="50" y="193"/>
                  </a:lnTo>
                  <a:lnTo>
                    <a:pt x="60" y="196"/>
                  </a:lnTo>
                  <a:lnTo>
                    <a:pt x="65" y="200"/>
                  </a:lnTo>
                  <a:lnTo>
                    <a:pt x="70" y="203"/>
                  </a:lnTo>
                  <a:lnTo>
                    <a:pt x="95" y="200"/>
                  </a:lnTo>
                  <a:lnTo>
                    <a:pt x="115" y="196"/>
                  </a:lnTo>
                  <a:lnTo>
                    <a:pt x="125" y="196"/>
                  </a:lnTo>
                  <a:lnTo>
                    <a:pt x="130" y="193"/>
                  </a:lnTo>
                  <a:lnTo>
                    <a:pt x="130" y="186"/>
                  </a:lnTo>
                  <a:lnTo>
                    <a:pt x="130" y="179"/>
                  </a:lnTo>
                  <a:lnTo>
                    <a:pt x="140" y="172"/>
                  </a:lnTo>
                  <a:lnTo>
                    <a:pt x="145" y="168"/>
                  </a:lnTo>
                  <a:lnTo>
                    <a:pt x="150" y="147"/>
                  </a:lnTo>
                  <a:lnTo>
                    <a:pt x="160" y="126"/>
                  </a:lnTo>
                  <a:lnTo>
                    <a:pt x="165" y="77"/>
                  </a:lnTo>
                  <a:lnTo>
                    <a:pt x="175" y="56"/>
                  </a:lnTo>
                  <a:lnTo>
                    <a:pt x="185" y="39"/>
                  </a:lnTo>
                  <a:lnTo>
                    <a:pt x="190" y="21"/>
                  </a:lnTo>
                  <a:lnTo>
                    <a:pt x="200" y="7"/>
                  </a:lnTo>
                  <a:lnTo>
                    <a:pt x="210" y="4"/>
                  </a:lnTo>
                  <a:lnTo>
                    <a:pt x="220" y="0"/>
                  </a:lnTo>
                  <a:lnTo>
                    <a:pt x="220" y="0"/>
                  </a:lnTo>
                  <a:lnTo>
                    <a:pt x="250" y="0"/>
                  </a:lnTo>
                  <a:lnTo>
                    <a:pt x="265" y="0"/>
                  </a:lnTo>
                  <a:lnTo>
                    <a:pt x="280" y="4"/>
                  </a:lnTo>
                  <a:lnTo>
                    <a:pt x="285" y="7"/>
                  </a:lnTo>
                  <a:lnTo>
                    <a:pt x="285" y="11"/>
                  </a:lnTo>
                  <a:lnTo>
                    <a:pt x="290" y="18"/>
                  </a:lnTo>
                  <a:lnTo>
                    <a:pt x="295" y="21"/>
                  </a:lnTo>
                  <a:lnTo>
                    <a:pt x="300" y="21"/>
                  </a:lnTo>
                  <a:lnTo>
                    <a:pt x="310" y="32"/>
                  </a:lnTo>
                  <a:lnTo>
                    <a:pt x="320" y="35"/>
                  </a:lnTo>
                  <a:lnTo>
                    <a:pt x="320" y="42"/>
                  </a:lnTo>
                  <a:lnTo>
                    <a:pt x="325" y="60"/>
                  </a:lnTo>
                  <a:lnTo>
                    <a:pt x="325" y="81"/>
                  </a:lnTo>
                  <a:lnTo>
                    <a:pt x="330" y="95"/>
                  </a:lnTo>
                  <a:lnTo>
                    <a:pt x="330" y="105"/>
                  </a:lnTo>
                  <a:lnTo>
                    <a:pt x="330" y="109"/>
                  </a:lnTo>
                  <a:lnTo>
                    <a:pt x="330" y="109"/>
                  </a:lnTo>
                  <a:lnTo>
                    <a:pt x="330" y="109"/>
                  </a:lnTo>
                  <a:lnTo>
                    <a:pt x="330" y="109"/>
                  </a:lnTo>
                  <a:lnTo>
                    <a:pt x="330" y="116"/>
                  </a:lnTo>
                  <a:lnTo>
                    <a:pt x="330" y="1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171840" y="2840040"/>
              <a:ext cx="537840" cy="324000"/>
            </a:xfrm>
            <a:custGeom>
              <a:avLst/>
              <a:gdLst/>
              <a:ahLst/>
              <a:rect l="l" t="t" r="r" b="b"/>
              <a:pathLst>
                <a:path w="339" h="204">
                  <a:moveTo>
                    <a:pt x="0" y="109"/>
                  </a:moveTo>
                  <a:lnTo>
                    <a:pt x="0" y="123"/>
                  </a:lnTo>
                  <a:lnTo>
                    <a:pt x="7" y="133"/>
                  </a:lnTo>
                  <a:lnTo>
                    <a:pt x="7" y="140"/>
                  </a:lnTo>
                  <a:lnTo>
                    <a:pt x="7" y="151"/>
                  </a:lnTo>
                  <a:lnTo>
                    <a:pt x="14" y="158"/>
                  </a:lnTo>
                  <a:lnTo>
                    <a:pt x="20" y="168"/>
                  </a:lnTo>
                  <a:lnTo>
                    <a:pt x="27" y="175"/>
                  </a:lnTo>
                  <a:lnTo>
                    <a:pt x="27" y="182"/>
                  </a:lnTo>
                  <a:lnTo>
                    <a:pt x="27" y="182"/>
                  </a:lnTo>
                  <a:lnTo>
                    <a:pt x="41" y="189"/>
                  </a:lnTo>
                  <a:lnTo>
                    <a:pt x="47" y="189"/>
                  </a:lnTo>
                  <a:lnTo>
                    <a:pt x="54" y="193"/>
                  </a:lnTo>
                  <a:lnTo>
                    <a:pt x="61" y="196"/>
                  </a:lnTo>
                  <a:lnTo>
                    <a:pt x="68" y="200"/>
                  </a:lnTo>
                  <a:lnTo>
                    <a:pt x="74" y="203"/>
                  </a:lnTo>
                  <a:lnTo>
                    <a:pt x="95" y="200"/>
                  </a:lnTo>
                  <a:lnTo>
                    <a:pt x="122" y="196"/>
                  </a:lnTo>
                  <a:lnTo>
                    <a:pt x="128" y="196"/>
                  </a:lnTo>
                  <a:lnTo>
                    <a:pt x="128" y="193"/>
                  </a:lnTo>
                  <a:lnTo>
                    <a:pt x="135" y="186"/>
                  </a:lnTo>
                  <a:lnTo>
                    <a:pt x="135" y="179"/>
                  </a:lnTo>
                  <a:lnTo>
                    <a:pt x="142" y="172"/>
                  </a:lnTo>
                  <a:lnTo>
                    <a:pt x="149" y="168"/>
                  </a:lnTo>
                  <a:lnTo>
                    <a:pt x="155" y="147"/>
                  </a:lnTo>
                  <a:lnTo>
                    <a:pt x="162" y="126"/>
                  </a:lnTo>
                  <a:lnTo>
                    <a:pt x="169" y="77"/>
                  </a:lnTo>
                  <a:lnTo>
                    <a:pt x="176" y="56"/>
                  </a:lnTo>
                  <a:lnTo>
                    <a:pt x="189" y="39"/>
                  </a:lnTo>
                  <a:lnTo>
                    <a:pt x="189" y="21"/>
                  </a:lnTo>
                  <a:lnTo>
                    <a:pt x="203" y="7"/>
                  </a:lnTo>
                  <a:lnTo>
                    <a:pt x="216" y="4"/>
                  </a:lnTo>
                  <a:lnTo>
                    <a:pt x="223" y="0"/>
                  </a:lnTo>
                  <a:lnTo>
                    <a:pt x="257" y="0"/>
                  </a:lnTo>
                  <a:lnTo>
                    <a:pt x="270" y="0"/>
                  </a:lnTo>
                  <a:lnTo>
                    <a:pt x="284" y="4"/>
                  </a:lnTo>
                  <a:lnTo>
                    <a:pt x="284" y="7"/>
                  </a:lnTo>
                  <a:lnTo>
                    <a:pt x="291" y="11"/>
                  </a:lnTo>
                  <a:lnTo>
                    <a:pt x="291" y="18"/>
                  </a:lnTo>
                  <a:lnTo>
                    <a:pt x="297" y="21"/>
                  </a:lnTo>
                  <a:lnTo>
                    <a:pt x="304" y="21"/>
                  </a:lnTo>
                  <a:lnTo>
                    <a:pt x="318" y="32"/>
                  </a:lnTo>
                  <a:lnTo>
                    <a:pt x="324" y="42"/>
                  </a:lnTo>
                  <a:lnTo>
                    <a:pt x="324" y="60"/>
                  </a:lnTo>
                  <a:lnTo>
                    <a:pt x="324" y="81"/>
                  </a:lnTo>
                  <a:lnTo>
                    <a:pt x="331" y="95"/>
                  </a:lnTo>
                  <a:lnTo>
                    <a:pt x="331" y="105"/>
                  </a:lnTo>
                  <a:lnTo>
                    <a:pt x="338" y="109"/>
                  </a:lnTo>
                  <a:lnTo>
                    <a:pt x="338" y="109"/>
                  </a:lnTo>
                  <a:lnTo>
                    <a:pt x="338" y="109"/>
                  </a:lnTo>
                  <a:lnTo>
                    <a:pt x="338" y="109"/>
                  </a:lnTo>
                  <a:lnTo>
                    <a:pt x="338" y="116"/>
                  </a:lnTo>
                  <a:lnTo>
                    <a:pt x="338" y="1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828800" y="2666880"/>
              <a:ext cx="380880" cy="249480"/>
            </a:xfrm>
            <a:custGeom>
              <a:avLst/>
              <a:gdLst/>
              <a:ahLst/>
              <a:rect l="l" t="t" r="r" b="b"/>
              <a:pathLst>
                <a:path w="240" h="157">
                  <a:moveTo>
                    <a:pt x="0" y="85"/>
                  </a:moveTo>
                  <a:lnTo>
                    <a:pt x="3" y="94"/>
                  </a:lnTo>
                  <a:lnTo>
                    <a:pt x="3" y="101"/>
                  </a:lnTo>
                  <a:lnTo>
                    <a:pt x="5" y="107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4" y="130"/>
                  </a:lnTo>
                  <a:lnTo>
                    <a:pt x="16" y="137"/>
                  </a:lnTo>
                  <a:lnTo>
                    <a:pt x="20" y="140"/>
                  </a:lnTo>
                  <a:lnTo>
                    <a:pt x="27" y="143"/>
                  </a:lnTo>
                  <a:lnTo>
                    <a:pt x="29" y="146"/>
                  </a:lnTo>
                  <a:lnTo>
                    <a:pt x="34" y="146"/>
                  </a:lnTo>
                  <a:lnTo>
                    <a:pt x="38" y="150"/>
                  </a:lnTo>
                  <a:lnTo>
                    <a:pt x="45" y="150"/>
                  </a:lnTo>
                  <a:lnTo>
                    <a:pt x="49" y="153"/>
                  </a:lnTo>
                  <a:lnTo>
                    <a:pt x="52" y="156"/>
                  </a:lnTo>
                  <a:lnTo>
                    <a:pt x="69" y="153"/>
                  </a:lnTo>
                  <a:lnTo>
                    <a:pt x="85" y="150"/>
                  </a:lnTo>
                  <a:lnTo>
                    <a:pt x="89" y="150"/>
                  </a:lnTo>
                  <a:lnTo>
                    <a:pt x="94" y="150"/>
                  </a:lnTo>
                  <a:lnTo>
                    <a:pt x="94" y="143"/>
                  </a:lnTo>
                  <a:lnTo>
                    <a:pt x="94" y="137"/>
                  </a:lnTo>
                  <a:lnTo>
                    <a:pt x="98" y="133"/>
                  </a:lnTo>
                  <a:lnTo>
                    <a:pt x="103" y="130"/>
                  </a:lnTo>
                  <a:lnTo>
                    <a:pt x="110" y="114"/>
                  </a:lnTo>
                  <a:lnTo>
                    <a:pt x="114" y="98"/>
                  </a:lnTo>
                  <a:lnTo>
                    <a:pt x="121" y="59"/>
                  </a:lnTo>
                  <a:lnTo>
                    <a:pt x="125" y="42"/>
                  </a:lnTo>
                  <a:lnTo>
                    <a:pt x="134" y="29"/>
                  </a:lnTo>
                  <a:lnTo>
                    <a:pt x="136" y="23"/>
                  </a:lnTo>
                  <a:lnTo>
                    <a:pt x="136" y="16"/>
                  </a:lnTo>
                  <a:lnTo>
                    <a:pt x="138" y="10"/>
                  </a:lnTo>
                  <a:lnTo>
                    <a:pt x="143" y="7"/>
                  </a:lnTo>
                  <a:lnTo>
                    <a:pt x="154" y="3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81" y="0"/>
                  </a:lnTo>
                  <a:lnTo>
                    <a:pt x="201" y="3"/>
                  </a:lnTo>
                  <a:lnTo>
                    <a:pt x="205" y="7"/>
                  </a:lnTo>
                  <a:lnTo>
                    <a:pt x="210" y="13"/>
                  </a:lnTo>
                  <a:lnTo>
                    <a:pt x="214" y="16"/>
                  </a:lnTo>
                  <a:lnTo>
                    <a:pt x="216" y="16"/>
                  </a:lnTo>
                  <a:lnTo>
                    <a:pt x="223" y="26"/>
                  </a:lnTo>
                  <a:lnTo>
                    <a:pt x="230" y="33"/>
                  </a:lnTo>
                  <a:lnTo>
                    <a:pt x="232" y="49"/>
                  </a:lnTo>
                  <a:lnTo>
                    <a:pt x="232" y="62"/>
                  </a:lnTo>
                  <a:lnTo>
                    <a:pt x="234" y="75"/>
                  </a:lnTo>
                  <a:lnTo>
                    <a:pt x="237" y="78"/>
                  </a:lnTo>
                  <a:lnTo>
                    <a:pt x="239" y="81"/>
                  </a:lnTo>
                  <a:lnTo>
                    <a:pt x="239" y="81"/>
                  </a:lnTo>
                  <a:lnTo>
                    <a:pt x="239" y="85"/>
                  </a:lnTo>
                  <a:lnTo>
                    <a:pt x="239" y="88"/>
                  </a:lnTo>
                  <a:lnTo>
                    <a:pt x="239" y="9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88040" y="2666880"/>
              <a:ext cx="384120" cy="249480"/>
            </a:xfrm>
            <a:custGeom>
              <a:avLst/>
              <a:gdLst/>
              <a:ahLst/>
              <a:rect l="l" t="t" r="r" b="b"/>
              <a:pathLst>
                <a:path w="242" h="157">
                  <a:moveTo>
                    <a:pt x="0" y="85"/>
                  </a:moveTo>
                  <a:lnTo>
                    <a:pt x="0" y="94"/>
                  </a:lnTo>
                  <a:lnTo>
                    <a:pt x="0" y="101"/>
                  </a:lnTo>
                  <a:lnTo>
                    <a:pt x="8" y="107"/>
                  </a:lnTo>
                  <a:lnTo>
                    <a:pt x="8" y="114"/>
                  </a:lnTo>
                  <a:lnTo>
                    <a:pt x="8" y="120"/>
                  </a:lnTo>
                  <a:lnTo>
                    <a:pt x="15" y="130"/>
                  </a:lnTo>
                  <a:lnTo>
                    <a:pt x="15" y="137"/>
                  </a:lnTo>
                  <a:lnTo>
                    <a:pt x="23" y="140"/>
                  </a:lnTo>
                  <a:lnTo>
                    <a:pt x="30" y="146"/>
                  </a:lnTo>
                  <a:lnTo>
                    <a:pt x="38" y="146"/>
                  </a:lnTo>
                  <a:lnTo>
                    <a:pt x="38" y="150"/>
                  </a:lnTo>
                  <a:lnTo>
                    <a:pt x="45" y="150"/>
                  </a:lnTo>
                  <a:lnTo>
                    <a:pt x="53" y="153"/>
                  </a:lnTo>
                  <a:lnTo>
                    <a:pt x="53" y="156"/>
                  </a:lnTo>
                  <a:lnTo>
                    <a:pt x="68" y="153"/>
                  </a:lnTo>
                  <a:lnTo>
                    <a:pt x="83" y="150"/>
                  </a:lnTo>
                  <a:lnTo>
                    <a:pt x="90" y="150"/>
                  </a:lnTo>
                  <a:lnTo>
                    <a:pt x="90" y="150"/>
                  </a:lnTo>
                  <a:lnTo>
                    <a:pt x="98" y="143"/>
                  </a:lnTo>
                  <a:lnTo>
                    <a:pt x="98" y="137"/>
                  </a:lnTo>
                  <a:lnTo>
                    <a:pt x="98" y="133"/>
                  </a:lnTo>
                  <a:lnTo>
                    <a:pt x="105" y="130"/>
                  </a:lnTo>
                  <a:lnTo>
                    <a:pt x="113" y="114"/>
                  </a:lnTo>
                  <a:lnTo>
                    <a:pt x="113" y="98"/>
                  </a:lnTo>
                  <a:lnTo>
                    <a:pt x="121" y="59"/>
                  </a:lnTo>
                  <a:lnTo>
                    <a:pt x="128" y="42"/>
                  </a:lnTo>
                  <a:lnTo>
                    <a:pt x="136" y="29"/>
                  </a:lnTo>
                  <a:lnTo>
                    <a:pt x="136" y="23"/>
                  </a:lnTo>
                  <a:lnTo>
                    <a:pt x="136" y="16"/>
                  </a:lnTo>
                  <a:lnTo>
                    <a:pt x="143" y="7"/>
                  </a:lnTo>
                  <a:lnTo>
                    <a:pt x="151" y="3"/>
                  </a:lnTo>
                  <a:lnTo>
                    <a:pt x="158" y="0"/>
                  </a:lnTo>
                  <a:lnTo>
                    <a:pt x="181" y="0"/>
                  </a:lnTo>
                  <a:lnTo>
                    <a:pt x="203" y="3"/>
                  </a:lnTo>
                  <a:lnTo>
                    <a:pt x="203" y="7"/>
                  </a:lnTo>
                  <a:lnTo>
                    <a:pt x="211" y="13"/>
                  </a:lnTo>
                  <a:lnTo>
                    <a:pt x="211" y="16"/>
                  </a:lnTo>
                  <a:lnTo>
                    <a:pt x="218" y="16"/>
                  </a:lnTo>
                  <a:lnTo>
                    <a:pt x="226" y="26"/>
                  </a:lnTo>
                  <a:lnTo>
                    <a:pt x="233" y="33"/>
                  </a:lnTo>
                  <a:lnTo>
                    <a:pt x="233" y="62"/>
                  </a:lnTo>
                  <a:lnTo>
                    <a:pt x="233" y="75"/>
                  </a:lnTo>
                  <a:lnTo>
                    <a:pt x="241" y="78"/>
                  </a:lnTo>
                  <a:lnTo>
                    <a:pt x="241" y="81"/>
                  </a:lnTo>
                  <a:lnTo>
                    <a:pt x="241" y="81"/>
                  </a:lnTo>
                  <a:lnTo>
                    <a:pt x="241" y="85"/>
                  </a:lnTo>
                  <a:lnTo>
                    <a:pt x="241" y="88"/>
                  </a:lnTo>
                  <a:lnTo>
                    <a:pt x="241" y="9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78520" y="2914560"/>
              <a:ext cx="73080" cy="149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193280" y="2914560"/>
              <a:ext cx="73080" cy="149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107680" y="2914560"/>
              <a:ext cx="73080" cy="149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946120" y="2914560"/>
              <a:ext cx="73080" cy="1494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166920" y="3065400"/>
              <a:ext cx="49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/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86200" y="3065400"/>
              <a:ext cx="49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/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996080" y="3065400"/>
              <a:ext cx="49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/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682240" y="3065400"/>
              <a:ext cx="49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/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657960" y="27622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3810240" y="268560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812040" y="268452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963240" y="268596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659400" y="291312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411160" y="27622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5563800" y="268560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565240" y="268452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716080" y="268596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412960" y="291312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985680" y="3843360"/>
            <a:ext cx="7254720" cy="670680"/>
            <a:chOff x="985680" y="3843360"/>
            <a:chExt cx="7254720" cy="670680"/>
          </a:xfrm>
        </p:grpSpPr>
        <p:sp>
          <p:nvSpPr>
            <p:cNvPr id="1064" name=""/>
            <p:cNvSpPr/>
            <p:nvPr/>
          </p:nvSpPr>
          <p:spPr>
            <a:xfrm>
              <a:off x="1601640" y="4208400"/>
              <a:ext cx="609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65" name=""/>
            <p:cNvGraphicFramePr/>
            <p:nvPr/>
          </p:nvGraphicFramePr>
          <p:xfrm>
            <a:off x="985680" y="3843360"/>
            <a:ext cx="855720" cy="493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985680" y="3843360"/>
                      <a:ext cx="85572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7" name=""/>
            <p:cNvGraphicFramePr/>
            <p:nvPr/>
          </p:nvGraphicFramePr>
          <p:xfrm>
            <a:off x="7385040" y="3843360"/>
            <a:ext cx="855360" cy="4935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385040" y="3843360"/>
                      <a:ext cx="855360" cy="49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9" name=""/>
            <p:cNvSpPr/>
            <p:nvPr/>
          </p:nvSpPr>
          <p:spPr>
            <a:xfrm>
              <a:off x="2516400" y="3905280"/>
              <a:ext cx="758880" cy="53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345560" y="3905280"/>
              <a:ext cx="758880" cy="53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174720" y="3905280"/>
              <a:ext cx="758880" cy="53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161120" y="3884760"/>
              <a:ext cx="387360" cy="250560"/>
            </a:xfrm>
            <a:custGeom>
              <a:avLst/>
              <a:gdLst/>
              <a:ahLst/>
              <a:rect l="l" t="t" r="r" b="b"/>
              <a:pathLst>
                <a:path w="244" h="158">
                  <a:moveTo>
                    <a:pt x="0" y="85"/>
                  </a:moveTo>
                  <a:lnTo>
                    <a:pt x="0" y="94"/>
                  </a:lnTo>
                  <a:lnTo>
                    <a:pt x="0" y="103"/>
                  </a:lnTo>
                  <a:lnTo>
                    <a:pt x="7" y="108"/>
                  </a:lnTo>
                  <a:lnTo>
                    <a:pt x="7" y="117"/>
                  </a:lnTo>
                  <a:lnTo>
                    <a:pt x="7" y="121"/>
                  </a:lnTo>
                  <a:lnTo>
                    <a:pt x="15" y="130"/>
                  </a:lnTo>
                  <a:lnTo>
                    <a:pt x="15" y="139"/>
                  </a:lnTo>
                  <a:lnTo>
                    <a:pt x="22" y="144"/>
                  </a:lnTo>
                  <a:lnTo>
                    <a:pt x="30" y="148"/>
                  </a:lnTo>
                  <a:lnTo>
                    <a:pt x="38" y="148"/>
                  </a:lnTo>
                  <a:lnTo>
                    <a:pt x="38" y="148"/>
                  </a:lnTo>
                  <a:lnTo>
                    <a:pt x="45" y="153"/>
                  </a:lnTo>
                  <a:lnTo>
                    <a:pt x="53" y="157"/>
                  </a:lnTo>
                  <a:lnTo>
                    <a:pt x="53" y="157"/>
                  </a:lnTo>
                  <a:lnTo>
                    <a:pt x="68" y="157"/>
                  </a:lnTo>
                  <a:lnTo>
                    <a:pt x="83" y="153"/>
                  </a:lnTo>
                  <a:lnTo>
                    <a:pt x="91" y="153"/>
                  </a:lnTo>
                  <a:lnTo>
                    <a:pt x="99" y="148"/>
                  </a:lnTo>
                  <a:lnTo>
                    <a:pt x="99" y="144"/>
                  </a:lnTo>
                  <a:lnTo>
                    <a:pt x="99" y="139"/>
                  </a:lnTo>
                  <a:lnTo>
                    <a:pt x="106" y="135"/>
                  </a:lnTo>
                  <a:lnTo>
                    <a:pt x="106" y="130"/>
                  </a:lnTo>
                  <a:lnTo>
                    <a:pt x="114" y="117"/>
                  </a:lnTo>
                  <a:lnTo>
                    <a:pt x="114" y="99"/>
                  </a:lnTo>
                  <a:lnTo>
                    <a:pt x="121" y="59"/>
                  </a:lnTo>
                  <a:lnTo>
                    <a:pt x="137" y="27"/>
                  </a:lnTo>
                  <a:lnTo>
                    <a:pt x="137" y="18"/>
                  </a:lnTo>
                  <a:lnTo>
                    <a:pt x="144" y="9"/>
                  </a:lnTo>
                  <a:lnTo>
                    <a:pt x="152" y="5"/>
                  </a:lnTo>
                  <a:lnTo>
                    <a:pt x="159" y="0"/>
                  </a:lnTo>
                  <a:lnTo>
                    <a:pt x="182" y="0"/>
                  </a:lnTo>
                  <a:lnTo>
                    <a:pt x="205" y="5"/>
                  </a:lnTo>
                  <a:lnTo>
                    <a:pt x="205" y="9"/>
                  </a:lnTo>
                  <a:lnTo>
                    <a:pt x="213" y="14"/>
                  </a:lnTo>
                  <a:lnTo>
                    <a:pt x="213" y="18"/>
                  </a:lnTo>
                  <a:lnTo>
                    <a:pt x="220" y="18"/>
                  </a:lnTo>
                  <a:lnTo>
                    <a:pt x="228" y="27"/>
                  </a:lnTo>
                  <a:lnTo>
                    <a:pt x="235" y="32"/>
                  </a:lnTo>
                  <a:lnTo>
                    <a:pt x="235" y="50"/>
                  </a:lnTo>
                  <a:lnTo>
                    <a:pt x="235" y="63"/>
                  </a:lnTo>
                  <a:lnTo>
                    <a:pt x="235" y="76"/>
                  </a:lnTo>
                  <a:lnTo>
                    <a:pt x="243" y="81"/>
                  </a:lnTo>
                  <a:lnTo>
                    <a:pt x="243" y="85"/>
                  </a:lnTo>
                  <a:lnTo>
                    <a:pt x="243" y="85"/>
                  </a:lnTo>
                  <a:lnTo>
                    <a:pt x="243" y="90"/>
                  </a:lnTo>
                  <a:lnTo>
                    <a:pt x="243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828800" y="3884760"/>
              <a:ext cx="380880" cy="250560"/>
            </a:xfrm>
            <a:custGeom>
              <a:avLst/>
              <a:gdLst/>
              <a:ahLst/>
              <a:rect l="l" t="t" r="r" b="b"/>
              <a:pathLst>
                <a:path w="240" h="158">
                  <a:moveTo>
                    <a:pt x="0" y="85"/>
                  </a:moveTo>
                  <a:lnTo>
                    <a:pt x="3" y="94"/>
                  </a:lnTo>
                  <a:lnTo>
                    <a:pt x="3" y="103"/>
                  </a:lnTo>
                  <a:lnTo>
                    <a:pt x="5" y="108"/>
                  </a:lnTo>
                  <a:lnTo>
                    <a:pt x="7" y="117"/>
                  </a:lnTo>
                  <a:lnTo>
                    <a:pt x="9" y="121"/>
                  </a:lnTo>
                  <a:lnTo>
                    <a:pt x="14" y="130"/>
                  </a:lnTo>
                  <a:lnTo>
                    <a:pt x="16" y="139"/>
                  </a:lnTo>
                  <a:lnTo>
                    <a:pt x="20" y="144"/>
                  </a:lnTo>
                  <a:lnTo>
                    <a:pt x="27" y="144"/>
                  </a:lnTo>
                  <a:lnTo>
                    <a:pt x="29" y="148"/>
                  </a:lnTo>
                  <a:lnTo>
                    <a:pt x="34" y="148"/>
                  </a:lnTo>
                  <a:lnTo>
                    <a:pt x="38" y="148"/>
                  </a:lnTo>
                  <a:lnTo>
                    <a:pt x="45" y="153"/>
                  </a:lnTo>
                  <a:lnTo>
                    <a:pt x="49" y="157"/>
                  </a:lnTo>
                  <a:lnTo>
                    <a:pt x="52" y="157"/>
                  </a:lnTo>
                  <a:lnTo>
                    <a:pt x="69" y="157"/>
                  </a:lnTo>
                  <a:lnTo>
                    <a:pt x="85" y="153"/>
                  </a:lnTo>
                  <a:lnTo>
                    <a:pt x="89" y="153"/>
                  </a:lnTo>
                  <a:lnTo>
                    <a:pt x="94" y="148"/>
                  </a:lnTo>
                  <a:lnTo>
                    <a:pt x="94" y="144"/>
                  </a:lnTo>
                  <a:lnTo>
                    <a:pt x="94" y="139"/>
                  </a:lnTo>
                  <a:lnTo>
                    <a:pt x="98" y="135"/>
                  </a:lnTo>
                  <a:lnTo>
                    <a:pt x="103" y="130"/>
                  </a:lnTo>
                  <a:lnTo>
                    <a:pt x="110" y="117"/>
                  </a:lnTo>
                  <a:lnTo>
                    <a:pt x="114" y="99"/>
                  </a:lnTo>
                  <a:lnTo>
                    <a:pt x="121" y="59"/>
                  </a:lnTo>
                  <a:lnTo>
                    <a:pt x="125" y="41"/>
                  </a:lnTo>
                  <a:lnTo>
                    <a:pt x="134" y="27"/>
                  </a:lnTo>
                  <a:lnTo>
                    <a:pt x="136" y="18"/>
                  </a:lnTo>
                  <a:lnTo>
                    <a:pt x="138" y="14"/>
                  </a:lnTo>
                  <a:lnTo>
                    <a:pt x="143" y="9"/>
                  </a:lnTo>
                  <a:lnTo>
                    <a:pt x="154" y="5"/>
                  </a:lnTo>
                  <a:lnTo>
                    <a:pt x="159" y="0"/>
                  </a:lnTo>
                  <a:lnTo>
                    <a:pt x="161" y="0"/>
                  </a:lnTo>
                  <a:lnTo>
                    <a:pt x="181" y="0"/>
                  </a:lnTo>
                  <a:lnTo>
                    <a:pt x="201" y="5"/>
                  </a:lnTo>
                  <a:lnTo>
                    <a:pt x="205" y="9"/>
                  </a:lnTo>
                  <a:lnTo>
                    <a:pt x="210" y="14"/>
                  </a:lnTo>
                  <a:lnTo>
                    <a:pt x="214" y="18"/>
                  </a:lnTo>
                  <a:lnTo>
                    <a:pt x="216" y="18"/>
                  </a:lnTo>
                  <a:lnTo>
                    <a:pt x="223" y="27"/>
                  </a:lnTo>
                  <a:lnTo>
                    <a:pt x="230" y="32"/>
                  </a:lnTo>
                  <a:lnTo>
                    <a:pt x="232" y="50"/>
                  </a:lnTo>
                  <a:lnTo>
                    <a:pt x="232" y="63"/>
                  </a:lnTo>
                  <a:lnTo>
                    <a:pt x="234" y="76"/>
                  </a:lnTo>
                  <a:lnTo>
                    <a:pt x="237" y="81"/>
                  </a:lnTo>
                  <a:lnTo>
                    <a:pt x="239" y="85"/>
                  </a:lnTo>
                  <a:lnTo>
                    <a:pt x="239" y="85"/>
                  </a:lnTo>
                  <a:lnTo>
                    <a:pt x="239" y="90"/>
                  </a:lnTo>
                  <a:lnTo>
                    <a:pt x="239" y="9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440440" y="4133880"/>
              <a:ext cx="73080" cy="149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937200" y="4133880"/>
              <a:ext cx="73080" cy="149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57040" y="4208400"/>
              <a:ext cx="49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/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935400" y="4208400"/>
              <a:ext cx="4914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/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496400" y="41338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498200" y="4284720"/>
              <a:ext cx="22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4725000" y="39816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726800" y="3979800"/>
              <a:ext cx="22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953600" y="398160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667240" y="41338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669040" y="4284720"/>
              <a:ext cx="22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2895840" y="39816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897640" y="3979800"/>
              <a:ext cx="22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124440" y="398160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325560" y="41338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327360" y="4284720"/>
              <a:ext cx="22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6554160" y="39816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555960" y="3979800"/>
              <a:ext cx="22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782760" y="398160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487480" y="398160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5639760" y="390492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641560" y="390384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792400" y="39052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488920" y="413244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657960" y="398160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3810240" y="3904920"/>
              <a:ext cx="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812040" y="390384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963240" y="39052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659400" y="413244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3" name=""/>
          <p:cNvGrpSpPr/>
          <p:nvPr/>
        </p:nvGrpSpPr>
        <p:grpSpPr>
          <a:xfrm>
            <a:off x="304920" y="4967280"/>
            <a:ext cx="8337600" cy="841320"/>
            <a:chOff x="304920" y="4967280"/>
            <a:chExt cx="8337600" cy="841320"/>
          </a:xfrm>
        </p:grpSpPr>
        <p:sp>
          <p:nvSpPr>
            <p:cNvPr id="1104" name=""/>
            <p:cNvSpPr/>
            <p:nvPr/>
          </p:nvSpPr>
          <p:spPr>
            <a:xfrm>
              <a:off x="1601640" y="5427720"/>
              <a:ext cx="60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05" name=""/>
            <p:cNvGraphicFramePr/>
            <p:nvPr/>
          </p:nvGraphicFramePr>
          <p:xfrm>
            <a:off x="1057320" y="4967280"/>
            <a:ext cx="855720" cy="7142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06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57320" y="4967280"/>
                      <a:ext cx="855720" cy="71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7" name=""/>
            <p:cNvGraphicFramePr/>
            <p:nvPr/>
          </p:nvGraphicFramePr>
          <p:xfrm>
            <a:off x="7383600" y="4967280"/>
            <a:ext cx="855360" cy="714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0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383600" y="4967280"/>
                      <a:ext cx="855360" cy="71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9" name=""/>
            <p:cNvSpPr/>
            <p:nvPr/>
          </p:nvSpPr>
          <p:spPr>
            <a:xfrm>
              <a:off x="6173640" y="5200560"/>
              <a:ext cx="758880" cy="53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4840" y="5200560"/>
              <a:ext cx="758880" cy="53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592360" y="5200560"/>
              <a:ext cx="758880" cy="53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905120" y="520056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2057400" y="512460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058840" y="51228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209680" y="512460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324480" y="542916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326280" y="5580000"/>
              <a:ext cx="22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6553080" y="527688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554880" y="5275440"/>
              <a:ext cx="22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781680" y="52768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495680" y="542916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497480" y="5580000"/>
              <a:ext cx="22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4724280" y="527688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726080" y="5275440"/>
              <a:ext cx="22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952880" y="52768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743200" y="542916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744640" y="558000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2971800" y="527688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973240" y="527544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200400" y="52768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906560" y="53514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2920" y="520056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7315200" y="512460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316640" y="51228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467480" y="512460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164360" y="53514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486400" y="520056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V="1">
              <a:off x="5638680" y="512460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640480" y="51228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791320" y="512460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487840" y="53514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657600" y="520056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3809880" y="512460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11680" y="51228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962520" y="512460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659040" y="53514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458200" y="5504040"/>
              <a:ext cx="1843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4920" y="550404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8C248-7039-419D-BBB8-86893BD2AF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5640" y="30492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ASSUNTOS (Redes Telefônicas)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3886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e Telefô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pectos, Rede local, Rede de longa distânc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Telefônica: aplicação, funções e tecn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u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pos de Comutadores; Comutação Espacial e Temporal; Aplicaçõ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66720" y="990360"/>
            <a:ext cx="4496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al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alização entre terminais e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alização entre centrais: Sinalização Associada a Canal e Canal Comum; Aplic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E0B8E-35D4-401E-B2FC-DC127F5C98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8519760" y="2255760"/>
            <a:ext cx="683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n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it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351000" y="885960"/>
            <a:ext cx="8705160" cy="5496480"/>
            <a:chOff x="351000" y="885960"/>
            <a:chExt cx="8705160" cy="5496480"/>
          </a:xfrm>
        </p:grpSpPr>
        <p:grpSp>
          <p:nvGrpSpPr>
            <p:cNvPr id="1151" name=""/>
            <p:cNvGrpSpPr/>
            <p:nvPr/>
          </p:nvGrpSpPr>
          <p:grpSpPr>
            <a:xfrm>
              <a:off x="1954080" y="1596960"/>
              <a:ext cx="730080" cy="1663200"/>
              <a:chOff x="1954080" y="1596960"/>
              <a:chExt cx="730080" cy="1663200"/>
            </a:xfrm>
          </p:grpSpPr>
          <p:sp>
            <p:nvSpPr>
              <p:cNvPr id="1152" name=""/>
              <p:cNvSpPr/>
              <p:nvPr/>
            </p:nvSpPr>
            <p:spPr>
              <a:xfrm>
                <a:off x="1954080" y="303804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030400" y="181872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4" name=""/>
              <p:cNvGrpSpPr/>
              <p:nvPr/>
            </p:nvGrpSpPr>
            <p:grpSpPr>
              <a:xfrm>
                <a:off x="2265120" y="1596960"/>
                <a:ext cx="419040" cy="1663200"/>
                <a:chOff x="2265120" y="1596960"/>
                <a:chExt cx="419040" cy="166320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2265120" y="1596960"/>
                  <a:ext cx="368280" cy="166320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2319120" y="2045880"/>
                  <a:ext cx="36504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7" name=""/>
            <p:cNvSpPr/>
            <p:nvPr/>
          </p:nvSpPr>
          <p:spPr>
            <a:xfrm>
              <a:off x="603360" y="1819080"/>
              <a:ext cx="689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1236600" y="1596960"/>
              <a:ext cx="863640" cy="443880"/>
              <a:chOff x="1236600" y="1596960"/>
              <a:chExt cx="863640" cy="443880"/>
            </a:xfrm>
          </p:grpSpPr>
          <p:sp>
            <p:nvSpPr>
              <p:cNvPr id="1159" name=""/>
              <p:cNvSpPr/>
              <p:nvPr/>
            </p:nvSpPr>
            <p:spPr>
              <a:xfrm>
                <a:off x="1236600" y="1596960"/>
                <a:ext cx="863640" cy="443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404720" y="1665000"/>
                <a:ext cx="690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LT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61" name="" descr=""/>
            <p:cNvPicPr/>
            <p:nvPr/>
          </p:nvPicPr>
          <p:blipFill>
            <a:blip r:embed="rId1"/>
            <a:stretch/>
          </p:blipFill>
          <p:spPr>
            <a:xfrm>
              <a:off x="351000" y="1539720"/>
              <a:ext cx="441000" cy="4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2" name=""/>
            <p:cNvSpPr/>
            <p:nvPr/>
          </p:nvSpPr>
          <p:spPr>
            <a:xfrm>
              <a:off x="763560" y="1819080"/>
              <a:ext cx="249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03360" y="3038400"/>
              <a:ext cx="689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4" name=""/>
            <p:cNvGrpSpPr/>
            <p:nvPr/>
          </p:nvGrpSpPr>
          <p:grpSpPr>
            <a:xfrm>
              <a:off x="1236600" y="2815920"/>
              <a:ext cx="863640" cy="444240"/>
              <a:chOff x="1236600" y="2815920"/>
              <a:chExt cx="863640" cy="444240"/>
            </a:xfrm>
          </p:grpSpPr>
          <p:sp>
            <p:nvSpPr>
              <p:cNvPr id="1165" name=""/>
              <p:cNvSpPr/>
              <p:nvPr/>
            </p:nvSpPr>
            <p:spPr>
              <a:xfrm>
                <a:off x="1236600" y="2815920"/>
                <a:ext cx="863640" cy="4442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404720" y="2883960"/>
                <a:ext cx="690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LT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167" name="" descr=""/>
            <p:cNvPicPr/>
            <p:nvPr/>
          </p:nvPicPr>
          <p:blipFill>
            <a:blip r:embed="rId2"/>
            <a:stretch/>
          </p:blipFill>
          <p:spPr>
            <a:xfrm>
              <a:off x="351000" y="2759040"/>
              <a:ext cx="441000" cy="4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8" name=""/>
            <p:cNvSpPr/>
            <p:nvPr/>
          </p:nvSpPr>
          <p:spPr>
            <a:xfrm>
              <a:off x="754200" y="3038400"/>
              <a:ext cx="249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03560" y="1596960"/>
              <a:ext cx="1054080" cy="25012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649520" y="2047680"/>
              <a:ext cx="0" cy="761760"/>
            </a:xfrm>
            <a:prstGeom prst="line">
              <a:avLst/>
            </a:prstGeom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639880" y="2428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2" name=""/>
            <p:cNvGrpSpPr/>
            <p:nvPr/>
          </p:nvGrpSpPr>
          <p:grpSpPr>
            <a:xfrm>
              <a:off x="4452840" y="2968560"/>
              <a:ext cx="962280" cy="496800"/>
              <a:chOff x="4452840" y="2968560"/>
              <a:chExt cx="962280" cy="496800"/>
            </a:xfrm>
          </p:grpSpPr>
          <p:sp>
            <p:nvSpPr>
              <p:cNvPr id="1173" name=""/>
              <p:cNvSpPr/>
              <p:nvPr/>
            </p:nvSpPr>
            <p:spPr>
              <a:xfrm>
                <a:off x="4471920" y="2968560"/>
                <a:ext cx="874800" cy="4442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452840" y="3007800"/>
                <a:ext cx="9622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INALIZA_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ÇÃO  M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5" name=""/>
            <p:cNvGrpSpPr/>
            <p:nvPr/>
          </p:nvGrpSpPr>
          <p:grpSpPr>
            <a:xfrm>
              <a:off x="4451760" y="3578040"/>
              <a:ext cx="921240" cy="497160"/>
              <a:chOff x="4451760" y="3578040"/>
              <a:chExt cx="921240" cy="497160"/>
            </a:xfrm>
          </p:grpSpPr>
          <p:sp>
            <p:nvSpPr>
              <p:cNvPr id="1176" name=""/>
              <p:cNvSpPr/>
              <p:nvPr/>
            </p:nvSpPr>
            <p:spPr>
              <a:xfrm>
                <a:off x="4473360" y="3578040"/>
                <a:ext cx="874800" cy="443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451760" y="3617640"/>
                <a:ext cx="92124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GERAD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E T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>
              <a:off x="4164120" y="31906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4164120" y="38001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082320" y="1665000"/>
              <a:ext cx="1085760" cy="22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CEN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A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 ASSI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MATRI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 CON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ENTRA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ÇÃ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637240" y="1368360"/>
              <a:ext cx="1054080" cy="28062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116840" y="2739960"/>
              <a:ext cx="1003320" cy="507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120080" y="2779560"/>
              <a:ext cx="963360" cy="457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INALIZA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ÇÃO  M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678720" y="30384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142040" y="1292040"/>
              <a:ext cx="978120" cy="901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044840" y="1331640"/>
              <a:ext cx="108864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NID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  TER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NAÇÃ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ALÓG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678720" y="17427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142040" y="3425760"/>
              <a:ext cx="749520" cy="291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142040" y="3882960"/>
              <a:ext cx="749520" cy="29160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678720" y="40287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678720" y="3571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271640" y="3417840"/>
              <a:ext cx="579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271280" y="3875040"/>
              <a:ext cx="569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597640" y="1665000"/>
              <a:ext cx="1094760" cy="20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LE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R 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RU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MATRIZ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U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8126280" y="174276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8393040" y="17427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6678720" y="250488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393040" y="25048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9" name=""/>
            <p:cNvGrpSpPr/>
            <p:nvPr/>
          </p:nvGrpSpPr>
          <p:grpSpPr>
            <a:xfrm>
              <a:off x="1293840" y="4986000"/>
              <a:ext cx="7073640" cy="444240"/>
              <a:chOff x="1293840" y="4986000"/>
              <a:chExt cx="7073640" cy="444240"/>
            </a:xfrm>
          </p:grpSpPr>
          <p:sp>
            <p:nvSpPr>
              <p:cNvPr id="1200" name=""/>
              <p:cNvSpPr/>
              <p:nvPr/>
            </p:nvSpPr>
            <p:spPr>
              <a:xfrm>
                <a:off x="1293840" y="4986000"/>
                <a:ext cx="7073640" cy="4442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393000" y="5054040"/>
                <a:ext cx="2501640" cy="335880"/>
              </a:xfrm>
              <a:prstGeom prst="rect">
                <a:avLst/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ISTEMA DE CONTRO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2" name=""/>
            <p:cNvSpPr/>
            <p:nvPr/>
          </p:nvSpPr>
          <p:spPr>
            <a:xfrm>
              <a:off x="1255680" y="3654360"/>
              <a:ext cx="1606680" cy="6724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350720" y="3660480"/>
              <a:ext cx="152604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TROLAD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 LINHA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SS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4" name=""/>
            <p:cNvGrpSpPr/>
            <p:nvPr/>
          </p:nvGrpSpPr>
          <p:grpSpPr>
            <a:xfrm>
              <a:off x="1992240" y="4341600"/>
              <a:ext cx="136440" cy="623160"/>
              <a:chOff x="1992240" y="4341600"/>
              <a:chExt cx="136440" cy="623160"/>
            </a:xfrm>
          </p:grpSpPr>
          <p:sp>
            <p:nvSpPr>
              <p:cNvPr id="1205" name=""/>
              <p:cNvSpPr/>
              <p:nvPr/>
            </p:nvSpPr>
            <p:spPr>
              <a:xfrm>
                <a:off x="1992240" y="4341600"/>
                <a:ext cx="136440" cy="311040"/>
              </a:xfrm>
              <a:prstGeom prst="upArrow">
                <a:avLst>
                  <a:gd name="adj1" fmla="val 50000"/>
                  <a:gd name="adj2" fmla="val 113973"/>
                </a:avLst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992240" y="4654080"/>
                <a:ext cx="136440" cy="310680"/>
              </a:xfrm>
              <a:prstGeom prst="downArrow">
                <a:avLst>
                  <a:gd name="adj1" fmla="val 50000"/>
                  <a:gd name="adj2" fmla="val 113863"/>
                </a:avLst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3583080" y="4113000"/>
              <a:ext cx="155520" cy="861480"/>
              <a:chOff x="3583080" y="4113000"/>
              <a:chExt cx="155520" cy="861480"/>
            </a:xfrm>
          </p:grpSpPr>
          <p:sp>
            <p:nvSpPr>
              <p:cNvPr id="1208" name=""/>
              <p:cNvSpPr/>
              <p:nvPr/>
            </p:nvSpPr>
            <p:spPr>
              <a:xfrm>
                <a:off x="3583080" y="4113000"/>
                <a:ext cx="155520" cy="431640"/>
              </a:xfrm>
              <a:prstGeom prst="upArrow">
                <a:avLst>
                  <a:gd name="adj1" fmla="val 50000"/>
                  <a:gd name="adj2" fmla="val 138760"/>
                </a:avLst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583080" y="4542840"/>
                <a:ext cx="155520" cy="431640"/>
              </a:xfrm>
              <a:prstGeom prst="downArrow">
                <a:avLst>
                  <a:gd name="adj1" fmla="val 50000"/>
                  <a:gd name="adj2" fmla="val 138786"/>
                </a:avLst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6087960" y="4198680"/>
              <a:ext cx="155520" cy="776160"/>
              <a:chOff x="6087960" y="4198680"/>
              <a:chExt cx="155520" cy="776160"/>
            </a:xfrm>
          </p:grpSpPr>
          <p:sp>
            <p:nvSpPr>
              <p:cNvPr id="1211" name=""/>
              <p:cNvSpPr/>
              <p:nvPr/>
            </p:nvSpPr>
            <p:spPr>
              <a:xfrm>
                <a:off x="6087960" y="4198680"/>
                <a:ext cx="155520" cy="388800"/>
              </a:xfrm>
              <a:prstGeom prst="upArrow">
                <a:avLst>
                  <a:gd name="adj1" fmla="val 50000"/>
                  <a:gd name="adj2" fmla="val 124988"/>
                </a:avLst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087960" y="4585680"/>
                <a:ext cx="155520" cy="389160"/>
              </a:xfrm>
              <a:prstGeom prst="downArrow">
                <a:avLst>
                  <a:gd name="adj1" fmla="val 50000"/>
                  <a:gd name="adj2" fmla="val 125127"/>
                </a:avLst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3" name=""/>
            <p:cNvSpPr/>
            <p:nvPr/>
          </p:nvSpPr>
          <p:spPr>
            <a:xfrm>
              <a:off x="5370480" y="3178080"/>
              <a:ext cx="139680" cy="72720"/>
            </a:xfrm>
            <a:prstGeom prst="leftArrow">
              <a:avLst>
                <a:gd name="adj1" fmla="val 50000"/>
                <a:gd name="adj2" fmla="val 96031"/>
              </a:avLst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504040" y="3197160"/>
              <a:ext cx="34920" cy="17395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70480" y="3730320"/>
              <a:ext cx="139680" cy="72720"/>
            </a:xfrm>
            <a:prstGeom prst="leftArrow">
              <a:avLst>
                <a:gd name="adj1" fmla="val 50000"/>
                <a:gd name="adj2" fmla="val 96031"/>
              </a:avLst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475240" y="4825800"/>
              <a:ext cx="77760" cy="144000"/>
            </a:xfrm>
            <a:prstGeom prst="downArrow">
              <a:avLst>
                <a:gd name="adj1" fmla="val 50000"/>
                <a:gd name="adj2" fmla="val 92601"/>
              </a:avLst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084320" y="1958760"/>
              <a:ext cx="139680" cy="72720"/>
            </a:xfrm>
            <a:prstGeom prst="rightArrow">
              <a:avLst>
                <a:gd name="adj1" fmla="val 50000"/>
                <a:gd name="adj2" fmla="val 96048"/>
              </a:avLst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036800" y="1977840"/>
              <a:ext cx="34920" cy="203472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084320" y="3168360"/>
              <a:ext cx="139680" cy="72720"/>
            </a:xfrm>
            <a:prstGeom prst="rightArrow">
              <a:avLst>
                <a:gd name="adj1" fmla="val 50000"/>
                <a:gd name="adj2" fmla="val 96048"/>
              </a:avLst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093680" y="3958920"/>
              <a:ext cx="139680" cy="72720"/>
            </a:xfrm>
            <a:prstGeom prst="rightArrow">
              <a:avLst>
                <a:gd name="adj1" fmla="val 50000"/>
                <a:gd name="adj2" fmla="val 96048"/>
              </a:avLst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142120" y="2939760"/>
              <a:ext cx="140040" cy="72720"/>
            </a:xfrm>
            <a:prstGeom prst="leftArrow">
              <a:avLst>
                <a:gd name="adj1" fmla="val 50000"/>
                <a:gd name="adj2" fmla="val 96278"/>
              </a:avLst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275680" y="2958840"/>
              <a:ext cx="34920" cy="187308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904160" y="3511440"/>
              <a:ext cx="378000" cy="82080"/>
            </a:xfrm>
            <a:prstGeom prst="leftArrow">
              <a:avLst>
                <a:gd name="adj1" fmla="val 50000"/>
                <a:gd name="adj2" fmla="val 230242"/>
              </a:avLst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247240" y="4825800"/>
              <a:ext cx="77760" cy="144000"/>
            </a:xfrm>
            <a:prstGeom prst="downArrow">
              <a:avLst>
                <a:gd name="adj1" fmla="val 50000"/>
                <a:gd name="adj2" fmla="val 92601"/>
              </a:avLst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894800" y="3997080"/>
              <a:ext cx="377640" cy="82080"/>
            </a:xfrm>
            <a:prstGeom prst="leftArrow">
              <a:avLst>
                <a:gd name="adj1" fmla="val 50000"/>
                <a:gd name="adj2" fmla="val 230022"/>
              </a:avLst>
            </a:prstGeom>
            <a:solidFill>
              <a:srgbClr val="ff3300"/>
            </a:solidFill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164120" y="239076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963720" y="885960"/>
              <a:ext cx="0" cy="46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431200" y="885960"/>
              <a:ext cx="0" cy="464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963720" y="885960"/>
              <a:ext cx="746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963720" y="5526000"/>
              <a:ext cx="746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592600" y="885960"/>
              <a:ext cx="0" cy="4606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224720" y="5532120"/>
              <a:ext cx="1658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nais Analóg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3" name=""/>
            <p:cNvGrpSpPr/>
            <p:nvPr/>
          </p:nvGrpSpPr>
          <p:grpSpPr>
            <a:xfrm>
              <a:off x="539640" y="6013440"/>
              <a:ext cx="608040" cy="123120"/>
              <a:chOff x="539640" y="6013440"/>
              <a:chExt cx="608040" cy="123120"/>
            </a:xfrm>
          </p:grpSpPr>
          <p:sp>
            <p:nvSpPr>
              <p:cNvPr id="1234" name=""/>
              <p:cNvSpPr/>
              <p:nvPr/>
            </p:nvSpPr>
            <p:spPr>
              <a:xfrm>
                <a:off x="539640" y="6013440"/>
                <a:ext cx="303120" cy="123120"/>
              </a:xfrm>
              <a:prstGeom prst="leftArrow">
                <a:avLst>
                  <a:gd name="adj1" fmla="val 50000"/>
                  <a:gd name="adj2" fmla="val 123088"/>
                </a:avLst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844560" y="6013440"/>
                <a:ext cx="303120" cy="123120"/>
              </a:xfrm>
              <a:prstGeom prst="rightArrow">
                <a:avLst>
                  <a:gd name="adj1" fmla="val 50000"/>
                  <a:gd name="adj2" fmla="val 123110"/>
                </a:avLst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6" name=""/>
            <p:cNvSpPr/>
            <p:nvPr/>
          </p:nvSpPr>
          <p:spPr>
            <a:xfrm>
              <a:off x="592200" y="5724360"/>
              <a:ext cx="5522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3120" y="5876640"/>
              <a:ext cx="55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226160" y="5722920"/>
              <a:ext cx="1375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nais Digita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206360" y="5951520"/>
              <a:ext cx="16862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nais de Contr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0" name=""/>
            <p:cNvGrpSpPr/>
            <p:nvPr/>
          </p:nvGrpSpPr>
          <p:grpSpPr>
            <a:xfrm>
              <a:off x="3018600" y="5551200"/>
              <a:ext cx="4753800" cy="831240"/>
              <a:chOff x="3018600" y="5551200"/>
              <a:chExt cx="4753800" cy="831240"/>
            </a:xfrm>
          </p:grpSpPr>
          <p:sp>
            <p:nvSpPr>
              <p:cNvPr id="1241" name=""/>
              <p:cNvSpPr/>
              <p:nvPr/>
            </p:nvSpPr>
            <p:spPr>
              <a:xfrm>
                <a:off x="3039840" y="5551200"/>
                <a:ext cx="47325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LTU-&gt; Unidade de Terminação de Linha de Assinan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3018960" y="5798880"/>
                <a:ext cx="334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AS -&gt; Sinalização Associada a Can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3018600" y="6046560"/>
                <a:ext cx="3336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CS -&gt; Sinalização por Canal Comu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8372880" y="1382400"/>
              <a:ext cx="683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on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8403120" y="1788840"/>
              <a:ext cx="607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Analó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g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053000" y="915840"/>
              <a:ext cx="4229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idade de Concentração de Assinantes - SC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86120" y="901440"/>
              <a:ext cx="24055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nidade de Seletor de Gru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S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8" name=""/>
            <p:cNvGrpSpPr/>
            <p:nvPr/>
          </p:nvGrpSpPr>
          <p:grpSpPr>
            <a:xfrm>
              <a:off x="7742160" y="5425920"/>
              <a:ext cx="797040" cy="758160"/>
              <a:chOff x="7742160" y="5425920"/>
              <a:chExt cx="797040" cy="758160"/>
            </a:xfrm>
          </p:grpSpPr>
          <p:sp>
            <p:nvSpPr>
              <p:cNvPr id="1249" name=""/>
              <p:cNvSpPr/>
              <p:nvPr/>
            </p:nvSpPr>
            <p:spPr>
              <a:xfrm>
                <a:off x="7942320" y="5701680"/>
                <a:ext cx="596880" cy="4824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8025120" y="5770080"/>
                <a:ext cx="4546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/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808760" y="6015960"/>
                <a:ext cx="140040" cy="72720"/>
              </a:xfrm>
              <a:prstGeom prst="rightArrow">
                <a:avLst>
                  <a:gd name="adj1" fmla="val 50000"/>
                  <a:gd name="adj2" fmla="val 96296"/>
                </a:avLst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765920" y="5458680"/>
                <a:ext cx="34920" cy="606240"/>
              </a:xfrm>
              <a:prstGeom prst="rect">
                <a:avLst/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742160" y="5425920"/>
                <a:ext cx="77760" cy="144000"/>
              </a:xfrm>
              <a:prstGeom prst="upArrow">
                <a:avLst>
                  <a:gd name="adj1" fmla="val 50000"/>
                  <a:gd name="adj2" fmla="val 92584"/>
                </a:avLst>
              </a:pr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4" name=""/>
          <p:cNvSpPr/>
          <p:nvPr/>
        </p:nvSpPr>
        <p:spPr>
          <a:xfrm>
            <a:off x="2209680" y="2430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DIAGRAMA EM BLOCOS DE UMA CENTRAL CPA GENÉ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AE1AF-E735-41DD-BF77-DC6ACB6D8F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998720" y="228600"/>
            <a:ext cx="714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LTU (Unidade de Terminação de Linha de Assinante)</a:t>
            </a:r>
            <a:endParaRPr b="0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037880"/>
            <a:ext cx="7772400" cy="50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ece alimentação para o terminal telefônic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ção de fone fora do ganch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ção de pulsos proveniente de aparelho telefônico decá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mentação da corrente de campainh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ção contra sobretensão na linh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ão da linha analógica do assinante de 2 para 4 fios para o sistema de comutação digit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to com o controlador de linha de assinante, converte o sinal decádico em díg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O controlador de linha provê a interface entre o SLTU e o sistema de cont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BC1C5-DD1D-4FF8-95CD-128D91AF67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17600" y="228600"/>
            <a:ext cx="6545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CICLO DE VIDA DE UMA CHAMADA LOCAL</a:t>
            </a:r>
            <a:endParaRPr b="0" lang="en-US" sz="24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685800" y="609480"/>
            <a:ext cx="8139240" cy="5867280"/>
            <a:chOff x="685800" y="609480"/>
            <a:chExt cx="8139240" cy="5867280"/>
          </a:xfrm>
        </p:grpSpPr>
        <p:sp>
          <p:nvSpPr>
            <p:cNvPr id="1259" name=""/>
            <p:cNvSpPr/>
            <p:nvPr/>
          </p:nvSpPr>
          <p:spPr>
            <a:xfrm>
              <a:off x="3505320" y="838080"/>
              <a:ext cx="2361960" cy="459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ENTR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505320" y="1447560"/>
              <a:ext cx="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867280" y="1447560"/>
              <a:ext cx="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2" name="" descr=""/>
            <p:cNvPicPr/>
            <p:nvPr/>
          </p:nvPicPr>
          <p:blipFill>
            <a:blip r:embed="rId1"/>
            <a:stretch/>
          </p:blipFill>
          <p:spPr>
            <a:xfrm>
              <a:off x="685800" y="761760"/>
              <a:ext cx="671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3" name="" descr=""/>
            <p:cNvPicPr/>
            <p:nvPr/>
          </p:nvPicPr>
          <p:blipFill>
            <a:blip r:embed="rId2"/>
            <a:stretch/>
          </p:blipFill>
          <p:spPr>
            <a:xfrm>
              <a:off x="8153280" y="761760"/>
              <a:ext cx="6717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4" name=""/>
            <p:cNvSpPr/>
            <p:nvPr/>
          </p:nvSpPr>
          <p:spPr>
            <a:xfrm flipH="1">
              <a:off x="1143000" y="106668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867280" y="106668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524960" y="685440"/>
              <a:ext cx="168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ssinante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325200" y="609480"/>
              <a:ext cx="166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ssinante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838080" y="1295280"/>
            <a:ext cx="2743200" cy="533520"/>
            <a:chOff x="838080" y="1295280"/>
            <a:chExt cx="2743200" cy="533520"/>
          </a:xfrm>
        </p:grpSpPr>
        <p:sp>
          <p:nvSpPr>
            <p:cNvPr id="1269" name=""/>
            <p:cNvSpPr/>
            <p:nvPr/>
          </p:nvSpPr>
          <p:spPr>
            <a:xfrm>
              <a:off x="1069920" y="1295280"/>
              <a:ext cx="230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INAL INDICANDO FON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ORA DO GANCH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38080" y="1828800"/>
              <a:ext cx="274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1" name=""/>
          <p:cNvSpPr/>
          <p:nvPr/>
        </p:nvSpPr>
        <p:spPr>
          <a:xfrm>
            <a:off x="3888360" y="1828800"/>
            <a:ext cx="173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ENTIFICANDO 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NANTE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837720" y="2286000"/>
            <a:ext cx="5111640" cy="885600"/>
            <a:chOff x="837720" y="2286000"/>
            <a:chExt cx="5111640" cy="885600"/>
          </a:xfrm>
        </p:grpSpPr>
        <p:sp>
          <p:nvSpPr>
            <p:cNvPr id="1273" name=""/>
            <p:cNvSpPr/>
            <p:nvPr/>
          </p:nvSpPr>
          <p:spPr>
            <a:xfrm>
              <a:off x="4572000" y="22860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432240" y="2438280"/>
              <a:ext cx="2517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EMÓRIA ALOC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RA DÍGITOS E CONEX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 ÓRGÃO COMU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837720" y="2666880"/>
              <a:ext cx="266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358280" y="2373480"/>
              <a:ext cx="1552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M DE DISC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914400" y="2971800"/>
            <a:ext cx="2590920" cy="307080"/>
            <a:chOff x="914400" y="2971800"/>
            <a:chExt cx="2590920" cy="307080"/>
          </a:xfrm>
        </p:grpSpPr>
        <p:sp>
          <p:nvSpPr>
            <p:cNvPr id="1278" name=""/>
            <p:cNvSpPr/>
            <p:nvPr/>
          </p:nvSpPr>
          <p:spPr>
            <a:xfrm>
              <a:off x="914400" y="32767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069200" y="2971800"/>
              <a:ext cx="238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ÍGITOS DO ASSINANT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3583080" y="3276720"/>
            <a:ext cx="212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ÁLISE DE DÍGITOS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SCA DE CIRCUI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 SAÍ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3505320" y="3962520"/>
            <a:ext cx="2438280" cy="535680"/>
            <a:chOff x="3505320" y="3962520"/>
            <a:chExt cx="2438280" cy="535680"/>
          </a:xfrm>
        </p:grpSpPr>
        <p:sp>
          <p:nvSpPr>
            <p:cNvPr id="1282" name=""/>
            <p:cNvSpPr/>
            <p:nvPr/>
          </p:nvSpPr>
          <p:spPr>
            <a:xfrm>
              <a:off x="3505320" y="4191120"/>
              <a:ext cx="24382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72000" y="3962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585240" y="4191120"/>
              <a:ext cx="222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FETUA A COMUT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914040" y="3886200"/>
            <a:ext cx="2590920" cy="307080"/>
            <a:chOff x="914040" y="3886200"/>
            <a:chExt cx="2590920" cy="307080"/>
          </a:xfrm>
        </p:grpSpPr>
        <p:sp>
          <p:nvSpPr>
            <p:cNvPr id="1286" name=""/>
            <p:cNvSpPr/>
            <p:nvPr/>
          </p:nvSpPr>
          <p:spPr>
            <a:xfrm flipH="1">
              <a:off x="914040" y="41911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99240" y="3886200"/>
              <a:ext cx="181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OM DE CHAM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8" name=""/>
          <p:cNvGrpSpPr/>
          <p:nvPr/>
        </p:nvGrpSpPr>
        <p:grpSpPr>
          <a:xfrm>
            <a:off x="5867280" y="3886200"/>
            <a:ext cx="2598480" cy="307080"/>
            <a:chOff x="5867280" y="3886200"/>
            <a:chExt cx="2598480" cy="307080"/>
          </a:xfrm>
        </p:grpSpPr>
        <p:sp>
          <p:nvSpPr>
            <p:cNvPr id="1289" name=""/>
            <p:cNvSpPr/>
            <p:nvPr/>
          </p:nvSpPr>
          <p:spPr>
            <a:xfrm>
              <a:off x="5867280" y="41911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947200" y="3886200"/>
              <a:ext cx="25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RRENTE DE CAMPAINH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5867280" y="4343400"/>
            <a:ext cx="2473920" cy="307080"/>
            <a:chOff x="5867280" y="4343400"/>
            <a:chExt cx="2473920" cy="307080"/>
          </a:xfrm>
        </p:grpSpPr>
        <p:sp>
          <p:nvSpPr>
            <p:cNvPr id="1292" name=""/>
            <p:cNvSpPr/>
            <p:nvPr/>
          </p:nvSpPr>
          <p:spPr>
            <a:xfrm flipH="1">
              <a:off x="5867280" y="464832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022440" y="4343400"/>
              <a:ext cx="231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INAL DE ATENDI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3432600" y="4587840"/>
            <a:ext cx="251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CONECTA O TOM E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RENTE DE CAMPAIN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990720" y="4876920"/>
            <a:ext cx="7467480" cy="763920"/>
            <a:chOff x="990720" y="4876920"/>
            <a:chExt cx="7467480" cy="763920"/>
          </a:xfrm>
        </p:grpSpPr>
        <p:grpSp>
          <p:nvGrpSpPr>
            <p:cNvPr id="1296" name=""/>
            <p:cNvGrpSpPr/>
            <p:nvPr/>
          </p:nvGrpSpPr>
          <p:grpSpPr>
            <a:xfrm>
              <a:off x="990720" y="4876920"/>
              <a:ext cx="7467480" cy="307080"/>
              <a:chOff x="990720" y="4876920"/>
              <a:chExt cx="7467480" cy="307080"/>
            </a:xfrm>
          </p:grpSpPr>
          <p:sp>
            <p:nvSpPr>
              <p:cNvPr id="1297" name=""/>
              <p:cNvSpPr/>
              <p:nvPr/>
            </p:nvSpPr>
            <p:spPr>
              <a:xfrm>
                <a:off x="990720" y="5181480"/>
                <a:ext cx="251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505320" y="5181480"/>
                <a:ext cx="236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867280" y="5181480"/>
                <a:ext cx="259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374840" y="4876920"/>
                <a:ext cx="1512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VERSAÇÃ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404040" y="4876920"/>
                <a:ext cx="1512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VERSAÇÃ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2" name=""/>
            <p:cNvSpPr/>
            <p:nvPr/>
          </p:nvSpPr>
          <p:spPr>
            <a:xfrm>
              <a:off x="3432960" y="5333760"/>
              <a:ext cx="25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UPERVISÃO DA CHAM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687600" y="5410080"/>
            <a:ext cx="2817720" cy="533160"/>
            <a:chOff x="687600" y="5410080"/>
            <a:chExt cx="2817720" cy="533160"/>
          </a:xfrm>
        </p:grpSpPr>
        <p:sp>
          <p:nvSpPr>
            <p:cNvPr id="1304" name=""/>
            <p:cNvSpPr/>
            <p:nvPr/>
          </p:nvSpPr>
          <p:spPr>
            <a:xfrm>
              <a:off x="1066680" y="5943240"/>
              <a:ext cx="2438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87600" y="5410080"/>
              <a:ext cx="270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INAL P/ FRENTE INDICAND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ONE NO GANCH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5866920" y="5410080"/>
            <a:ext cx="2676600" cy="533160"/>
            <a:chOff x="5866920" y="5410080"/>
            <a:chExt cx="2676600" cy="533160"/>
          </a:xfrm>
        </p:grpSpPr>
        <p:sp>
          <p:nvSpPr>
            <p:cNvPr id="1307" name=""/>
            <p:cNvSpPr/>
            <p:nvPr/>
          </p:nvSpPr>
          <p:spPr>
            <a:xfrm flipH="1">
              <a:off x="5866920" y="594324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053760" y="5410080"/>
              <a:ext cx="248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INAL P/ TRÁS INDICAND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ONE NO GANCH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3660840" y="5943600"/>
            <a:ext cx="178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CONEXÃO 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IPAME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F9DCA-872C-4DDB-967B-88DE51E1BE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385640"/>
            <a:ext cx="7737480" cy="26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CAPÍTULO I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DE TELEFÔNICA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4766760"/>
            <a:ext cx="64008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os Roberto dos Sa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22860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REDE TELEFÔNICA - INTRODUÇÃO</a:t>
            </a:r>
            <a:endParaRPr b="0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rutura de comunicação mais complexa e de maior capilar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volução a partir do serviço telefônico básico para um portifólio de serviços denso e variado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ransmissão de dad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elefoni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ele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unicações Móve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cesso à Interne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ransmissão de ví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2C59F-E89C-40DE-86DC-316EBC8E70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REDE TELEFÔNICA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composta pel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e de longa distância: centrais interurbanas e internacionais e os respectivos entroncamento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e local: centrais e entroncamento em área urbana e o enlace (rede) de assinante (constituído pelos terminais e linhas de assin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e de assinante - rede de alimentação (primária) e  rede de distribuição (secundá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041DE-9ECA-4F1E-A62C-F6A4EBDF1A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REDE LOCAL - ARQUITETURA</a:t>
            </a:r>
            <a:endParaRPr b="0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34800" y="1295280"/>
            <a:ext cx="8656920" cy="49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97BF8-232D-4CCE-A008-385C4FC5FF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Evolução da Rede Telefônica Externa</a:t>
            </a:r>
            <a:endParaRPr b="0" lang="en-US" sz="3200" spc="-1" strike="noStrike">
              <a:solidFill>
                <a:srgbClr val="ff0066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064200" y="4495680"/>
            <a:ext cx="2784960" cy="1322280"/>
            <a:chOff x="6064200" y="4495680"/>
            <a:chExt cx="2784960" cy="1322280"/>
          </a:xfrm>
        </p:grpSpPr>
        <p:sp>
          <p:nvSpPr>
            <p:cNvPr id="65" name=""/>
            <p:cNvSpPr/>
            <p:nvPr/>
          </p:nvSpPr>
          <p:spPr>
            <a:xfrm>
              <a:off x="6499440" y="4552920"/>
              <a:ext cx="835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 Cent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76480" y="4906800"/>
              <a:ext cx="7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15280" y="4903560"/>
              <a:ext cx="233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 Armário (ponto de contro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37520" y="5254560"/>
              <a:ext cx="145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 Caixa Term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30520" y="5595840"/>
              <a:ext cx="129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-  Ass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6318720" y="4495680"/>
              <a:ext cx="231480" cy="241200"/>
              <a:chOff x="6318720" y="4495680"/>
              <a:chExt cx="231480" cy="241200"/>
            </a:xfrm>
          </p:grpSpPr>
          <p:sp>
            <p:nvSpPr>
              <p:cNvPr id="71" name=""/>
              <p:cNvSpPr/>
              <p:nvPr/>
            </p:nvSpPr>
            <p:spPr>
              <a:xfrm>
                <a:off x="6318720" y="4495680"/>
                <a:ext cx="231480" cy="2412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18720" y="4495680"/>
                <a:ext cx="231480" cy="241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6336360" y="4859280"/>
              <a:ext cx="149400" cy="228600"/>
            </a:xfrm>
            <a:custGeom>
              <a:avLst/>
              <a:gdLst/>
              <a:ahLst/>
              <a:rect l="l" t="t" r="r" b="b"/>
              <a:pathLst>
                <a:path w="102" h="144">
                  <a:moveTo>
                    <a:pt x="52" y="144"/>
                  </a:moveTo>
                  <a:lnTo>
                    <a:pt x="42" y="142"/>
                  </a:lnTo>
                  <a:lnTo>
                    <a:pt x="30" y="138"/>
                  </a:lnTo>
                  <a:lnTo>
                    <a:pt x="23" y="132"/>
                  </a:lnTo>
                  <a:lnTo>
                    <a:pt x="15" y="122"/>
                  </a:lnTo>
                  <a:lnTo>
                    <a:pt x="4" y="99"/>
                  </a:lnTo>
                  <a:lnTo>
                    <a:pt x="2" y="86"/>
                  </a:lnTo>
                  <a:lnTo>
                    <a:pt x="0" y="71"/>
                  </a:lnTo>
                  <a:lnTo>
                    <a:pt x="2" y="55"/>
                  </a:lnTo>
                  <a:lnTo>
                    <a:pt x="4" y="42"/>
                  </a:lnTo>
                  <a:lnTo>
                    <a:pt x="15" y="21"/>
                  </a:lnTo>
                  <a:lnTo>
                    <a:pt x="23" y="11"/>
                  </a:lnTo>
                  <a:lnTo>
                    <a:pt x="30" y="5"/>
                  </a:lnTo>
                  <a:lnTo>
                    <a:pt x="42" y="1"/>
                  </a:lnTo>
                  <a:lnTo>
                    <a:pt x="52" y="0"/>
                  </a:lnTo>
                  <a:lnTo>
                    <a:pt x="102" y="0"/>
                  </a:lnTo>
                  <a:lnTo>
                    <a:pt x="102" y="144"/>
                  </a:lnTo>
                  <a:lnTo>
                    <a:pt x="52" y="14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27720" y="5248080"/>
              <a:ext cx="168120" cy="204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6064200" y="5556240"/>
              <a:ext cx="434880" cy="261720"/>
              <a:chOff x="6064200" y="5556240"/>
              <a:chExt cx="434880" cy="26172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6100560" y="5556240"/>
                <a:ext cx="398520" cy="117360"/>
                <a:chOff x="6100560" y="5556240"/>
                <a:chExt cx="398520" cy="11736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101640" y="5600520"/>
                  <a:ext cx="395640" cy="73080"/>
                </a:xfrm>
                <a:custGeom>
                  <a:avLst/>
                  <a:gdLst/>
                  <a:ahLst/>
                  <a:rect l="l" t="t" r="r" b="b"/>
                  <a:pathLst>
                    <a:path w="2965" h="459">
                      <a:moveTo>
                        <a:pt x="0" y="278"/>
                      </a:moveTo>
                      <a:lnTo>
                        <a:pt x="352" y="143"/>
                      </a:lnTo>
                      <a:lnTo>
                        <a:pt x="1129" y="0"/>
                      </a:lnTo>
                      <a:lnTo>
                        <a:pt x="2036" y="40"/>
                      </a:lnTo>
                      <a:lnTo>
                        <a:pt x="2494" y="143"/>
                      </a:lnTo>
                      <a:lnTo>
                        <a:pt x="2965" y="367"/>
                      </a:lnTo>
                      <a:lnTo>
                        <a:pt x="2911" y="407"/>
                      </a:lnTo>
                      <a:lnTo>
                        <a:pt x="2889" y="433"/>
                      </a:lnTo>
                      <a:lnTo>
                        <a:pt x="2857" y="451"/>
                      </a:lnTo>
                      <a:lnTo>
                        <a:pt x="2829" y="459"/>
                      </a:lnTo>
                      <a:lnTo>
                        <a:pt x="2805" y="459"/>
                      </a:lnTo>
                      <a:lnTo>
                        <a:pt x="2781" y="459"/>
                      </a:lnTo>
                      <a:lnTo>
                        <a:pt x="2756" y="459"/>
                      </a:lnTo>
                      <a:lnTo>
                        <a:pt x="2732" y="459"/>
                      </a:lnTo>
                      <a:lnTo>
                        <a:pt x="2707" y="451"/>
                      </a:lnTo>
                      <a:lnTo>
                        <a:pt x="2674" y="443"/>
                      </a:lnTo>
                      <a:lnTo>
                        <a:pt x="2654" y="441"/>
                      </a:lnTo>
                      <a:lnTo>
                        <a:pt x="2627" y="433"/>
                      </a:lnTo>
                      <a:lnTo>
                        <a:pt x="2595" y="425"/>
                      </a:lnTo>
                      <a:lnTo>
                        <a:pt x="2568" y="420"/>
                      </a:lnTo>
                      <a:lnTo>
                        <a:pt x="2543" y="412"/>
                      </a:lnTo>
                      <a:lnTo>
                        <a:pt x="2524" y="409"/>
                      </a:lnTo>
                      <a:lnTo>
                        <a:pt x="2500" y="399"/>
                      </a:lnTo>
                      <a:lnTo>
                        <a:pt x="2475" y="391"/>
                      </a:lnTo>
                      <a:lnTo>
                        <a:pt x="2451" y="386"/>
                      </a:lnTo>
                      <a:lnTo>
                        <a:pt x="2424" y="378"/>
                      </a:lnTo>
                      <a:lnTo>
                        <a:pt x="2399" y="373"/>
                      </a:lnTo>
                      <a:lnTo>
                        <a:pt x="2371" y="365"/>
                      </a:lnTo>
                      <a:lnTo>
                        <a:pt x="2346" y="357"/>
                      </a:lnTo>
                      <a:lnTo>
                        <a:pt x="2322" y="349"/>
                      </a:lnTo>
                      <a:lnTo>
                        <a:pt x="2297" y="340"/>
                      </a:lnTo>
                      <a:lnTo>
                        <a:pt x="2273" y="332"/>
                      </a:lnTo>
                      <a:lnTo>
                        <a:pt x="2248" y="325"/>
                      </a:lnTo>
                      <a:lnTo>
                        <a:pt x="2227" y="312"/>
                      </a:lnTo>
                      <a:lnTo>
                        <a:pt x="2200" y="298"/>
                      </a:lnTo>
                      <a:lnTo>
                        <a:pt x="2175" y="285"/>
                      </a:lnTo>
                      <a:lnTo>
                        <a:pt x="2151" y="272"/>
                      </a:lnTo>
                      <a:lnTo>
                        <a:pt x="2126" y="262"/>
                      </a:lnTo>
                      <a:lnTo>
                        <a:pt x="2104" y="246"/>
                      </a:lnTo>
                      <a:lnTo>
                        <a:pt x="2085" y="230"/>
                      </a:lnTo>
                      <a:lnTo>
                        <a:pt x="2060" y="214"/>
                      </a:lnTo>
                      <a:lnTo>
                        <a:pt x="2036" y="198"/>
                      </a:lnTo>
                      <a:lnTo>
                        <a:pt x="2011" y="182"/>
                      </a:lnTo>
                      <a:lnTo>
                        <a:pt x="1987" y="167"/>
                      </a:lnTo>
                      <a:lnTo>
                        <a:pt x="1962" y="159"/>
                      </a:lnTo>
                      <a:lnTo>
                        <a:pt x="1938" y="151"/>
                      </a:lnTo>
                      <a:lnTo>
                        <a:pt x="1906" y="143"/>
                      </a:lnTo>
                      <a:lnTo>
                        <a:pt x="1881" y="135"/>
                      </a:lnTo>
                      <a:lnTo>
                        <a:pt x="1857" y="130"/>
                      </a:lnTo>
                      <a:lnTo>
                        <a:pt x="1832" y="128"/>
                      </a:lnTo>
                      <a:lnTo>
                        <a:pt x="1808" y="121"/>
                      </a:lnTo>
                      <a:lnTo>
                        <a:pt x="1774" y="116"/>
                      </a:lnTo>
                      <a:lnTo>
                        <a:pt x="1725" y="113"/>
                      </a:lnTo>
                      <a:lnTo>
                        <a:pt x="1669" y="113"/>
                      </a:lnTo>
                      <a:lnTo>
                        <a:pt x="1586" y="111"/>
                      </a:lnTo>
                      <a:lnTo>
                        <a:pt x="1537" y="111"/>
                      </a:lnTo>
                      <a:lnTo>
                        <a:pt x="1431" y="111"/>
                      </a:lnTo>
                      <a:lnTo>
                        <a:pt x="1407" y="111"/>
                      </a:lnTo>
                      <a:lnTo>
                        <a:pt x="1382" y="111"/>
                      </a:lnTo>
                      <a:lnTo>
                        <a:pt x="1333" y="111"/>
                      </a:lnTo>
                      <a:lnTo>
                        <a:pt x="1206" y="111"/>
                      </a:lnTo>
                      <a:lnTo>
                        <a:pt x="1104" y="116"/>
                      </a:lnTo>
                      <a:lnTo>
                        <a:pt x="1055" y="121"/>
                      </a:lnTo>
                      <a:lnTo>
                        <a:pt x="1032" y="124"/>
                      </a:lnTo>
                      <a:lnTo>
                        <a:pt x="1006" y="130"/>
                      </a:lnTo>
                      <a:lnTo>
                        <a:pt x="982" y="135"/>
                      </a:lnTo>
                      <a:lnTo>
                        <a:pt x="957" y="143"/>
                      </a:lnTo>
                      <a:lnTo>
                        <a:pt x="933" y="151"/>
                      </a:lnTo>
                      <a:lnTo>
                        <a:pt x="908" y="159"/>
                      </a:lnTo>
                      <a:lnTo>
                        <a:pt x="884" y="175"/>
                      </a:lnTo>
                      <a:lnTo>
                        <a:pt x="866" y="186"/>
                      </a:lnTo>
                      <a:lnTo>
                        <a:pt x="840" y="203"/>
                      </a:lnTo>
                      <a:lnTo>
                        <a:pt x="821" y="214"/>
                      </a:lnTo>
                      <a:lnTo>
                        <a:pt x="795" y="230"/>
                      </a:lnTo>
                      <a:lnTo>
                        <a:pt x="769" y="246"/>
                      </a:lnTo>
                      <a:lnTo>
                        <a:pt x="745" y="262"/>
                      </a:lnTo>
                      <a:lnTo>
                        <a:pt x="720" y="272"/>
                      </a:lnTo>
                      <a:lnTo>
                        <a:pt x="698" y="281"/>
                      </a:lnTo>
                      <a:lnTo>
                        <a:pt x="671" y="293"/>
                      </a:lnTo>
                      <a:lnTo>
                        <a:pt x="649" y="304"/>
                      </a:lnTo>
                      <a:lnTo>
                        <a:pt x="626" y="313"/>
                      </a:lnTo>
                      <a:lnTo>
                        <a:pt x="598" y="325"/>
                      </a:lnTo>
                      <a:lnTo>
                        <a:pt x="573" y="332"/>
                      </a:lnTo>
                      <a:lnTo>
                        <a:pt x="549" y="340"/>
                      </a:lnTo>
                      <a:lnTo>
                        <a:pt x="515" y="349"/>
                      </a:lnTo>
                      <a:lnTo>
                        <a:pt x="491" y="357"/>
                      </a:lnTo>
                      <a:lnTo>
                        <a:pt x="466" y="365"/>
                      </a:lnTo>
                      <a:lnTo>
                        <a:pt x="437" y="373"/>
                      </a:lnTo>
                      <a:lnTo>
                        <a:pt x="410" y="377"/>
                      </a:lnTo>
                      <a:lnTo>
                        <a:pt x="376" y="384"/>
                      </a:lnTo>
                      <a:lnTo>
                        <a:pt x="350" y="390"/>
                      </a:lnTo>
                      <a:lnTo>
                        <a:pt x="324" y="395"/>
                      </a:lnTo>
                      <a:lnTo>
                        <a:pt x="300" y="401"/>
                      </a:lnTo>
                      <a:lnTo>
                        <a:pt x="270" y="407"/>
                      </a:lnTo>
                      <a:lnTo>
                        <a:pt x="249" y="411"/>
                      </a:lnTo>
                      <a:lnTo>
                        <a:pt x="224" y="417"/>
                      </a:lnTo>
                      <a:lnTo>
                        <a:pt x="188" y="420"/>
                      </a:lnTo>
                      <a:lnTo>
                        <a:pt x="164" y="424"/>
                      </a:lnTo>
                      <a:lnTo>
                        <a:pt x="139" y="428"/>
                      </a:lnTo>
                      <a:lnTo>
                        <a:pt x="115" y="428"/>
                      </a:lnTo>
                      <a:lnTo>
                        <a:pt x="90" y="428"/>
                      </a:lnTo>
                      <a:lnTo>
                        <a:pt x="66" y="428"/>
                      </a:lnTo>
                      <a:lnTo>
                        <a:pt x="41" y="412"/>
                      </a:lnTo>
                      <a:lnTo>
                        <a:pt x="27" y="390"/>
                      </a:lnTo>
                      <a:lnTo>
                        <a:pt x="17" y="365"/>
                      </a:lnTo>
                      <a:lnTo>
                        <a:pt x="9" y="340"/>
                      </a:lnTo>
                      <a:lnTo>
                        <a:pt x="9" y="317"/>
                      </a:lnTo>
                      <a:lnTo>
                        <a:pt x="0" y="293"/>
                      </a:lnTo>
                      <a:lnTo>
                        <a:pt x="0" y="270"/>
                      </a:lnTo>
                      <a:lnTo>
                        <a:pt x="0" y="278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100560" y="5556240"/>
                  <a:ext cx="398520" cy="106200"/>
                </a:xfrm>
                <a:custGeom>
                  <a:avLst/>
                  <a:gdLst/>
                  <a:ahLst/>
                  <a:rect l="l" t="t" r="r" b="b"/>
                  <a:pathLst>
                    <a:path w="2993" h="666">
                      <a:moveTo>
                        <a:pt x="74" y="252"/>
                      </a:moveTo>
                      <a:lnTo>
                        <a:pt x="128" y="229"/>
                      </a:lnTo>
                      <a:lnTo>
                        <a:pt x="206" y="198"/>
                      </a:lnTo>
                      <a:lnTo>
                        <a:pt x="250" y="182"/>
                      </a:lnTo>
                      <a:lnTo>
                        <a:pt x="291" y="165"/>
                      </a:lnTo>
                      <a:lnTo>
                        <a:pt x="327" y="152"/>
                      </a:lnTo>
                      <a:lnTo>
                        <a:pt x="374" y="134"/>
                      </a:lnTo>
                      <a:lnTo>
                        <a:pt x="406" y="124"/>
                      </a:lnTo>
                      <a:lnTo>
                        <a:pt x="433" y="113"/>
                      </a:lnTo>
                      <a:lnTo>
                        <a:pt x="487" y="98"/>
                      </a:lnTo>
                      <a:lnTo>
                        <a:pt x="531" y="84"/>
                      </a:lnTo>
                      <a:lnTo>
                        <a:pt x="570" y="74"/>
                      </a:lnTo>
                      <a:lnTo>
                        <a:pt x="638" y="57"/>
                      </a:lnTo>
                      <a:lnTo>
                        <a:pt x="663" y="52"/>
                      </a:lnTo>
                      <a:lnTo>
                        <a:pt x="736" y="42"/>
                      </a:lnTo>
                      <a:lnTo>
                        <a:pt x="776" y="34"/>
                      </a:lnTo>
                      <a:lnTo>
                        <a:pt x="935" y="18"/>
                      </a:lnTo>
                      <a:lnTo>
                        <a:pt x="968" y="16"/>
                      </a:lnTo>
                      <a:lnTo>
                        <a:pt x="1017" y="13"/>
                      </a:lnTo>
                      <a:lnTo>
                        <a:pt x="1098" y="5"/>
                      </a:lnTo>
                      <a:lnTo>
                        <a:pt x="1145" y="3"/>
                      </a:lnTo>
                      <a:lnTo>
                        <a:pt x="1186" y="0"/>
                      </a:lnTo>
                      <a:lnTo>
                        <a:pt x="1262" y="0"/>
                      </a:lnTo>
                      <a:lnTo>
                        <a:pt x="1308" y="3"/>
                      </a:lnTo>
                      <a:lnTo>
                        <a:pt x="1333" y="3"/>
                      </a:lnTo>
                      <a:lnTo>
                        <a:pt x="1431" y="3"/>
                      </a:lnTo>
                      <a:lnTo>
                        <a:pt x="1455" y="3"/>
                      </a:lnTo>
                      <a:lnTo>
                        <a:pt x="1504" y="3"/>
                      </a:lnTo>
                      <a:lnTo>
                        <a:pt x="1538" y="3"/>
                      </a:lnTo>
                      <a:lnTo>
                        <a:pt x="1595" y="3"/>
                      </a:lnTo>
                      <a:lnTo>
                        <a:pt x="1619" y="3"/>
                      </a:lnTo>
                      <a:lnTo>
                        <a:pt x="1679" y="5"/>
                      </a:lnTo>
                      <a:lnTo>
                        <a:pt x="1725" y="10"/>
                      </a:lnTo>
                      <a:lnTo>
                        <a:pt x="1775" y="16"/>
                      </a:lnTo>
                      <a:lnTo>
                        <a:pt x="1802" y="16"/>
                      </a:lnTo>
                      <a:lnTo>
                        <a:pt x="1851" y="21"/>
                      </a:lnTo>
                      <a:lnTo>
                        <a:pt x="1913" y="26"/>
                      </a:lnTo>
                      <a:lnTo>
                        <a:pt x="1962" y="34"/>
                      </a:lnTo>
                      <a:lnTo>
                        <a:pt x="2086" y="50"/>
                      </a:lnTo>
                      <a:lnTo>
                        <a:pt x="2191" y="66"/>
                      </a:lnTo>
                      <a:lnTo>
                        <a:pt x="2257" y="79"/>
                      </a:lnTo>
                      <a:lnTo>
                        <a:pt x="2320" y="92"/>
                      </a:lnTo>
                      <a:lnTo>
                        <a:pt x="2355" y="100"/>
                      </a:lnTo>
                      <a:lnTo>
                        <a:pt x="2409" y="113"/>
                      </a:lnTo>
                      <a:lnTo>
                        <a:pt x="2467" y="129"/>
                      </a:lnTo>
                      <a:lnTo>
                        <a:pt x="2519" y="144"/>
                      </a:lnTo>
                      <a:lnTo>
                        <a:pt x="2551" y="155"/>
                      </a:lnTo>
                      <a:lnTo>
                        <a:pt x="2590" y="168"/>
                      </a:lnTo>
                      <a:lnTo>
                        <a:pt x="2639" y="182"/>
                      </a:lnTo>
                      <a:lnTo>
                        <a:pt x="2685" y="198"/>
                      </a:lnTo>
                      <a:lnTo>
                        <a:pt x="2731" y="216"/>
                      </a:lnTo>
                      <a:lnTo>
                        <a:pt x="2797" y="239"/>
                      </a:lnTo>
                      <a:lnTo>
                        <a:pt x="2837" y="258"/>
                      </a:lnTo>
                      <a:lnTo>
                        <a:pt x="2895" y="286"/>
                      </a:lnTo>
                      <a:lnTo>
                        <a:pt x="2920" y="303"/>
                      </a:lnTo>
                      <a:lnTo>
                        <a:pt x="2927" y="311"/>
                      </a:lnTo>
                      <a:lnTo>
                        <a:pt x="2944" y="334"/>
                      </a:lnTo>
                      <a:lnTo>
                        <a:pt x="2952" y="358"/>
                      </a:lnTo>
                      <a:lnTo>
                        <a:pt x="2961" y="381"/>
                      </a:lnTo>
                      <a:lnTo>
                        <a:pt x="2969" y="406"/>
                      </a:lnTo>
                      <a:lnTo>
                        <a:pt x="2976" y="429"/>
                      </a:lnTo>
                      <a:lnTo>
                        <a:pt x="2982" y="455"/>
                      </a:lnTo>
                      <a:lnTo>
                        <a:pt x="2985" y="476"/>
                      </a:lnTo>
                      <a:lnTo>
                        <a:pt x="2988" y="500"/>
                      </a:lnTo>
                      <a:lnTo>
                        <a:pt x="2993" y="524"/>
                      </a:lnTo>
                      <a:lnTo>
                        <a:pt x="2993" y="548"/>
                      </a:lnTo>
                      <a:lnTo>
                        <a:pt x="2993" y="571"/>
                      </a:lnTo>
                      <a:lnTo>
                        <a:pt x="2993" y="595"/>
                      </a:lnTo>
                      <a:lnTo>
                        <a:pt x="2993" y="618"/>
                      </a:lnTo>
                      <a:lnTo>
                        <a:pt x="2993" y="643"/>
                      </a:lnTo>
                      <a:lnTo>
                        <a:pt x="2993" y="666"/>
                      </a:lnTo>
                      <a:lnTo>
                        <a:pt x="2993" y="666"/>
                      </a:lnTo>
                      <a:lnTo>
                        <a:pt x="2974" y="650"/>
                      </a:lnTo>
                      <a:lnTo>
                        <a:pt x="2944" y="643"/>
                      </a:lnTo>
                      <a:lnTo>
                        <a:pt x="2920" y="632"/>
                      </a:lnTo>
                      <a:lnTo>
                        <a:pt x="2886" y="615"/>
                      </a:lnTo>
                      <a:lnTo>
                        <a:pt x="2822" y="595"/>
                      </a:lnTo>
                      <a:lnTo>
                        <a:pt x="2726" y="550"/>
                      </a:lnTo>
                      <a:lnTo>
                        <a:pt x="2698" y="540"/>
                      </a:lnTo>
                      <a:lnTo>
                        <a:pt x="2674" y="527"/>
                      </a:lnTo>
                      <a:lnTo>
                        <a:pt x="2649" y="516"/>
                      </a:lnTo>
                      <a:lnTo>
                        <a:pt x="2625" y="507"/>
                      </a:lnTo>
                      <a:lnTo>
                        <a:pt x="2600" y="500"/>
                      </a:lnTo>
                      <a:lnTo>
                        <a:pt x="2576" y="492"/>
                      </a:lnTo>
                      <a:lnTo>
                        <a:pt x="2551" y="484"/>
                      </a:lnTo>
                      <a:lnTo>
                        <a:pt x="2524" y="474"/>
                      </a:lnTo>
                      <a:lnTo>
                        <a:pt x="2502" y="468"/>
                      </a:lnTo>
                      <a:lnTo>
                        <a:pt x="2478" y="461"/>
                      </a:lnTo>
                      <a:lnTo>
                        <a:pt x="2453" y="453"/>
                      </a:lnTo>
                      <a:lnTo>
                        <a:pt x="2429" y="445"/>
                      </a:lnTo>
                      <a:lnTo>
                        <a:pt x="2404" y="437"/>
                      </a:lnTo>
                      <a:lnTo>
                        <a:pt x="2274" y="397"/>
                      </a:lnTo>
                      <a:lnTo>
                        <a:pt x="2199" y="384"/>
                      </a:lnTo>
                      <a:lnTo>
                        <a:pt x="2167" y="379"/>
                      </a:lnTo>
                      <a:lnTo>
                        <a:pt x="2142" y="373"/>
                      </a:lnTo>
                      <a:lnTo>
                        <a:pt x="2093" y="366"/>
                      </a:lnTo>
                      <a:lnTo>
                        <a:pt x="2055" y="355"/>
                      </a:lnTo>
                      <a:lnTo>
                        <a:pt x="1995" y="350"/>
                      </a:lnTo>
                      <a:lnTo>
                        <a:pt x="1971" y="342"/>
                      </a:lnTo>
                      <a:lnTo>
                        <a:pt x="1930" y="340"/>
                      </a:lnTo>
                      <a:lnTo>
                        <a:pt x="1897" y="334"/>
                      </a:lnTo>
                      <a:lnTo>
                        <a:pt x="1824" y="326"/>
                      </a:lnTo>
                      <a:lnTo>
                        <a:pt x="1775" y="319"/>
                      </a:lnTo>
                      <a:lnTo>
                        <a:pt x="1742" y="316"/>
                      </a:lnTo>
                      <a:lnTo>
                        <a:pt x="1700" y="313"/>
                      </a:lnTo>
                      <a:lnTo>
                        <a:pt x="1660" y="311"/>
                      </a:lnTo>
                      <a:lnTo>
                        <a:pt x="1614" y="306"/>
                      </a:lnTo>
                      <a:lnTo>
                        <a:pt x="1570" y="306"/>
                      </a:lnTo>
                      <a:lnTo>
                        <a:pt x="1531" y="306"/>
                      </a:lnTo>
                      <a:lnTo>
                        <a:pt x="1497" y="303"/>
                      </a:lnTo>
                      <a:lnTo>
                        <a:pt x="1433" y="303"/>
                      </a:lnTo>
                      <a:lnTo>
                        <a:pt x="1357" y="303"/>
                      </a:lnTo>
                      <a:lnTo>
                        <a:pt x="1311" y="303"/>
                      </a:lnTo>
                      <a:lnTo>
                        <a:pt x="1259" y="303"/>
                      </a:lnTo>
                      <a:lnTo>
                        <a:pt x="1210" y="303"/>
                      </a:lnTo>
                      <a:lnTo>
                        <a:pt x="1186" y="303"/>
                      </a:lnTo>
                      <a:lnTo>
                        <a:pt x="1106" y="311"/>
                      </a:lnTo>
                      <a:lnTo>
                        <a:pt x="1074" y="313"/>
                      </a:lnTo>
                      <a:lnTo>
                        <a:pt x="1049" y="319"/>
                      </a:lnTo>
                      <a:lnTo>
                        <a:pt x="1017" y="321"/>
                      </a:lnTo>
                      <a:lnTo>
                        <a:pt x="978" y="326"/>
                      </a:lnTo>
                      <a:lnTo>
                        <a:pt x="935" y="334"/>
                      </a:lnTo>
                      <a:lnTo>
                        <a:pt x="883" y="345"/>
                      </a:lnTo>
                      <a:lnTo>
                        <a:pt x="810" y="358"/>
                      </a:lnTo>
                      <a:lnTo>
                        <a:pt x="736" y="373"/>
                      </a:lnTo>
                      <a:lnTo>
                        <a:pt x="687" y="381"/>
                      </a:lnTo>
                      <a:lnTo>
                        <a:pt x="654" y="389"/>
                      </a:lnTo>
                      <a:lnTo>
                        <a:pt x="629" y="397"/>
                      </a:lnTo>
                      <a:lnTo>
                        <a:pt x="597" y="406"/>
                      </a:lnTo>
                      <a:lnTo>
                        <a:pt x="572" y="414"/>
                      </a:lnTo>
                      <a:lnTo>
                        <a:pt x="548" y="421"/>
                      </a:lnTo>
                      <a:lnTo>
                        <a:pt x="458" y="453"/>
                      </a:lnTo>
                      <a:lnTo>
                        <a:pt x="384" y="476"/>
                      </a:lnTo>
                      <a:lnTo>
                        <a:pt x="360" y="484"/>
                      </a:lnTo>
                      <a:lnTo>
                        <a:pt x="335" y="492"/>
                      </a:lnTo>
                      <a:lnTo>
                        <a:pt x="311" y="500"/>
                      </a:lnTo>
                      <a:lnTo>
                        <a:pt x="286" y="507"/>
                      </a:lnTo>
                      <a:lnTo>
                        <a:pt x="262" y="516"/>
                      </a:lnTo>
                      <a:lnTo>
                        <a:pt x="237" y="524"/>
                      </a:lnTo>
                      <a:lnTo>
                        <a:pt x="213" y="532"/>
                      </a:lnTo>
                      <a:lnTo>
                        <a:pt x="164" y="548"/>
                      </a:lnTo>
                      <a:lnTo>
                        <a:pt x="139" y="555"/>
                      </a:lnTo>
                      <a:lnTo>
                        <a:pt x="115" y="563"/>
                      </a:lnTo>
                      <a:lnTo>
                        <a:pt x="90" y="571"/>
                      </a:lnTo>
                      <a:lnTo>
                        <a:pt x="66" y="579"/>
                      </a:lnTo>
                      <a:lnTo>
                        <a:pt x="40" y="587"/>
                      </a:lnTo>
                      <a:lnTo>
                        <a:pt x="16" y="595"/>
                      </a:lnTo>
                      <a:lnTo>
                        <a:pt x="0" y="595"/>
                      </a:lnTo>
                      <a:lnTo>
                        <a:pt x="0" y="571"/>
                      </a:lnTo>
                      <a:lnTo>
                        <a:pt x="0" y="548"/>
                      </a:lnTo>
                      <a:lnTo>
                        <a:pt x="0" y="524"/>
                      </a:lnTo>
                      <a:lnTo>
                        <a:pt x="0" y="500"/>
                      </a:lnTo>
                      <a:lnTo>
                        <a:pt x="0" y="476"/>
                      </a:lnTo>
                      <a:lnTo>
                        <a:pt x="0" y="453"/>
                      </a:lnTo>
                      <a:lnTo>
                        <a:pt x="0" y="429"/>
                      </a:lnTo>
                      <a:lnTo>
                        <a:pt x="8" y="371"/>
                      </a:lnTo>
                      <a:lnTo>
                        <a:pt x="19" y="324"/>
                      </a:lnTo>
                      <a:lnTo>
                        <a:pt x="25" y="298"/>
                      </a:lnTo>
                      <a:lnTo>
                        <a:pt x="46" y="265"/>
                      </a:lnTo>
                      <a:lnTo>
                        <a:pt x="74" y="252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104880" y="5602320"/>
                <a:ext cx="385560" cy="215640"/>
                <a:chOff x="6104880" y="5602320"/>
                <a:chExt cx="385560" cy="215640"/>
              </a:xfrm>
            </p:grpSpPr>
            <p:grpSp>
              <p:nvGrpSpPr>
                <p:cNvPr id="80" name=""/>
                <p:cNvGrpSpPr/>
                <p:nvPr/>
              </p:nvGrpSpPr>
              <p:grpSpPr>
                <a:xfrm>
                  <a:off x="6104880" y="5602320"/>
                  <a:ext cx="385560" cy="215640"/>
                  <a:chOff x="6104880" y="5602320"/>
                  <a:chExt cx="385560" cy="21564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6106320" y="5602320"/>
                    <a:ext cx="3837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0" h="1095">
                        <a:moveTo>
                          <a:pt x="0" y="1095"/>
                        </a:moveTo>
                        <a:lnTo>
                          <a:pt x="0" y="320"/>
                        </a:lnTo>
                        <a:lnTo>
                          <a:pt x="809" y="139"/>
                        </a:lnTo>
                        <a:lnTo>
                          <a:pt x="856" y="0"/>
                        </a:lnTo>
                        <a:lnTo>
                          <a:pt x="961" y="3"/>
                        </a:lnTo>
                        <a:lnTo>
                          <a:pt x="1005" y="139"/>
                        </a:lnTo>
                        <a:lnTo>
                          <a:pt x="1831" y="139"/>
                        </a:lnTo>
                        <a:lnTo>
                          <a:pt x="1856" y="5"/>
                        </a:lnTo>
                        <a:lnTo>
                          <a:pt x="1970" y="5"/>
                        </a:lnTo>
                        <a:lnTo>
                          <a:pt x="2010" y="139"/>
                        </a:lnTo>
                        <a:lnTo>
                          <a:pt x="2880" y="363"/>
                        </a:lnTo>
                        <a:lnTo>
                          <a:pt x="2877" y="1087"/>
                        </a:lnTo>
                        <a:lnTo>
                          <a:pt x="0" y="1095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6104880" y="5775120"/>
                    <a:ext cx="38556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8" h="206">
                        <a:moveTo>
                          <a:pt x="0" y="0"/>
                        </a:moveTo>
                        <a:lnTo>
                          <a:pt x="41" y="206"/>
                        </a:lnTo>
                        <a:lnTo>
                          <a:pt x="2839" y="206"/>
                        </a:lnTo>
                        <a:lnTo>
                          <a:pt x="288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6112080" y="5806800"/>
                    <a:ext cx="3690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72" h="64">
                        <a:moveTo>
                          <a:pt x="0" y="0"/>
                        </a:moveTo>
                        <a:lnTo>
                          <a:pt x="115" y="64"/>
                        </a:lnTo>
                        <a:lnTo>
                          <a:pt x="2665" y="64"/>
                        </a:lnTo>
                        <a:lnTo>
                          <a:pt x="27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" name=""/>
                <p:cNvGrpSpPr/>
                <p:nvPr/>
              </p:nvGrpSpPr>
              <p:grpSpPr>
                <a:xfrm>
                  <a:off x="6207480" y="5649840"/>
                  <a:ext cx="175320" cy="90360"/>
                  <a:chOff x="6207480" y="5649840"/>
                  <a:chExt cx="175320" cy="90360"/>
                </a:xfrm>
              </p:grpSpPr>
              <p:grpSp>
                <p:nvGrpSpPr>
                  <p:cNvPr id="85" name=""/>
                  <p:cNvGrpSpPr/>
                  <p:nvPr/>
                </p:nvGrpSpPr>
                <p:grpSpPr>
                  <a:xfrm>
                    <a:off x="6207480" y="5649840"/>
                    <a:ext cx="173880" cy="88920"/>
                    <a:chOff x="6207480" y="5649840"/>
                    <a:chExt cx="173880" cy="88920"/>
                  </a:xfrm>
                </p:grpSpPr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207480" y="564984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248160" y="564984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283440" y="564984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317280" y="564984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357960" y="564984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248160" y="567504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283440" y="567504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317280" y="567504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6248160" y="5699160"/>
                      <a:ext cx="23400" cy="14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283440" y="5699160"/>
                      <a:ext cx="23400" cy="14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317280" y="5699160"/>
                      <a:ext cx="23040" cy="14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6248160" y="572436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283440" y="572436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317280" y="572436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207480" y="571320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207480" y="567504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357960" y="571320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6357960" y="567504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" name=""/>
                  <p:cNvGrpSpPr/>
                  <p:nvPr/>
                </p:nvGrpSpPr>
                <p:grpSpPr>
                  <a:xfrm>
                    <a:off x="6208560" y="5653080"/>
                    <a:ext cx="23400" cy="14040"/>
                    <a:chOff x="6208560" y="5653080"/>
                    <a:chExt cx="23400" cy="14040"/>
                  </a:xfrm>
                </p:grpSpPr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6208560" y="565308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208560" y="565308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6249960" y="5653080"/>
                    <a:ext cx="23040" cy="14040"/>
                    <a:chOff x="6249960" y="5653080"/>
                    <a:chExt cx="23040" cy="1404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249960" y="5653080"/>
                      <a:ext cx="2304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249960" y="565308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6284880" y="5653080"/>
                    <a:ext cx="23040" cy="14040"/>
                    <a:chOff x="6284880" y="5653080"/>
                    <a:chExt cx="23040" cy="1404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6284880" y="5653080"/>
                      <a:ext cx="2304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6284880" y="565308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3" name=""/>
                  <p:cNvGrpSpPr/>
                  <p:nvPr/>
                </p:nvGrpSpPr>
                <p:grpSpPr>
                  <a:xfrm>
                    <a:off x="6319800" y="5653080"/>
                    <a:ext cx="23400" cy="14040"/>
                    <a:chOff x="6319800" y="5653080"/>
                    <a:chExt cx="23400" cy="14040"/>
                  </a:xfrm>
                </p:grpSpPr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6319800" y="565308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6319800" y="565308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6" name=""/>
                  <p:cNvGrpSpPr/>
                  <p:nvPr/>
                </p:nvGrpSpPr>
                <p:grpSpPr>
                  <a:xfrm>
                    <a:off x="6359400" y="5653080"/>
                    <a:ext cx="23400" cy="14040"/>
                    <a:chOff x="6359400" y="5653080"/>
                    <a:chExt cx="23400" cy="14040"/>
                  </a:xfrm>
                </p:grpSpPr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359400" y="565308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360840" y="565308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6249960" y="5676840"/>
                    <a:ext cx="23040" cy="15840"/>
                    <a:chOff x="6249960" y="5676840"/>
                    <a:chExt cx="23040" cy="1584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6249960" y="5676840"/>
                      <a:ext cx="23040" cy="15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6249960" y="567828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" name=""/>
                  <p:cNvGrpSpPr/>
                  <p:nvPr/>
                </p:nvGrpSpPr>
                <p:grpSpPr>
                  <a:xfrm>
                    <a:off x="6284880" y="5676840"/>
                    <a:ext cx="23040" cy="14400"/>
                    <a:chOff x="6284880" y="5676840"/>
                    <a:chExt cx="23040" cy="14400"/>
                  </a:xfrm>
                </p:grpSpPr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6284880" y="5676840"/>
                      <a:ext cx="2304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284880" y="567684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5" name=""/>
                  <p:cNvGrpSpPr/>
                  <p:nvPr/>
                </p:nvGrpSpPr>
                <p:grpSpPr>
                  <a:xfrm>
                    <a:off x="6319800" y="5676840"/>
                    <a:ext cx="23400" cy="14400"/>
                    <a:chOff x="6319800" y="5676840"/>
                    <a:chExt cx="23400" cy="14400"/>
                  </a:xfrm>
                </p:grpSpPr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319800" y="5676840"/>
                      <a:ext cx="2340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6319800" y="567684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6249960" y="5702040"/>
                    <a:ext cx="23040" cy="14400"/>
                    <a:chOff x="6249960" y="5702040"/>
                    <a:chExt cx="23040" cy="1440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249960" y="5702040"/>
                      <a:ext cx="2304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249960" y="570204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6284880" y="5702040"/>
                    <a:ext cx="23040" cy="14400"/>
                    <a:chOff x="6284880" y="5702040"/>
                    <a:chExt cx="23040" cy="1440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284880" y="5702040"/>
                      <a:ext cx="2304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284880" y="570204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6319800" y="5702040"/>
                    <a:ext cx="23400" cy="14400"/>
                    <a:chOff x="6319800" y="5702040"/>
                    <a:chExt cx="23400" cy="1440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6319800" y="5702040"/>
                      <a:ext cx="2340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319800" y="570204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6249960" y="5726160"/>
                    <a:ext cx="23040" cy="14040"/>
                    <a:chOff x="6249960" y="5726160"/>
                    <a:chExt cx="23040" cy="1404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249960" y="5726160"/>
                      <a:ext cx="2304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249960" y="5726160"/>
                      <a:ext cx="19800" cy="1080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6284880" y="5726160"/>
                    <a:ext cx="23040" cy="14040"/>
                    <a:chOff x="6284880" y="5726160"/>
                    <a:chExt cx="23040" cy="1404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284880" y="5726160"/>
                      <a:ext cx="2304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284880" y="5726160"/>
                      <a:ext cx="19800" cy="1080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6319800" y="5726160"/>
                    <a:ext cx="23400" cy="14040"/>
                    <a:chOff x="6319800" y="5726160"/>
                    <a:chExt cx="23400" cy="14040"/>
                  </a:xfrm>
                </p:grpSpPr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319800" y="572616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319800" y="5726160"/>
                      <a:ext cx="20160" cy="1080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6" name=""/>
                  <p:cNvGrpSpPr/>
                  <p:nvPr/>
                </p:nvGrpSpPr>
                <p:grpSpPr>
                  <a:xfrm>
                    <a:off x="6208560" y="5715000"/>
                    <a:ext cx="23400" cy="14040"/>
                    <a:chOff x="6208560" y="5715000"/>
                    <a:chExt cx="23400" cy="14040"/>
                  </a:xfrm>
                </p:grpSpPr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208560" y="571500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208560" y="571644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" name=""/>
                  <p:cNvGrpSpPr/>
                  <p:nvPr/>
                </p:nvGrpSpPr>
                <p:grpSpPr>
                  <a:xfrm>
                    <a:off x="6208560" y="5676840"/>
                    <a:ext cx="23400" cy="15840"/>
                    <a:chOff x="6208560" y="5676840"/>
                    <a:chExt cx="23400" cy="15840"/>
                  </a:xfrm>
                </p:grpSpPr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208560" y="5676840"/>
                      <a:ext cx="23400" cy="15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208560" y="567828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6359400" y="5715000"/>
                    <a:ext cx="23400" cy="14040"/>
                    <a:chOff x="6359400" y="5715000"/>
                    <a:chExt cx="23400" cy="1404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359400" y="571500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360840" y="571644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6359400" y="5676840"/>
                    <a:ext cx="23400" cy="15840"/>
                    <a:chOff x="6359400" y="5676840"/>
                    <a:chExt cx="23400" cy="1584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359400" y="5676840"/>
                      <a:ext cx="23400" cy="15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360840" y="567828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58" name=""/>
              <p:cNvGrpSpPr/>
              <p:nvPr/>
            </p:nvGrpSpPr>
            <p:grpSpPr>
              <a:xfrm>
                <a:off x="6064200" y="5608440"/>
                <a:ext cx="42120" cy="115560"/>
                <a:chOff x="6064200" y="5608440"/>
                <a:chExt cx="42120" cy="1155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6065280" y="5643360"/>
                  <a:ext cx="20520" cy="1908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064200" y="5654520"/>
                  <a:ext cx="20160" cy="1584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5280" y="5670360"/>
                  <a:ext cx="21600" cy="792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6720" y="5684760"/>
                  <a:ext cx="21960" cy="144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V="1">
                  <a:off x="6071400" y="5697000"/>
                  <a:ext cx="21600" cy="180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6074280" y="5702040"/>
                  <a:ext cx="21600" cy="648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068160" y="5632200"/>
                  <a:ext cx="18720" cy="2412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074280" y="5621400"/>
                  <a:ext cx="14400" cy="2844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081480" y="5613480"/>
                  <a:ext cx="9720" cy="2988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093360" y="5608440"/>
                  <a:ext cx="2880" cy="3348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V="1">
                  <a:off x="6082920" y="5703840"/>
                  <a:ext cx="18720" cy="1440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V="1">
                  <a:off x="6093360" y="5703480"/>
                  <a:ext cx="12960" cy="2052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1" name=""/>
          <p:cNvGrpSpPr/>
          <p:nvPr/>
        </p:nvGrpSpPr>
        <p:grpSpPr>
          <a:xfrm>
            <a:off x="507960" y="1752480"/>
            <a:ext cx="4947480" cy="4205160"/>
            <a:chOff x="507960" y="1752480"/>
            <a:chExt cx="4947480" cy="4205160"/>
          </a:xfrm>
        </p:grpSpPr>
        <p:sp>
          <p:nvSpPr>
            <p:cNvPr id="172" name=""/>
            <p:cNvSpPr/>
            <p:nvPr/>
          </p:nvSpPr>
          <p:spPr>
            <a:xfrm>
              <a:off x="1127880" y="5344920"/>
              <a:ext cx="42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52680" y="5344920"/>
              <a:ext cx="1050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imentado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61120" y="5344920"/>
              <a:ext cx="1657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e de Distribui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52280" y="5578200"/>
              <a:ext cx="1264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 Primá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43840" y="5562360"/>
              <a:ext cx="1151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u Secundá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36880" y="2558880"/>
              <a:ext cx="162360" cy="191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45520" y="2882520"/>
              <a:ext cx="162720" cy="192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55960" y="3233520"/>
              <a:ext cx="160920" cy="195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73600" y="3595320"/>
              <a:ext cx="159480" cy="195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73600" y="4144680"/>
              <a:ext cx="159480" cy="192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882240" y="4449600"/>
              <a:ext cx="159480" cy="191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89440" y="4763880"/>
              <a:ext cx="160920" cy="191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07080" y="5060880"/>
              <a:ext cx="162720" cy="190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009680" y="2999880"/>
              <a:ext cx="113400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018320" y="3201840"/>
              <a:ext cx="112536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18320" y="3325680"/>
              <a:ext cx="114300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18320" y="3325680"/>
              <a:ext cx="113436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001040" y="1914120"/>
              <a:ext cx="1081080" cy="72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001040" y="2199960"/>
              <a:ext cx="109692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001040" y="2505960"/>
              <a:ext cx="112680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01040" y="2639880"/>
              <a:ext cx="1142640" cy="16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07960" y="4460760"/>
              <a:ext cx="531360" cy="546120"/>
              <a:chOff x="507960" y="4460760"/>
              <a:chExt cx="531360" cy="546120"/>
            </a:xfrm>
          </p:grpSpPr>
          <p:sp>
            <p:nvSpPr>
              <p:cNvPr id="194" name=""/>
              <p:cNvSpPr/>
              <p:nvPr/>
            </p:nvSpPr>
            <p:spPr>
              <a:xfrm>
                <a:off x="507960" y="4460760"/>
                <a:ext cx="531360" cy="5461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11920" y="4465440"/>
                <a:ext cx="522720" cy="536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2320560" y="4536720"/>
              <a:ext cx="253080" cy="324000"/>
            </a:xfrm>
            <a:custGeom>
              <a:avLst/>
              <a:gdLst/>
              <a:ahLst/>
              <a:rect l="l" t="t" r="r" b="b"/>
              <a:pathLst>
                <a:path w="173" h="204">
                  <a:moveTo>
                    <a:pt x="87" y="204"/>
                  </a:moveTo>
                  <a:lnTo>
                    <a:pt x="70" y="202"/>
                  </a:lnTo>
                  <a:lnTo>
                    <a:pt x="52" y="196"/>
                  </a:lnTo>
                  <a:lnTo>
                    <a:pt x="39" y="186"/>
                  </a:lnTo>
                  <a:lnTo>
                    <a:pt x="25" y="175"/>
                  </a:lnTo>
                  <a:lnTo>
                    <a:pt x="16" y="159"/>
                  </a:lnTo>
                  <a:lnTo>
                    <a:pt x="8" y="142"/>
                  </a:lnTo>
                  <a:lnTo>
                    <a:pt x="2" y="123"/>
                  </a:lnTo>
                  <a:lnTo>
                    <a:pt x="0" y="102"/>
                  </a:lnTo>
                  <a:lnTo>
                    <a:pt x="2" y="81"/>
                  </a:lnTo>
                  <a:lnTo>
                    <a:pt x="8" y="63"/>
                  </a:lnTo>
                  <a:lnTo>
                    <a:pt x="16" y="46"/>
                  </a:lnTo>
                  <a:lnTo>
                    <a:pt x="25" y="31"/>
                  </a:lnTo>
                  <a:lnTo>
                    <a:pt x="39" y="17"/>
                  </a:lnTo>
                  <a:lnTo>
                    <a:pt x="52" y="8"/>
                  </a:lnTo>
                  <a:lnTo>
                    <a:pt x="70" y="2"/>
                  </a:lnTo>
                  <a:lnTo>
                    <a:pt x="87" y="0"/>
                  </a:lnTo>
                  <a:lnTo>
                    <a:pt x="173" y="0"/>
                  </a:lnTo>
                  <a:lnTo>
                    <a:pt x="173" y="204"/>
                  </a:lnTo>
                  <a:lnTo>
                    <a:pt x="87" y="20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92480" y="2973240"/>
              <a:ext cx="255960" cy="322200"/>
            </a:xfrm>
            <a:custGeom>
              <a:avLst/>
              <a:gdLst/>
              <a:ahLst/>
              <a:rect l="l" t="t" r="r" b="b"/>
              <a:pathLst>
                <a:path w="175" h="203">
                  <a:moveTo>
                    <a:pt x="89" y="203"/>
                  </a:moveTo>
                  <a:lnTo>
                    <a:pt x="71" y="201"/>
                  </a:lnTo>
                  <a:lnTo>
                    <a:pt x="54" y="195"/>
                  </a:lnTo>
                  <a:lnTo>
                    <a:pt x="39" y="186"/>
                  </a:lnTo>
                  <a:lnTo>
                    <a:pt x="27" y="172"/>
                  </a:lnTo>
                  <a:lnTo>
                    <a:pt x="16" y="159"/>
                  </a:lnTo>
                  <a:lnTo>
                    <a:pt x="8" y="142"/>
                  </a:lnTo>
                  <a:lnTo>
                    <a:pt x="2" y="122"/>
                  </a:lnTo>
                  <a:lnTo>
                    <a:pt x="0" y="101"/>
                  </a:lnTo>
                  <a:lnTo>
                    <a:pt x="2" y="80"/>
                  </a:lnTo>
                  <a:lnTo>
                    <a:pt x="8" y="63"/>
                  </a:lnTo>
                  <a:lnTo>
                    <a:pt x="16" y="46"/>
                  </a:lnTo>
                  <a:lnTo>
                    <a:pt x="27" y="30"/>
                  </a:lnTo>
                  <a:lnTo>
                    <a:pt x="39" y="17"/>
                  </a:lnTo>
                  <a:lnTo>
                    <a:pt x="54" y="7"/>
                  </a:lnTo>
                  <a:lnTo>
                    <a:pt x="71" y="1"/>
                  </a:lnTo>
                  <a:lnTo>
                    <a:pt x="89" y="0"/>
                  </a:lnTo>
                  <a:lnTo>
                    <a:pt x="175" y="0"/>
                  </a:lnTo>
                  <a:lnTo>
                    <a:pt x="175" y="203"/>
                  </a:lnTo>
                  <a:lnTo>
                    <a:pt x="89" y="20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548800" y="2658960"/>
              <a:ext cx="128340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548800" y="2980800"/>
              <a:ext cx="12924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48800" y="3125520"/>
              <a:ext cx="131148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48800" y="3125520"/>
              <a:ext cx="1320480" cy="56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573640" y="4241160"/>
              <a:ext cx="129528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2573640" y="4546440"/>
              <a:ext cx="130392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573640" y="4708440"/>
              <a:ext cx="1311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73640" y="4708440"/>
              <a:ext cx="1329120" cy="44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038240" y="4698720"/>
              <a:ext cx="1282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42280" y="2361960"/>
              <a:ext cx="254520" cy="324000"/>
            </a:xfrm>
            <a:custGeom>
              <a:avLst/>
              <a:gdLst/>
              <a:ahLst/>
              <a:rect l="l" t="t" r="r" b="b"/>
              <a:pathLst>
                <a:path w="174" h="204">
                  <a:moveTo>
                    <a:pt x="86" y="204"/>
                  </a:moveTo>
                  <a:lnTo>
                    <a:pt x="69" y="202"/>
                  </a:lnTo>
                  <a:lnTo>
                    <a:pt x="51" y="196"/>
                  </a:lnTo>
                  <a:lnTo>
                    <a:pt x="38" y="187"/>
                  </a:lnTo>
                  <a:lnTo>
                    <a:pt x="25" y="173"/>
                  </a:lnTo>
                  <a:lnTo>
                    <a:pt x="15" y="160"/>
                  </a:lnTo>
                  <a:lnTo>
                    <a:pt x="7" y="142"/>
                  </a:lnTo>
                  <a:lnTo>
                    <a:pt x="2" y="123"/>
                  </a:lnTo>
                  <a:lnTo>
                    <a:pt x="0" y="102"/>
                  </a:lnTo>
                  <a:lnTo>
                    <a:pt x="2" y="81"/>
                  </a:lnTo>
                  <a:lnTo>
                    <a:pt x="7" y="64"/>
                  </a:lnTo>
                  <a:lnTo>
                    <a:pt x="15" y="46"/>
                  </a:lnTo>
                  <a:lnTo>
                    <a:pt x="25" y="31"/>
                  </a:lnTo>
                  <a:lnTo>
                    <a:pt x="38" y="18"/>
                  </a:lnTo>
                  <a:lnTo>
                    <a:pt x="51" y="8"/>
                  </a:lnTo>
                  <a:lnTo>
                    <a:pt x="69" y="2"/>
                  </a:lnTo>
                  <a:lnTo>
                    <a:pt x="86" y="0"/>
                  </a:lnTo>
                  <a:lnTo>
                    <a:pt x="174" y="0"/>
                  </a:lnTo>
                  <a:lnTo>
                    <a:pt x="174" y="204"/>
                  </a:lnTo>
                  <a:lnTo>
                    <a:pt x="86" y="20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060200" y="5106600"/>
              <a:ext cx="8640" cy="774720"/>
              <a:chOff x="1060200" y="5106600"/>
              <a:chExt cx="8640" cy="774720"/>
            </a:xfrm>
          </p:grpSpPr>
          <p:sp>
            <p:nvSpPr>
              <p:cNvPr id="209" name=""/>
              <p:cNvSpPr/>
              <p:nvPr/>
            </p:nvSpPr>
            <p:spPr>
              <a:xfrm>
                <a:off x="1060200" y="510660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060200" y="512280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060200" y="514008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060200" y="515916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060200" y="517644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060200" y="519552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060200" y="521316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60200" y="523224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060200" y="525132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060200" y="526860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060200" y="52876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060200" y="530532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060200" y="5324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060200" y="534168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060200" y="536076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060200" y="537804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060200" y="539712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060200" y="541476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060200" y="543384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060200" y="545112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060200" y="547020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060200" y="548784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060200" y="550692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060200" y="552420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060200" y="554328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060200" y="556092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60200" y="558000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0200" y="559872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060200" y="561636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060200" y="56354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060200" y="565272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060200" y="56718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060200" y="568944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060200" y="570852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60200" y="572580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060200" y="574488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060200" y="576252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060200" y="578160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060200" y="579888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60200" y="581796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60200" y="583524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060200" y="585432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060200" y="587196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616120" y="5135400"/>
              <a:ext cx="8640" cy="772920"/>
              <a:chOff x="2616120" y="5135400"/>
              <a:chExt cx="8640" cy="772920"/>
            </a:xfrm>
          </p:grpSpPr>
          <p:sp>
            <p:nvSpPr>
              <p:cNvPr id="253" name=""/>
              <p:cNvSpPr/>
              <p:nvPr/>
            </p:nvSpPr>
            <p:spPr>
              <a:xfrm>
                <a:off x="2616120" y="513540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3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616120" y="514944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2616120" y="516852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16120" y="518616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16120" y="52052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616120" y="522252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616120" y="524160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16120" y="525924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616120" y="527832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616120" y="529560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616120" y="531468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616120" y="533232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616120" y="535140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616120" y="536868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616120" y="538776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616120" y="54068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616120" y="542412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616120" y="54432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16120" y="546084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616120" y="547992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616120" y="549720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616120" y="551628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616120" y="553392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616120" y="55530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616120" y="557028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616120" y="558936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6120" y="560664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16120" y="562572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16120" y="564336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16120" y="566244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616120" y="567972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616120" y="569880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16120" y="571644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16120" y="573552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616120" y="57546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616120" y="577188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616120" y="579096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616120" y="580860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616120" y="582732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616120" y="5844960"/>
                <a:ext cx="864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616120" y="586404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616120" y="5881320"/>
                <a:ext cx="864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616120" y="5900400"/>
                <a:ext cx="864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5132520" y="5182920"/>
              <a:ext cx="8280" cy="774720"/>
              <a:chOff x="5132520" y="5182920"/>
              <a:chExt cx="8280" cy="774720"/>
            </a:xfrm>
          </p:grpSpPr>
          <p:sp>
            <p:nvSpPr>
              <p:cNvPr id="297" name=""/>
              <p:cNvSpPr/>
              <p:nvPr/>
            </p:nvSpPr>
            <p:spPr>
              <a:xfrm>
                <a:off x="5132520" y="518292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132520" y="51987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132520" y="521640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132520" y="523548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132520" y="52527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32520" y="527184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132520" y="52909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132520" y="530820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132520" y="53272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132520" y="534492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132520" y="536400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132520" y="538128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132520" y="540036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132520" y="541800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132520" y="54370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132520" y="54543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132520" y="547344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32520" y="549108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32520" y="550980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132520" y="552744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132520" y="554652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132520" y="556380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132520" y="558288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132520" y="560052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32520" y="561960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132520" y="56386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32520" y="56559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132520" y="567504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132520" y="569268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132520" y="571176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132520" y="572904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132520" y="574812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132520" y="576540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132520" y="57844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132520" y="580212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132520" y="582120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132520" y="583848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132520" y="58575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132520" y="587520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132520" y="589428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132520" y="591156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132520" y="5930640"/>
                <a:ext cx="828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132520" y="594828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 flipH="1">
              <a:off x="744840" y="2533320"/>
              <a:ext cx="397080" cy="192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038240" y="3142800"/>
              <a:ext cx="1254240" cy="15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034880" y="3811320"/>
              <a:ext cx="1092960" cy="41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34880" y="4228920"/>
              <a:ext cx="109296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5020920" y="1752480"/>
              <a:ext cx="434520" cy="261720"/>
              <a:chOff x="5020920" y="1752480"/>
              <a:chExt cx="434520" cy="26172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5057280" y="1752480"/>
                <a:ext cx="398160" cy="117360"/>
                <a:chOff x="5057280" y="1752480"/>
                <a:chExt cx="398160" cy="1173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58360" y="1796760"/>
                  <a:ext cx="395280" cy="73080"/>
                </a:xfrm>
                <a:custGeom>
                  <a:avLst/>
                  <a:gdLst/>
                  <a:ahLst/>
                  <a:rect l="l" t="t" r="r" b="b"/>
                  <a:pathLst>
                    <a:path w="2965" h="459">
                      <a:moveTo>
                        <a:pt x="0" y="278"/>
                      </a:moveTo>
                      <a:lnTo>
                        <a:pt x="352" y="143"/>
                      </a:lnTo>
                      <a:lnTo>
                        <a:pt x="1129" y="0"/>
                      </a:lnTo>
                      <a:lnTo>
                        <a:pt x="2036" y="40"/>
                      </a:lnTo>
                      <a:lnTo>
                        <a:pt x="2494" y="143"/>
                      </a:lnTo>
                      <a:lnTo>
                        <a:pt x="2965" y="367"/>
                      </a:lnTo>
                      <a:lnTo>
                        <a:pt x="2911" y="407"/>
                      </a:lnTo>
                      <a:lnTo>
                        <a:pt x="2889" y="433"/>
                      </a:lnTo>
                      <a:lnTo>
                        <a:pt x="2857" y="451"/>
                      </a:lnTo>
                      <a:lnTo>
                        <a:pt x="2829" y="459"/>
                      </a:lnTo>
                      <a:lnTo>
                        <a:pt x="2805" y="459"/>
                      </a:lnTo>
                      <a:lnTo>
                        <a:pt x="2781" y="459"/>
                      </a:lnTo>
                      <a:lnTo>
                        <a:pt x="2756" y="459"/>
                      </a:lnTo>
                      <a:lnTo>
                        <a:pt x="2732" y="459"/>
                      </a:lnTo>
                      <a:lnTo>
                        <a:pt x="2707" y="451"/>
                      </a:lnTo>
                      <a:lnTo>
                        <a:pt x="2674" y="443"/>
                      </a:lnTo>
                      <a:lnTo>
                        <a:pt x="2654" y="441"/>
                      </a:lnTo>
                      <a:lnTo>
                        <a:pt x="2627" y="433"/>
                      </a:lnTo>
                      <a:lnTo>
                        <a:pt x="2595" y="425"/>
                      </a:lnTo>
                      <a:lnTo>
                        <a:pt x="2568" y="420"/>
                      </a:lnTo>
                      <a:lnTo>
                        <a:pt x="2543" y="412"/>
                      </a:lnTo>
                      <a:lnTo>
                        <a:pt x="2524" y="409"/>
                      </a:lnTo>
                      <a:lnTo>
                        <a:pt x="2500" y="399"/>
                      </a:lnTo>
                      <a:lnTo>
                        <a:pt x="2475" y="391"/>
                      </a:lnTo>
                      <a:lnTo>
                        <a:pt x="2451" y="386"/>
                      </a:lnTo>
                      <a:lnTo>
                        <a:pt x="2424" y="378"/>
                      </a:lnTo>
                      <a:lnTo>
                        <a:pt x="2399" y="373"/>
                      </a:lnTo>
                      <a:lnTo>
                        <a:pt x="2371" y="365"/>
                      </a:lnTo>
                      <a:lnTo>
                        <a:pt x="2346" y="357"/>
                      </a:lnTo>
                      <a:lnTo>
                        <a:pt x="2322" y="349"/>
                      </a:lnTo>
                      <a:lnTo>
                        <a:pt x="2297" y="340"/>
                      </a:lnTo>
                      <a:lnTo>
                        <a:pt x="2273" y="332"/>
                      </a:lnTo>
                      <a:lnTo>
                        <a:pt x="2248" y="325"/>
                      </a:lnTo>
                      <a:lnTo>
                        <a:pt x="2227" y="312"/>
                      </a:lnTo>
                      <a:lnTo>
                        <a:pt x="2200" y="298"/>
                      </a:lnTo>
                      <a:lnTo>
                        <a:pt x="2175" y="285"/>
                      </a:lnTo>
                      <a:lnTo>
                        <a:pt x="2151" y="272"/>
                      </a:lnTo>
                      <a:lnTo>
                        <a:pt x="2126" y="262"/>
                      </a:lnTo>
                      <a:lnTo>
                        <a:pt x="2104" y="246"/>
                      </a:lnTo>
                      <a:lnTo>
                        <a:pt x="2085" y="230"/>
                      </a:lnTo>
                      <a:lnTo>
                        <a:pt x="2060" y="214"/>
                      </a:lnTo>
                      <a:lnTo>
                        <a:pt x="2036" y="198"/>
                      </a:lnTo>
                      <a:lnTo>
                        <a:pt x="2011" y="182"/>
                      </a:lnTo>
                      <a:lnTo>
                        <a:pt x="1987" y="167"/>
                      </a:lnTo>
                      <a:lnTo>
                        <a:pt x="1962" y="159"/>
                      </a:lnTo>
                      <a:lnTo>
                        <a:pt x="1938" y="151"/>
                      </a:lnTo>
                      <a:lnTo>
                        <a:pt x="1906" y="143"/>
                      </a:lnTo>
                      <a:lnTo>
                        <a:pt x="1881" y="135"/>
                      </a:lnTo>
                      <a:lnTo>
                        <a:pt x="1857" y="130"/>
                      </a:lnTo>
                      <a:lnTo>
                        <a:pt x="1832" y="128"/>
                      </a:lnTo>
                      <a:lnTo>
                        <a:pt x="1808" y="121"/>
                      </a:lnTo>
                      <a:lnTo>
                        <a:pt x="1774" y="116"/>
                      </a:lnTo>
                      <a:lnTo>
                        <a:pt x="1725" y="113"/>
                      </a:lnTo>
                      <a:lnTo>
                        <a:pt x="1669" y="113"/>
                      </a:lnTo>
                      <a:lnTo>
                        <a:pt x="1586" y="111"/>
                      </a:lnTo>
                      <a:lnTo>
                        <a:pt x="1537" y="111"/>
                      </a:lnTo>
                      <a:lnTo>
                        <a:pt x="1431" y="111"/>
                      </a:lnTo>
                      <a:lnTo>
                        <a:pt x="1407" y="111"/>
                      </a:lnTo>
                      <a:lnTo>
                        <a:pt x="1382" y="111"/>
                      </a:lnTo>
                      <a:lnTo>
                        <a:pt x="1333" y="111"/>
                      </a:lnTo>
                      <a:lnTo>
                        <a:pt x="1206" y="111"/>
                      </a:lnTo>
                      <a:lnTo>
                        <a:pt x="1104" y="116"/>
                      </a:lnTo>
                      <a:lnTo>
                        <a:pt x="1055" y="121"/>
                      </a:lnTo>
                      <a:lnTo>
                        <a:pt x="1032" y="124"/>
                      </a:lnTo>
                      <a:lnTo>
                        <a:pt x="1006" y="130"/>
                      </a:lnTo>
                      <a:lnTo>
                        <a:pt x="982" y="135"/>
                      </a:lnTo>
                      <a:lnTo>
                        <a:pt x="957" y="143"/>
                      </a:lnTo>
                      <a:lnTo>
                        <a:pt x="933" y="151"/>
                      </a:lnTo>
                      <a:lnTo>
                        <a:pt x="908" y="159"/>
                      </a:lnTo>
                      <a:lnTo>
                        <a:pt x="884" y="175"/>
                      </a:lnTo>
                      <a:lnTo>
                        <a:pt x="866" y="186"/>
                      </a:lnTo>
                      <a:lnTo>
                        <a:pt x="840" y="203"/>
                      </a:lnTo>
                      <a:lnTo>
                        <a:pt x="821" y="214"/>
                      </a:lnTo>
                      <a:lnTo>
                        <a:pt x="795" y="230"/>
                      </a:lnTo>
                      <a:lnTo>
                        <a:pt x="769" y="246"/>
                      </a:lnTo>
                      <a:lnTo>
                        <a:pt x="745" y="262"/>
                      </a:lnTo>
                      <a:lnTo>
                        <a:pt x="720" y="272"/>
                      </a:lnTo>
                      <a:lnTo>
                        <a:pt x="698" y="281"/>
                      </a:lnTo>
                      <a:lnTo>
                        <a:pt x="671" y="293"/>
                      </a:lnTo>
                      <a:lnTo>
                        <a:pt x="649" y="304"/>
                      </a:lnTo>
                      <a:lnTo>
                        <a:pt x="626" y="313"/>
                      </a:lnTo>
                      <a:lnTo>
                        <a:pt x="598" y="325"/>
                      </a:lnTo>
                      <a:lnTo>
                        <a:pt x="573" y="332"/>
                      </a:lnTo>
                      <a:lnTo>
                        <a:pt x="549" y="340"/>
                      </a:lnTo>
                      <a:lnTo>
                        <a:pt x="515" y="349"/>
                      </a:lnTo>
                      <a:lnTo>
                        <a:pt x="491" y="357"/>
                      </a:lnTo>
                      <a:lnTo>
                        <a:pt x="466" y="365"/>
                      </a:lnTo>
                      <a:lnTo>
                        <a:pt x="437" y="373"/>
                      </a:lnTo>
                      <a:lnTo>
                        <a:pt x="410" y="377"/>
                      </a:lnTo>
                      <a:lnTo>
                        <a:pt x="376" y="384"/>
                      </a:lnTo>
                      <a:lnTo>
                        <a:pt x="350" y="390"/>
                      </a:lnTo>
                      <a:lnTo>
                        <a:pt x="324" y="395"/>
                      </a:lnTo>
                      <a:lnTo>
                        <a:pt x="300" y="401"/>
                      </a:lnTo>
                      <a:lnTo>
                        <a:pt x="270" y="407"/>
                      </a:lnTo>
                      <a:lnTo>
                        <a:pt x="249" y="411"/>
                      </a:lnTo>
                      <a:lnTo>
                        <a:pt x="224" y="417"/>
                      </a:lnTo>
                      <a:lnTo>
                        <a:pt x="188" y="420"/>
                      </a:lnTo>
                      <a:lnTo>
                        <a:pt x="164" y="424"/>
                      </a:lnTo>
                      <a:lnTo>
                        <a:pt x="139" y="428"/>
                      </a:lnTo>
                      <a:lnTo>
                        <a:pt x="115" y="428"/>
                      </a:lnTo>
                      <a:lnTo>
                        <a:pt x="90" y="428"/>
                      </a:lnTo>
                      <a:lnTo>
                        <a:pt x="66" y="428"/>
                      </a:lnTo>
                      <a:lnTo>
                        <a:pt x="41" y="412"/>
                      </a:lnTo>
                      <a:lnTo>
                        <a:pt x="27" y="390"/>
                      </a:lnTo>
                      <a:lnTo>
                        <a:pt x="17" y="365"/>
                      </a:lnTo>
                      <a:lnTo>
                        <a:pt x="9" y="340"/>
                      </a:lnTo>
                      <a:lnTo>
                        <a:pt x="9" y="317"/>
                      </a:lnTo>
                      <a:lnTo>
                        <a:pt x="0" y="293"/>
                      </a:lnTo>
                      <a:lnTo>
                        <a:pt x="0" y="270"/>
                      </a:lnTo>
                      <a:lnTo>
                        <a:pt x="0" y="278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057280" y="1752480"/>
                  <a:ext cx="398160" cy="106200"/>
                </a:xfrm>
                <a:custGeom>
                  <a:avLst/>
                  <a:gdLst/>
                  <a:ahLst/>
                  <a:rect l="l" t="t" r="r" b="b"/>
                  <a:pathLst>
                    <a:path w="2993" h="666">
                      <a:moveTo>
                        <a:pt x="74" y="252"/>
                      </a:moveTo>
                      <a:lnTo>
                        <a:pt x="128" y="229"/>
                      </a:lnTo>
                      <a:lnTo>
                        <a:pt x="206" y="198"/>
                      </a:lnTo>
                      <a:lnTo>
                        <a:pt x="250" y="182"/>
                      </a:lnTo>
                      <a:lnTo>
                        <a:pt x="291" y="165"/>
                      </a:lnTo>
                      <a:lnTo>
                        <a:pt x="327" y="152"/>
                      </a:lnTo>
                      <a:lnTo>
                        <a:pt x="374" y="134"/>
                      </a:lnTo>
                      <a:lnTo>
                        <a:pt x="406" y="124"/>
                      </a:lnTo>
                      <a:lnTo>
                        <a:pt x="433" y="113"/>
                      </a:lnTo>
                      <a:lnTo>
                        <a:pt x="487" y="98"/>
                      </a:lnTo>
                      <a:lnTo>
                        <a:pt x="531" y="84"/>
                      </a:lnTo>
                      <a:lnTo>
                        <a:pt x="570" y="74"/>
                      </a:lnTo>
                      <a:lnTo>
                        <a:pt x="638" y="57"/>
                      </a:lnTo>
                      <a:lnTo>
                        <a:pt x="663" y="52"/>
                      </a:lnTo>
                      <a:lnTo>
                        <a:pt x="736" y="42"/>
                      </a:lnTo>
                      <a:lnTo>
                        <a:pt x="776" y="34"/>
                      </a:lnTo>
                      <a:lnTo>
                        <a:pt x="935" y="18"/>
                      </a:lnTo>
                      <a:lnTo>
                        <a:pt x="968" y="16"/>
                      </a:lnTo>
                      <a:lnTo>
                        <a:pt x="1017" y="13"/>
                      </a:lnTo>
                      <a:lnTo>
                        <a:pt x="1098" y="5"/>
                      </a:lnTo>
                      <a:lnTo>
                        <a:pt x="1145" y="3"/>
                      </a:lnTo>
                      <a:lnTo>
                        <a:pt x="1186" y="0"/>
                      </a:lnTo>
                      <a:lnTo>
                        <a:pt x="1262" y="0"/>
                      </a:lnTo>
                      <a:lnTo>
                        <a:pt x="1308" y="3"/>
                      </a:lnTo>
                      <a:lnTo>
                        <a:pt x="1333" y="3"/>
                      </a:lnTo>
                      <a:lnTo>
                        <a:pt x="1431" y="3"/>
                      </a:lnTo>
                      <a:lnTo>
                        <a:pt x="1455" y="3"/>
                      </a:lnTo>
                      <a:lnTo>
                        <a:pt x="1504" y="3"/>
                      </a:lnTo>
                      <a:lnTo>
                        <a:pt x="1538" y="3"/>
                      </a:lnTo>
                      <a:lnTo>
                        <a:pt x="1595" y="3"/>
                      </a:lnTo>
                      <a:lnTo>
                        <a:pt x="1619" y="3"/>
                      </a:lnTo>
                      <a:lnTo>
                        <a:pt x="1679" y="5"/>
                      </a:lnTo>
                      <a:lnTo>
                        <a:pt x="1725" y="10"/>
                      </a:lnTo>
                      <a:lnTo>
                        <a:pt x="1775" y="16"/>
                      </a:lnTo>
                      <a:lnTo>
                        <a:pt x="1802" y="16"/>
                      </a:lnTo>
                      <a:lnTo>
                        <a:pt x="1851" y="21"/>
                      </a:lnTo>
                      <a:lnTo>
                        <a:pt x="1913" y="26"/>
                      </a:lnTo>
                      <a:lnTo>
                        <a:pt x="1962" y="34"/>
                      </a:lnTo>
                      <a:lnTo>
                        <a:pt x="2086" y="50"/>
                      </a:lnTo>
                      <a:lnTo>
                        <a:pt x="2191" y="66"/>
                      </a:lnTo>
                      <a:lnTo>
                        <a:pt x="2257" y="79"/>
                      </a:lnTo>
                      <a:lnTo>
                        <a:pt x="2320" y="92"/>
                      </a:lnTo>
                      <a:lnTo>
                        <a:pt x="2355" y="100"/>
                      </a:lnTo>
                      <a:lnTo>
                        <a:pt x="2409" y="113"/>
                      </a:lnTo>
                      <a:lnTo>
                        <a:pt x="2467" y="129"/>
                      </a:lnTo>
                      <a:lnTo>
                        <a:pt x="2519" y="144"/>
                      </a:lnTo>
                      <a:lnTo>
                        <a:pt x="2551" y="155"/>
                      </a:lnTo>
                      <a:lnTo>
                        <a:pt x="2590" y="168"/>
                      </a:lnTo>
                      <a:lnTo>
                        <a:pt x="2639" y="182"/>
                      </a:lnTo>
                      <a:lnTo>
                        <a:pt x="2685" y="198"/>
                      </a:lnTo>
                      <a:lnTo>
                        <a:pt x="2731" y="216"/>
                      </a:lnTo>
                      <a:lnTo>
                        <a:pt x="2797" y="239"/>
                      </a:lnTo>
                      <a:lnTo>
                        <a:pt x="2837" y="258"/>
                      </a:lnTo>
                      <a:lnTo>
                        <a:pt x="2895" y="286"/>
                      </a:lnTo>
                      <a:lnTo>
                        <a:pt x="2920" y="303"/>
                      </a:lnTo>
                      <a:lnTo>
                        <a:pt x="2927" y="311"/>
                      </a:lnTo>
                      <a:lnTo>
                        <a:pt x="2944" y="334"/>
                      </a:lnTo>
                      <a:lnTo>
                        <a:pt x="2952" y="358"/>
                      </a:lnTo>
                      <a:lnTo>
                        <a:pt x="2961" y="381"/>
                      </a:lnTo>
                      <a:lnTo>
                        <a:pt x="2969" y="406"/>
                      </a:lnTo>
                      <a:lnTo>
                        <a:pt x="2976" y="429"/>
                      </a:lnTo>
                      <a:lnTo>
                        <a:pt x="2982" y="455"/>
                      </a:lnTo>
                      <a:lnTo>
                        <a:pt x="2985" y="476"/>
                      </a:lnTo>
                      <a:lnTo>
                        <a:pt x="2988" y="500"/>
                      </a:lnTo>
                      <a:lnTo>
                        <a:pt x="2993" y="524"/>
                      </a:lnTo>
                      <a:lnTo>
                        <a:pt x="2993" y="548"/>
                      </a:lnTo>
                      <a:lnTo>
                        <a:pt x="2993" y="571"/>
                      </a:lnTo>
                      <a:lnTo>
                        <a:pt x="2993" y="595"/>
                      </a:lnTo>
                      <a:lnTo>
                        <a:pt x="2993" y="618"/>
                      </a:lnTo>
                      <a:lnTo>
                        <a:pt x="2993" y="643"/>
                      </a:lnTo>
                      <a:lnTo>
                        <a:pt x="2993" y="666"/>
                      </a:lnTo>
                      <a:lnTo>
                        <a:pt x="2993" y="666"/>
                      </a:lnTo>
                      <a:lnTo>
                        <a:pt x="2974" y="650"/>
                      </a:lnTo>
                      <a:lnTo>
                        <a:pt x="2944" y="643"/>
                      </a:lnTo>
                      <a:lnTo>
                        <a:pt x="2920" y="632"/>
                      </a:lnTo>
                      <a:lnTo>
                        <a:pt x="2886" y="615"/>
                      </a:lnTo>
                      <a:lnTo>
                        <a:pt x="2822" y="595"/>
                      </a:lnTo>
                      <a:lnTo>
                        <a:pt x="2726" y="550"/>
                      </a:lnTo>
                      <a:lnTo>
                        <a:pt x="2698" y="540"/>
                      </a:lnTo>
                      <a:lnTo>
                        <a:pt x="2674" y="527"/>
                      </a:lnTo>
                      <a:lnTo>
                        <a:pt x="2649" y="516"/>
                      </a:lnTo>
                      <a:lnTo>
                        <a:pt x="2625" y="507"/>
                      </a:lnTo>
                      <a:lnTo>
                        <a:pt x="2600" y="500"/>
                      </a:lnTo>
                      <a:lnTo>
                        <a:pt x="2576" y="492"/>
                      </a:lnTo>
                      <a:lnTo>
                        <a:pt x="2551" y="484"/>
                      </a:lnTo>
                      <a:lnTo>
                        <a:pt x="2524" y="474"/>
                      </a:lnTo>
                      <a:lnTo>
                        <a:pt x="2502" y="468"/>
                      </a:lnTo>
                      <a:lnTo>
                        <a:pt x="2478" y="461"/>
                      </a:lnTo>
                      <a:lnTo>
                        <a:pt x="2453" y="453"/>
                      </a:lnTo>
                      <a:lnTo>
                        <a:pt x="2429" y="445"/>
                      </a:lnTo>
                      <a:lnTo>
                        <a:pt x="2404" y="437"/>
                      </a:lnTo>
                      <a:lnTo>
                        <a:pt x="2274" y="397"/>
                      </a:lnTo>
                      <a:lnTo>
                        <a:pt x="2199" y="384"/>
                      </a:lnTo>
                      <a:lnTo>
                        <a:pt x="2167" y="379"/>
                      </a:lnTo>
                      <a:lnTo>
                        <a:pt x="2142" y="373"/>
                      </a:lnTo>
                      <a:lnTo>
                        <a:pt x="2093" y="366"/>
                      </a:lnTo>
                      <a:lnTo>
                        <a:pt x="2055" y="355"/>
                      </a:lnTo>
                      <a:lnTo>
                        <a:pt x="1995" y="350"/>
                      </a:lnTo>
                      <a:lnTo>
                        <a:pt x="1971" y="342"/>
                      </a:lnTo>
                      <a:lnTo>
                        <a:pt x="1930" y="340"/>
                      </a:lnTo>
                      <a:lnTo>
                        <a:pt x="1897" y="334"/>
                      </a:lnTo>
                      <a:lnTo>
                        <a:pt x="1824" y="326"/>
                      </a:lnTo>
                      <a:lnTo>
                        <a:pt x="1775" y="319"/>
                      </a:lnTo>
                      <a:lnTo>
                        <a:pt x="1742" y="316"/>
                      </a:lnTo>
                      <a:lnTo>
                        <a:pt x="1700" y="313"/>
                      </a:lnTo>
                      <a:lnTo>
                        <a:pt x="1660" y="311"/>
                      </a:lnTo>
                      <a:lnTo>
                        <a:pt x="1614" y="306"/>
                      </a:lnTo>
                      <a:lnTo>
                        <a:pt x="1570" y="306"/>
                      </a:lnTo>
                      <a:lnTo>
                        <a:pt x="1531" y="306"/>
                      </a:lnTo>
                      <a:lnTo>
                        <a:pt x="1497" y="303"/>
                      </a:lnTo>
                      <a:lnTo>
                        <a:pt x="1433" y="303"/>
                      </a:lnTo>
                      <a:lnTo>
                        <a:pt x="1357" y="303"/>
                      </a:lnTo>
                      <a:lnTo>
                        <a:pt x="1311" y="303"/>
                      </a:lnTo>
                      <a:lnTo>
                        <a:pt x="1259" y="303"/>
                      </a:lnTo>
                      <a:lnTo>
                        <a:pt x="1210" y="303"/>
                      </a:lnTo>
                      <a:lnTo>
                        <a:pt x="1186" y="303"/>
                      </a:lnTo>
                      <a:lnTo>
                        <a:pt x="1106" y="311"/>
                      </a:lnTo>
                      <a:lnTo>
                        <a:pt x="1074" y="313"/>
                      </a:lnTo>
                      <a:lnTo>
                        <a:pt x="1049" y="319"/>
                      </a:lnTo>
                      <a:lnTo>
                        <a:pt x="1017" y="321"/>
                      </a:lnTo>
                      <a:lnTo>
                        <a:pt x="978" y="326"/>
                      </a:lnTo>
                      <a:lnTo>
                        <a:pt x="935" y="334"/>
                      </a:lnTo>
                      <a:lnTo>
                        <a:pt x="883" y="345"/>
                      </a:lnTo>
                      <a:lnTo>
                        <a:pt x="810" y="358"/>
                      </a:lnTo>
                      <a:lnTo>
                        <a:pt x="736" y="373"/>
                      </a:lnTo>
                      <a:lnTo>
                        <a:pt x="687" y="381"/>
                      </a:lnTo>
                      <a:lnTo>
                        <a:pt x="654" y="389"/>
                      </a:lnTo>
                      <a:lnTo>
                        <a:pt x="629" y="397"/>
                      </a:lnTo>
                      <a:lnTo>
                        <a:pt x="597" y="406"/>
                      </a:lnTo>
                      <a:lnTo>
                        <a:pt x="572" y="414"/>
                      </a:lnTo>
                      <a:lnTo>
                        <a:pt x="548" y="421"/>
                      </a:lnTo>
                      <a:lnTo>
                        <a:pt x="458" y="453"/>
                      </a:lnTo>
                      <a:lnTo>
                        <a:pt x="384" y="476"/>
                      </a:lnTo>
                      <a:lnTo>
                        <a:pt x="360" y="484"/>
                      </a:lnTo>
                      <a:lnTo>
                        <a:pt x="335" y="492"/>
                      </a:lnTo>
                      <a:lnTo>
                        <a:pt x="311" y="500"/>
                      </a:lnTo>
                      <a:lnTo>
                        <a:pt x="286" y="507"/>
                      </a:lnTo>
                      <a:lnTo>
                        <a:pt x="262" y="516"/>
                      </a:lnTo>
                      <a:lnTo>
                        <a:pt x="237" y="524"/>
                      </a:lnTo>
                      <a:lnTo>
                        <a:pt x="213" y="532"/>
                      </a:lnTo>
                      <a:lnTo>
                        <a:pt x="164" y="548"/>
                      </a:lnTo>
                      <a:lnTo>
                        <a:pt x="139" y="555"/>
                      </a:lnTo>
                      <a:lnTo>
                        <a:pt x="115" y="563"/>
                      </a:lnTo>
                      <a:lnTo>
                        <a:pt x="90" y="571"/>
                      </a:lnTo>
                      <a:lnTo>
                        <a:pt x="66" y="579"/>
                      </a:lnTo>
                      <a:lnTo>
                        <a:pt x="40" y="587"/>
                      </a:lnTo>
                      <a:lnTo>
                        <a:pt x="16" y="595"/>
                      </a:lnTo>
                      <a:lnTo>
                        <a:pt x="0" y="595"/>
                      </a:lnTo>
                      <a:lnTo>
                        <a:pt x="0" y="571"/>
                      </a:lnTo>
                      <a:lnTo>
                        <a:pt x="0" y="548"/>
                      </a:lnTo>
                      <a:lnTo>
                        <a:pt x="0" y="524"/>
                      </a:lnTo>
                      <a:lnTo>
                        <a:pt x="0" y="500"/>
                      </a:lnTo>
                      <a:lnTo>
                        <a:pt x="0" y="476"/>
                      </a:lnTo>
                      <a:lnTo>
                        <a:pt x="0" y="453"/>
                      </a:lnTo>
                      <a:lnTo>
                        <a:pt x="0" y="429"/>
                      </a:lnTo>
                      <a:lnTo>
                        <a:pt x="8" y="371"/>
                      </a:lnTo>
                      <a:lnTo>
                        <a:pt x="19" y="324"/>
                      </a:lnTo>
                      <a:lnTo>
                        <a:pt x="25" y="298"/>
                      </a:lnTo>
                      <a:lnTo>
                        <a:pt x="46" y="265"/>
                      </a:lnTo>
                      <a:lnTo>
                        <a:pt x="74" y="252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061600" y="1798560"/>
                <a:ext cx="385200" cy="215640"/>
                <a:chOff x="5061600" y="1798560"/>
                <a:chExt cx="385200" cy="21564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5061600" y="1798560"/>
                  <a:ext cx="385200" cy="215640"/>
                  <a:chOff x="5061600" y="1798560"/>
                  <a:chExt cx="385200" cy="2156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5063040" y="1798560"/>
                    <a:ext cx="38340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0" h="1095">
                        <a:moveTo>
                          <a:pt x="0" y="1095"/>
                        </a:moveTo>
                        <a:lnTo>
                          <a:pt x="0" y="320"/>
                        </a:lnTo>
                        <a:lnTo>
                          <a:pt x="809" y="139"/>
                        </a:lnTo>
                        <a:lnTo>
                          <a:pt x="856" y="0"/>
                        </a:lnTo>
                        <a:lnTo>
                          <a:pt x="961" y="3"/>
                        </a:lnTo>
                        <a:lnTo>
                          <a:pt x="1005" y="139"/>
                        </a:lnTo>
                        <a:lnTo>
                          <a:pt x="1831" y="139"/>
                        </a:lnTo>
                        <a:lnTo>
                          <a:pt x="1856" y="5"/>
                        </a:lnTo>
                        <a:lnTo>
                          <a:pt x="1970" y="5"/>
                        </a:lnTo>
                        <a:lnTo>
                          <a:pt x="2010" y="139"/>
                        </a:lnTo>
                        <a:lnTo>
                          <a:pt x="2880" y="363"/>
                        </a:lnTo>
                        <a:lnTo>
                          <a:pt x="2877" y="1087"/>
                        </a:lnTo>
                        <a:lnTo>
                          <a:pt x="0" y="1095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061600" y="1971360"/>
                    <a:ext cx="3852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8" h="206">
                        <a:moveTo>
                          <a:pt x="0" y="0"/>
                        </a:moveTo>
                        <a:lnTo>
                          <a:pt x="41" y="206"/>
                        </a:lnTo>
                        <a:lnTo>
                          <a:pt x="2839" y="206"/>
                        </a:lnTo>
                        <a:lnTo>
                          <a:pt x="288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5068800" y="2003040"/>
                    <a:ext cx="3686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72" h="64">
                        <a:moveTo>
                          <a:pt x="0" y="0"/>
                        </a:moveTo>
                        <a:lnTo>
                          <a:pt x="115" y="64"/>
                        </a:lnTo>
                        <a:lnTo>
                          <a:pt x="2665" y="64"/>
                        </a:lnTo>
                        <a:lnTo>
                          <a:pt x="27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5164200" y="1846080"/>
                  <a:ext cx="174960" cy="90360"/>
                  <a:chOff x="5164200" y="1846080"/>
                  <a:chExt cx="174960" cy="90360"/>
                </a:xfrm>
              </p:grpSpPr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5164200" y="1846080"/>
                    <a:ext cx="173520" cy="88920"/>
                    <a:chOff x="5164200" y="1846080"/>
                    <a:chExt cx="173520" cy="8892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5164200" y="184608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5204880" y="184608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5239800" y="184608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5273640" y="184608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5314320" y="184608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5204880" y="187128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5239800" y="187128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5273640" y="187128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5204880" y="1895400"/>
                      <a:ext cx="23400" cy="14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5239800" y="1895400"/>
                      <a:ext cx="23400" cy="14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5273640" y="1895400"/>
                      <a:ext cx="23040" cy="14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5204880" y="192060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5239800" y="192060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>
                      <a:off x="5273640" y="192060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5164200" y="190944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5164200" y="187128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5314320" y="190944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5314320" y="187128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5165280" y="1849320"/>
                    <a:ext cx="23400" cy="14040"/>
                    <a:chOff x="5165280" y="1849320"/>
                    <a:chExt cx="23400" cy="1404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5165280" y="184932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5165280" y="184932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5206320" y="1849320"/>
                    <a:ext cx="23040" cy="14040"/>
                    <a:chOff x="5206320" y="1849320"/>
                    <a:chExt cx="23040" cy="1404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5206320" y="1849320"/>
                      <a:ext cx="2304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5206320" y="184932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5241600" y="1849320"/>
                    <a:ext cx="23040" cy="14040"/>
                    <a:chOff x="5241600" y="1849320"/>
                    <a:chExt cx="23040" cy="1404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5241600" y="1849320"/>
                      <a:ext cx="2304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5241600" y="184932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5276520" y="1849320"/>
                    <a:ext cx="23400" cy="14040"/>
                    <a:chOff x="5276520" y="1849320"/>
                    <a:chExt cx="23400" cy="1404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5276520" y="184932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5276520" y="184932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5315760" y="1849320"/>
                    <a:ext cx="23400" cy="14040"/>
                    <a:chOff x="5315760" y="1849320"/>
                    <a:chExt cx="23400" cy="1404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5315760" y="184932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5317200" y="184932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5206320" y="1873080"/>
                    <a:ext cx="23040" cy="15840"/>
                    <a:chOff x="5206320" y="1873080"/>
                    <a:chExt cx="23040" cy="1584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5206320" y="1873080"/>
                      <a:ext cx="23040" cy="15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5206320" y="187452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5241600" y="1873080"/>
                    <a:ext cx="23040" cy="14400"/>
                    <a:chOff x="5241600" y="1873080"/>
                    <a:chExt cx="23040" cy="1440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5241600" y="1873080"/>
                      <a:ext cx="2304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5241600" y="187308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5276520" y="1873080"/>
                    <a:ext cx="23400" cy="14400"/>
                    <a:chOff x="5276520" y="1873080"/>
                    <a:chExt cx="23400" cy="1440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5276520" y="1873080"/>
                      <a:ext cx="2340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5276520" y="187308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206320" y="1898280"/>
                    <a:ext cx="23040" cy="14400"/>
                    <a:chOff x="5206320" y="1898280"/>
                    <a:chExt cx="23040" cy="1440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5206320" y="1898280"/>
                      <a:ext cx="2304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5206320" y="189828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241600" y="1898280"/>
                    <a:ext cx="23040" cy="14400"/>
                    <a:chOff x="5241600" y="1898280"/>
                    <a:chExt cx="23040" cy="1440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5241600" y="1898280"/>
                      <a:ext cx="2304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5241600" y="189828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5276520" y="1898280"/>
                    <a:ext cx="23400" cy="14400"/>
                    <a:chOff x="5276520" y="1898280"/>
                    <a:chExt cx="23400" cy="1440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5276520" y="1898280"/>
                      <a:ext cx="2340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5276520" y="189828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5206320" y="1922400"/>
                    <a:ext cx="23040" cy="14040"/>
                    <a:chOff x="5206320" y="1922400"/>
                    <a:chExt cx="23040" cy="14040"/>
                  </a:xfrm>
                </p:grpSpPr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5206320" y="1922400"/>
                      <a:ext cx="2304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5206320" y="1922400"/>
                      <a:ext cx="19800" cy="1080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5241600" y="1922400"/>
                    <a:ext cx="23040" cy="14040"/>
                    <a:chOff x="5241600" y="1922400"/>
                    <a:chExt cx="23040" cy="1404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5241600" y="1922400"/>
                      <a:ext cx="2304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5241600" y="1922400"/>
                      <a:ext cx="19800" cy="1080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2" name=""/>
                  <p:cNvGrpSpPr/>
                  <p:nvPr/>
                </p:nvGrpSpPr>
                <p:grpSpPr>
                  <a:xfrm>
                    <a:off x="5276520" y="1922400"/>
                    <a:ext cx="23400" cy="14040"/>
                    <a:chOff x="5276520" y="1922400"/>
                    <a:chExt cx="23400" cy="14040"/>
                  </a:xfrm>
                </p:grpSpPr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5276520" y="192240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5276520" y="1922400"/>
                      <a:ext cx="20160" cy="1080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5165280" y="1911240"/>
                    <a:ext cx="23400" cy="14040"/>
                    <a:chOff x="5165280" y="1911240"/>
                    <a:chExt cx="23400" cy="14040"/>
                  </a:xfrm>
                </p:grpSpPr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5165280" y="191124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5165280" y="191268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8" name=""/>
                  <p:cNvGrpSpPr/>
                  <p:nvPr/>
                </p:nvGrpSpPr>
                <p:grpSpPr>
                  <a:xfrm>
                    <a:off x="5165280" y="1873080"/>
                    <a:ext cx="23400" cy="15840"/>
                    <a:chOff x="5165280" y="1873080"/>
                    <a:chExt cx="23400" cy="15840"/>
                  </a:xfrm>
                </p:grpSpPr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5165280" y="1873080"/>
                      <a:ext cx="23400" cy="15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5165280" y="187452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5315760" y="1911240"/>
                    <a:ext cx="23400" cy="14040"/>
                    <a:chOff x="5315760" y="1911240"/>
                    <a:chExt cx="23400" cy="1404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5315760" y="191124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5317200" y="191268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5315760" y="1873080"/>
                    <a:ext cx="23400" cy="15840"/>
                    <a:chOff x="5315760" y="1873080"/>
                    <a:chExt cx="23400" cy="1584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5315760" y="1873080"/>
                      <a:ext cx="23400" cy="15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5317200" y="187452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5020920" y="1804680"/>
                <a:ext cx="42120" cy="115560"/>
                <a:chOff x="5020920" y="1804680"/>
                <a:chExt cx="42120" cy="1155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5022000" y="1839600"/>
                  <a:ext cx="20520" cy="1908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020920" y="1850760"/>
                  <a:ext cx="20160" cy="1584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022000" y="1866600"/>
                  <a:ext cx="21600" cy="792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023440" y="1881000"/>
                  <a:ext cx="21960" cy="144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flipV="1">
                  <a:off x="5028120" y="1893240"/>
                  <a:ext cx="21600" cy="180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flipV="1">
                  <a:off x="5031000" y="1898280"/>
                  <a:ext cx="21600" cy="648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024880" y="1828440"/>
                  <a:ext cx="18720" cy="2412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031000" y="1817640"/>
                  <a:ext cx="14400" cy="2844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038200" y="1809720"/>
                  <a:ext cx="9720" cy="2988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050080" y="1804680"/>
                  <a:ext cx="2880" cy="3348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V="1">
                  <a:off x="5039640" y="1900080"/>
                  <a:ext cx="18720" cy="1440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V="1">
                  <a:off x="5050080" y="1899720"/>
                  <a:ext cx="12960" cy="2052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0" name=""/>
            <p:cNvGrpSpPr/>
            <p:nvPr/>
          </p:nvGrpSpPr>
          <p:grpSpPr>
            <a:xfrm>
              <a:off x="5020920" y="2057040"/>
              <a:ext cx="434520" cy="261720"/>
              <a:chOff x="5020920" y="2057040"/>
              <a:chExt cx="434520" cy="26172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5057280" y="2057040"/>
                <a:ext cx="398160" cy="117360"/>
                <a:chOff x="5057280" y="2057040"/>
                <a:chExt cx="398160" cy="11736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5058360" y="2101320"/>
                  <a:ext cx="395280" cy="73080"/>
                </a:xfrm>
                <a:custGeom>
                  <a:avLst/>
                  <a:gdLst/>
                  <a:ahLst/>
                  <a:rect l="l" t="t" r="r" b="b"/>
                  <a:pathLst>
                    <a:path w="2965" h="459">
                      <a:moveTo>
                        <a:pt x="0" y="278"/>
                      </a:moveTo>
                      <a:lnTo>
                        <a:pt x="352" y="143"/>
                      </a:lnTo>
                      <a:lnTo>
                        <a:pt x="1129" y="0"/>
                      </a:lnTo>
                      <a:lnTo>
                        <a:pt x="2036" y="40"/>
                      </a:lnTo>
                      <a:lnTo>
                        <a:pt x="2494" y="143"/>
                      </a:lnTo>
                      <a:lnTo>
                        <a:pt x="2965" y="367"/>
                      </a:lnTo>
                      <a:lnTo>
                        <a:pt x="2911" y="407"/>
                      </a:lnTo>
                      <a:lnTo>
                        <a:pt x="2889" y="433"/>
                      </a:lnTo>
                      <a:lnTo>
                        <a:pt x="2857" y="451"/>
                      </a:lnTo>
                      <a:lnTo>
                        <a:pt x="2829" y="459"/>
                      </a:lnTo>
                      <a:lnTo>
                        <a:pt x="2805" y="459"/>
                      </a:lnTo>
                      <a:lnTo>
                        <a:pt x="2781" y="459"/>
                      </a:lnTo>
                      <a:lnTo>
                        <a:pt x="2756" y="459"/>
                      </a:lnTo>
                      <a:lnTo>
                        <a:pt x="2732" y="459"/>
                      </a:lnTo>
                      <a:lnTo>
                        <a:pt x="2707" y="451"/>
                      </a:lnTo>
                      <a:lnTo>
                        <a:pt x="2674" y="443"/>
                      </a:lnTo>
                      <a:lnTo>
                        <a:pt x="2654" y="441"/>
                      </a:lnTo>
                      <a:lnTo>
                        <a:pt x="2627" y="433"/>
                      </a:lnTo>
                      <a:lnTo>
                        <a:pt x="2595" y="425"/>
                      </a:lnTo>
                      <a:lnTo>
                        <a:pt x="2568" y="420"/>
                      </a:lnTo>
                      <a:lnTo>
                        <a:pt x="2543" y="412"/>
                      </a:lnTo>
                      <a:lnTo>
                        <a:pt x="2524" y="409"/>
                      </a:lnTo>
                      <a:lnTo>
                        <a:pt x="2500" y="399"/>
                      </a:lnTo>
                      <a:lnTo>
                        <a:pt x="2475" y="391"/>
                      </a:lnTo>
                      <a:lnTo>
                        <a:pt x="2451" y="386"/>
                      </a:lnTo>
                      <a:lnTo>
                        <a:pt x="2424" y="378"/>
                      </a:lnTo>
                      <a:lnTo>
                        <a:pt x="2399" y="373"/>
                      </a:lnTo>
                      <a:lnTo>
                        <a:pt x="2371" y="365"/>
                      </a:lnTo>
                      <a:lnTo>
                        <a:pt x="2346" y="357"/>
                      </a:lnTo>
                      <a:lnTo>
                        <a:pt x="2322" y="349"/>
                      </a:lnTo>
                      <a:lnTo>
                        <a:pt x="2297" y="340"/>
                      </a:lnTo>
                      <a:lnTo>
                        <a:pt x="2273" y="332"/>
                      </a:lnTo>
                      <a:lnTo>
                        <a:pt x="2248" y="325"/>
                      </a:lnTo>
                      <a:lnTo>
                        <a:pt x="2227" y="312"/>
                      </a:lnTo>
                      <a:lnTo>
                        <a:pt x="2200" y="298"/>
                      </a:lnTo>
                      <a:lnTo>
                        <a:pt x="2175" y="285"/>
                      </a:lnTo>
                      <a:lnTo>
                        <a:pt x="2151" y="272"/>
                      </a:lnTo>
                      <a:lnTo>
                        <a:pt x="2126" y="262"/>
                      </a:lnTo>
                      <a:lnTo>
                        <a:pt x="2104" y="246"/>
                      </a:lnTo>
                      <a:lnTo>
                        <a:pt x="2085" y="230"/>
                      </a:lnTo>
                      <a:lnTo>
                        <a:pt x="2060" y="214"/>
                      </a:lnTo>
                      <a:lnTo>
                        <a:pt x="2036" y="198"/>
                      </a:lnTo>
                      <a:lnTo>
                        <a:pt x="2011" y="182"/>
                      </a:lnTo>
                      <a:lnTo>
                        <a:pt x="1987" y="167"/>
                      </a:lnTo>
                      <a:lnTo>
                        <a:pt x="1962" y="159"/>
                      </a:lnTo>
                      <a:lnTo>
                        <a:pt x="1938" y="151"/>
                      </a:lnTo>
                      <a:lnTo>
                        <a:pt x="1906" y="143"/>
                      </a:lnTo>
                      <a:lnTo>
                        <a:pt x="1881" y="135"/>
                      </a:lnTo>
                      <a:lnTo>
                        <a:pt x="1857" y="130"/>
                      </a:lnTo>
                      <a:lnTo>
                        <a:pt x="1832" y="128"/>
                      </a:lnTo>
                      <a:lnTo>
                        <a:pt x="1808" y="121"/>
                      </a:lnTo>
                      <a:lnTo>
                        <a:pt x="1774" y="116"/>
                      </a:lnTo>
                      <a:lnTo>
                        <a:pt x="1725" y="113"/>
                      </a:lnTo>
                      <a:lnTo>
                        <a:pt x="1669" y="113"/>
                      </a:lnTo>
                      <a:lnTo>
                        <a:pt x="1586" y="111"/>
                      </a:lnTo>
                      <a:lnTo>
                        <a:pt x="1537" y="111"/>
                      </a:lnTo>
                      <a:lnTo>
                        <a:pt x="1431" y="111"/>
                      </a:lnTo>
                      <a:lnTo>
                        <a:pt x="1407" y="111"/>
                      </a:lnTo>
                      <a:lnTo>
                        <a:pt x="1382" y="111"/>
                      </a:lnTo>
                      <a:lnTo>
                        <a:pt x="1333" y="111"/>
                      </a:lnTo>
                      <a:lnTo>
                        <a:pt x="1206" y="111"/>
                      </a:lnTo>
                      <a:lnTo>
                        <a:pt x="1104" y="116"/>
                      </a:lnTo>
                      <a:lnTo>
                        <a:pt x="1055" y="121"/>
                      </a:lnTo>
                      <a:lnTo>
                        <a:pt x="1032" y="124"/>
                      </a:lnTo>
                      <a:lnTo>
                        <a:pt x="1006" y="130"/>
                      </a:lnTo>
                      <a:lnTo>
                        <a:pt x="982" y="135"/>
                      </a:lnTo>
                      <a:lnTo>
                        <a:pt x="957" y="143"/>
                      </a:lnTo>
                      <a:lnTo>
                        <a:pt x="933" y="151"/>
                      </a:lnTo>
                      <a:lnTo>
                        <a:pt x="908" y="159"/>
                      </a:lnTo>
                      <a:lnTo>
                        <a:pt x="884" y="175"/>
                      </a:lnTo>
                      <a:lnTo>
                        <a:pt x="866" y="186"/>
                      </a:lnTo>
                      <a:lnTo>
                        <a:pt x="840" y="203"/>
                      </a:lnTo>
                      <a:lnTo>
                        <a:pt x="821" y="214"/>
                      </a:lnTo>
                      <a:lnTo>
                        <a:pt x="795" y="230"/>
                      </a:lnTo>
                      <a:lnTo>
                        <a:pt x="769" y="246"/>
                      </a:lnTo>
                      <a:lnTo>
                        <a:pt x="745" y="262"/>
                      </a:lnTo>
                      <a:lnTo>
                        <a:pt x="720" y="272"/>
                      </a:lnTo>
                      <a:lnTo>
                        <a:pt x="698" y="281"/>
                      </a:lnTo>
                      <a:lnTo>
                        <a:pt x="671" y="293"/>
                      </a:lnTo>
                      <a:lnTo>
                        <a:pt x="649" y="304"/>
                      </a:lnTo>
                      <a:lnTo>
                        <a:pt x="626" y="313"/>
                      </a:lnTo>
                      <a:lnTo>
                        <a:pt x="598" y="325"/>
                      </a:lnTo>
                      <a:lnTo>
                        <a:pt x="573" y="332"/>
                      </a:lnTo>
                      <a:lnTo>
                        <a:pt x="549" y="340"/>
                      </a:lnTo>
                      <a:lnTo>
                        <a:pt x="515" y="349"/>
                      </a:lnTo>
                      <a:lnTo>
                        <a:pt x="491" y="357"/>
                      </a:lnTo>
                      <a:lnTo>
                        <a:pt x="466" y="365"/>
                      </a:lnTo>
                      <a:lnTo>
                        <a:pt x="437" y="373"/>
                      </a:lnTo>
                      <a:lnTo>
                        <a:pt x="410" y="377"/>
                      </a:lnTo>
                      <a:lnTo>
                        <a:pt x="376" y="384"/>
                      </a:lnTo>
                      <a:lnTo>
                        <a:pt x="350" y="390"/>
                      </a:lnTo>
                      <a:lnTo>
                        <a:pt x="324" y="395"/>
                      </a:lnTo>
                      <a:lnTo>
                        <a:pt x="300" y="401"/>
                      </a:lnTo>
                      <a:lnTo>
                        <a:pt x="270" y="407"/>
                      </a:lnTo>
                      <a:lnTo>
                        <a:pt x="249" y="411"/>
                      </a:lnTo>
                      <a:lnTo>
                        <a:pt x="224" y="417"/>
                      </a:lnTo>
                      <a:lnTo>
                        <a:pt x="188" y="420"/>
                      </a:lnTo>
                      <a:lnTo>
                        <a:pt x="164" y="424"/>
                      </a:lnTo>
                      <a:lnTo>
                        <a:pt x="139" y="428"/>
                      </a:lnTo>
                      <a:lnTo>
                        <a:pt x="115" y="428"/>
                      </a:lnTo>
                      <a:lnTo>
                        <a:pt x="90" y="428"/>
                      </a:lnTo>
                      <a:lnTo>
                        <a:pt x="66" y="428"/>
                      </a:lnTo>
                      <a:lnTo>
                        <a:pt x="41" y="412"/>
                      </a:lnTo>
                      <a:lnTo>
                        <a:pt x="27" y="390"/>
                      </a:lnTo>
                      <a:lnTo>
                        <a:pt x="17" y="365"/>
                      </a:lnTo>
                      <a:lnTo>
                        <a:pt x="9" y="340"/>
                      </a:lnTo>
                      <a:lnTo>
                        <a:pt x="9" y="317"/>
                      </a:lnTo>
                      <a:lnTo>
                        <a:pt x="0" y="293"/>
                      </a:lnTo>
                      <a:lnTo>
                        <a:pt x="0" y="270"/>
                      </a:lnTo>
                      <a:lnTo>
                        <a:pt x="0" y="278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057280" y="2057040"/>
                  <a:ext cx="398160" cy="106200"/>
                </a:xfrm>
                <a:custGeom>
                  <a:avLst/>
                  <a:gdLst/>
                  <a:ahLst/>
                  <a:rect l="l" t="t" r="r" b="b"/>
                  <a:pathLst>
                    <a:path w="2993" h="666">
                      <a:moveTo>
                        <a:pt x="74" y="252"/>
                      </a:moveTo>
                      <a:lnTo>
                        <a:pt x="128" y="229"/>
                      </a:lnTo>
                      <a:lnTo>
                        <a:pt x="206" y="198"/>
                      </a:lnTo>
                      <a:lnTo>
                        <a:pt x="250" y="182"/>
                      </a:lnTo>
                      <a:lnTo>
                        <a:pt x="291" y="165"/>
                      </a:lnTo>
                      <a:lnTo>
                        <a:pt x="327" y="152"/>
                      </a:lnTo>
                      <a:lnTo>
                        <a:pt x="374" y="134"/>
                      </a:lnTo>
                      <a:lnTo>
                        <a:pt x="406" y="124"/>
                      </a:lnTo>
                      <a:lnTo>
                        <a:pt x="433" y="113"/>
                      </a:lnTo>
                      <a:lnTo>
                        <a:pt x="487" y="98"/>
                      </a:lnTo>
                      <a:lnTo>
                        <a:pt x="531" y="84"/>
                      </a:lnTo>
                      <a:lnTo>
                        <a:pt x="570" y="74"/>
                      </a:lnTo>
                      <a:lnTo>
                        <a:pt x="638" y="57"/>
                      </a:lnTo>
                      <a:lnTo>
                        <a:pt x="663" y="52"/>
                      </a:lnTo>
                      <a:lnTo>
                        <a:pt x="736" y="42"/>
                      </a:lnTo>
                      <a:lnTo>
                        <a:pt x="776" y="34"/>
                      </a:lnTo>
                      <a:lnTo>
                        <a:pt x="935" y="18"/>
                      </a:lnTo>
                      <a:lnTo>
                        <a:pt x="968" y="16"/>
                      </a:lnTo>
                      <a:lnTo>
                        <a:pt x="1017" y="13"/>
                      </a:lnTo>
                      <a:lnTo>
                        <a:pt x="1098" y="5"/>
                      </a:lnTo>
                      <a:lnTo>
                        <a:pt x="1145" y="3"/>
                      </a:lnTo>
                      <a:lnTo>
                        <a:pt x="1186" y="0"/>
                      </a:lnTo>
                      <a:lnTo>
                        <a:pt x="1262" y="0"/>
                      </a:lnTo>
                      <a:lnTo>
                        <a:pt x="1308" y="3"/>
                      </a:lnTo>
                      <a:lnTo>
                        <a:pt x="1333" y="3"/>
                      </a:lnTo>
                      <a:lnTo>
                        <a:pt x="1431" y="3"/>
                      </a:lnTo>
                      <a:lnTo>
                        <a:pt x="1455" y="3"/>
                      </a:lnTo>
                      <a:lnTo>
                        <a:pt x="1504" y="3"/>
                      </a:lnTo>
                      <a:lnTo>
                        <a:pt x="1538" y="3"/>
                      </a:lnTo>
                      <a:lnTo>
                        <a:pt x="1595" y="3"/>
                      </a:lnTo>
                      <a:lnTo>
                        <a:pt x="1619" y="3"/>
                      </a:lnTo>
                      <a:lnTo>
                        <a:pt x="1679" y="5"/>
                      </a:lnTo>
                      <a:lnTo>
                        <a:pt x="1725" y="10"/>
                      </a:lnTo>
                      <a:lnTo>
                        <a:pt x="1775" y="16"/>
                      </a:lnTo>
                      <a:lnTo>
                        <a:pt x="1802" y="16"/>
                      </a:lnTo>
                      <a:lnTo>
                        <a:pt x="1851" y="21"/>
                      </a:lnTo>
                      <a:lnTo>
                        <a:pt x="1913" y="26"/>
                      </a:lnTo>
                      <a:lnTo>
                        <a:pt x="1962" y="34"/>
                      </a:lnTo>
                      <a:lnTo>
                        <a:pt x="2086" y="50"/>
                      </a:lnTo>
                      <a:lnTo>
                        <a:pt x="2191" y="66"/>
                      </a:lnTo>
                      <a:lnTo>
                        <a:pt x="2257" y="79"/>
                      </a:lnTo>
                      <a:lnTo>
                        <a:pt x="2320" y="92"/>
                      </a:lnTo>
                      <a:lnTo>
                        <a:pt x="2355" y="100"/>
                      </a:lnTo>
                      <a:lnTo>
                        <a:pt x="2409" y="113"/>
                      </a:lnTo>
                      <a:lnTo>
                        <a:pt x="2467" y="129"/>
                      </a:lnTo>
                      <a:lnTo>
                        <a:pt x="2519" y="144"/>
                      </a:lnTo>
                      <a:lnTo>
                        <a:pt x="2551" y="155"/>
                      </a:lnTo>
                      <a:lnTo>
                        <a:pt x="2590" y="168"/>
                      </a:lnTo>
                      <a:lnTo>
                        <a:pt x="2639" y="182"/>
                      </a:lnTo>
                      <a:lnTo>
                        <a:pt x="2685" y="198"/>
                      </a:lnTo>
                      <a:lnTo>
                        <a:pt x="2731" y="216"/>
                      </a:lnTo>
                      <a:lnTo>
                        <a:pt x="2797" y="239"/>
                      </a:lnTo>
                      <a:lnTo>
                        <a:pt x="2837" y="258"/>
                      </a:lnTo>
                      <a:lnTo>
                        <a:pt x="2895" y="286"/>
                      </a:lnTo>
                      <a:lnTo>
                        <a:pt x="2920" y="303"/>
                      </a:lnTo>
                      <a:lnTo>
                        <a:pt x="2927" y="311"/>
                      </a:lnTo>
                      <a:lnTo>
                        <a:pt x="2944" y="334"/>
                      </a:lnTo>
                      <a:lnTo>
                        <a:pt x="2952" y="358"/>
                      </a:lnTo>
                      <a:lnTo>
                        <a:pt x="2961" y="381"/>
                      </a:lnTo>
                      <a:lnTo>
                        <a:pt x="2969" y="406"/>
                      </a:lnTo>
                      <a:lnTo>
                        <a:pt x="2976" y="429"/>
                      </a:lnTo>
                      <a:lnTo>
                        <a:pt x="2982" y="455"/>
                      </a:lnTo>
                      <a:lnTo>
                        <a:pt x="2985" y="476"/>
                      </a:lnTo>
                      <a:lnTo>
                        <a:pt x="2988" y="500"/>
                      </a:lnTo>
                      <a:lnTo>
                        <a:pt x="2993" y="524"/>
                      </a:lnTo>
                      <a:lnTo>
                        <a:pt x="2993" y="548"/>
                      </a:lnTo>
                      <a:lnTo>
                        <a:pt x="2993" y="571"/>
                      </a:lnTo>
                      <a:lnTo>
                        <a:pt x="2993" y="595"/>
                      </a:lnTo>
                      <a:lnTo>
                        <a:pt x="2993" y="618"/>
                      </a:lnTo>
                      <a:lnTo>
                        <a:pt x="2993" y="643"/>
                      </a:lnTo>
                      <a:lnTo>
                        <a:pt x="2993" y="666"/>
                      </a:lnTo>
                      <a:lnTo>
                        <a:pt x="2993" y="666"/>
                      </a:lnTo>
                      <a:lnTo>
                        <a:pt x="2974" y="650"/>
                      </a:lnTo>
                      <a:lnTo>
                        <a:pt x="2944" y="643"/>
                      </a:lnTo>
                      <a:lnTo>
                        <a:pt x="2920" y="632"/>
                      </a:lnTo>
                      <a:lnTo>
                        <a:pt x="2886" y="615"/>
                      </a:lnTo>
                      <a:lnTo>
                        <a:pt x="2822" y="595"/>
                      </a:lnTo>
                      <a:lnTo>
                        <a:pt x="2726" y="550"/>
                      </a:lnTo>
                      <a:lnTo>
                        <a:pt x="2698" y="540"/>
                      </a:lnTo>
                      <a:lnTo>
                        <a:pt x="2674" y="527"/>
                      </a:lnTo>
                      <a:lnTo>
                        <a:pt x="2649" y="516"/>
                      </a:lnTo>
                      <a:lnTo>
                        <a:pt x="2625" y="507"/>
                      </a:lnTo>
                      <a:lnTo>
                        <a:pt x="2600" y="500"/>
                      </a:lnTo>
                      <a:lnTo>
                        <a:pt x="2576" y="492"/>
                      </a:lnTo>
                      <a:lnTo>
                        <a:pt x="2551" y="484"/>
                      </a:lnTo>
                      <a:lnTo>
                        <a:pt x="2524" y="474"/>
                      </a:lnTo>
                      <a:lnTo>
                        <a:pt x="2502" y="468"/>
                      </a:lnTo>
                      <a:lnTo>
                        <a:pt x="2478" y="461"/>
                      </a:lnTo>
                      <a:lnTo>
                        <a:pt x="2453" y="453"/>
                      </a:lnTo>
                      <a:lnTo>
                        <a:pt x="2429" y="445"/>
                      </a:lnTo>
                      <a:lnTo>
                        <a:pt x="2404" y="437"/>
                      </a:lnTo>
                      <a:lnTo>
                        <a:pt x="2274" y="397"/>
                      </a:lnTo>
                      <a:lnTo>
                        <a:pt x="2199" y="384"/>
                      </a:lnTo>
                      <a:lnTo>
                        <a:pt x="2167" y="379"/>
                      </a:lnTo>
                      <a:lnTo>
                        <a:pt x="2142" y="373"/>
                      </a:lnTo>
                      <a:lnTo>
                        <a:pt x="2093" y="366"/>
                      </a:lnTo>
                      <a:lnTo>
                        <a:pt x="2055" y="355"/>
                      </a:lnTo>
                      <a:lnTo>
                        <a:pt x="1995" y="350"/>
                      </a:lnTo>
                      <a:lnTo>
                        <a:pt x="1971" y="342"/>
                      </a:lnTo>
                      <a:lnTo>
                        <a:pt x="1930" y="340"/>
                      </a:lnTo>
                      <a:lnTo>
                        <a:pt x="1897" y="334"/>
                      </a:lnTo>
                      <a:lnTo>
                        <a:pt x="1824" y="326"/>
                      </a:lnTo>
                      <a:lnTo>
                        <a:pt x="1775" y="319"/>
                      </a:lnTo>
                      <a:lnTo>
                        <a:pt x="1742" y="316"/>
                      </a:lnTo>
                      <a:lnTo>
                        <a:pt x="1700" y="313"/>
                      </a:lnTo>
                      <a:lnTo>
                        <a:pt x="1660" y="311"/>
                      </a:lnTo>
                      <a:lnTo>
                        <a:pt x="1614" y="306"/>
                      </a:lnTo>
                      <a:lnTo>
                        <a:pt x="1570" y="306"/>
                      </a:lnTo>
                      <a:lnTo>
                        <a:pt x="1531" y="306"/>
                      </a:lnTo>
                      <a:lnTo>
                        <a:pt x="1497" y="303"/>
                      </a:lnTo>
                      <a:lnTo>
                        <a:pt x="1433" y="303"/>
                      </a:lnTo>
                      <a:lnTo>
                        <a:pt x="1357" y="303"/>
                      </a:lnTo>
                      <a:lnTo>
                        <a:pt x="1311" y="303"/>
                      </a:lnTo>
                      <a:lnTo>
                        <a:pt x="1259" y="303"/>
                      </a:lnTo>
                      <a:lnTo>
                        <a:pt x="1210" y="303"/>
                      </a:lnTo>
                      <a:lnTo>
                        <a:pt x="1186" y="303"/>
                      </a:lnTo>
                      <a:lnTo>
                        <a:pt x="1106" y="311"/>
                      </a:lnTo>
                      <a:lnTo>
                        <a:pt x="1074" y="313"/>
                      </a:lnTo>
                      <a:lnTo>
                        <a:pt x="1049" y="319"/>
                      </a:lnTo>
                      <a:lnTo>
                        <a:pt x="1017" y="321"/>
                      </a:lnTo>
                      <a:lnTo>
                        <a:pt x="978" y="326"/>
                      </a:lnTo>
                      <a:lnTo>
                        <a:pt x="935" y="334"/>
                      </a:lnTo>
                      <a:lnTo>
                        <a:pt x="883" y="345"/>
                      </a:lnTo>
                      <a:lnTo>
                        <a:pt x="810" y="358"/>
                      </a:lnTo>
                      <a:lnTo>
                        <a:pt x="736" y="373"/>
                      </a:lnTo>
                      <a:lnTo>
                        <a:pt x="687" y="381"/>
                      </a:lnTo>
                      <a:lnTo>
                        <a:pt x="654" y="389"/>
                      </a:lnTo>
                      <a:lnTo>
                        <a:pt x="629" y="397"/>
                      </a:lnTo>
                      <a:lnTo>
                        <a:pt x="597" y="406"/>
                      </a:lnTo>
                      <a:lnTo>
                        <a:pt x="572" y="414"/>
                      </a:lnTo>
                      <a:lnTo>
                        <a:pt x="548" y="421"/>
                      </a:lnTo>
                      <a:lnTo>
                        <a:pt x="458" y="453"/>
                      </a:lnTo>
                      <a:lnTo>
                        <a:pt x="384" y="476"/>
                      </a:lnTo>
                      <a:lnTo>
                        <a:pt x="360" y="484"/>
                      </a:lnTo>
                      <a:lnTo>
                        <a:pt x="335" y="492"/>
                      </a:lnTo>
                      <a:lnTo>
                        <a:pt x="311" y="500"/>
                      </a:lnTo>
                      <a:lnTo>
                        <a:pt x="286" y="507"/>
                      </a:lnTo>
                      <a:lnTo>
                        <a:pt x="262" y="516"/>
                      </a:lnTo>
                      <a:lnTo>
                        <a:pt x="237" y="524"/>
                      </a:lnTo>
                      <a:lnTo>
                        <a:pt x="213" y="532"/>
                      </a:lnTo>
                      <a:lnTo>
                        <a:pt x="164" y="548"/>
                      </a:lnTo>
                      <a:lnTo>
                        <a:pt x="139" y="555"/>
                      </a:lnTo>
                      <a:lnTo>
                        <a:pt x="115" y="563"/>
                      </a:lnTo>
                      <a:lnTo>
                        <a:pt x="90" y="571"/>
                      </a:lnTo>
                      <a:lnTo>
                        <a:pt x="66" y="579"/>
                      </a:lnTo>
                      <a:lnTo>
                        <a:pt x="40" y="587"/>
                      </a:lnTo>
                      <a:lnTo>
                        <a:pt x="16" y="595"/>
                      </a:lnTo>
                      <a:lnTo>
                        <a:pt x="0" y="595"/>
                      </a:lnTo>
                      <a:lnTo>
                        <a:pt x="0" y="571"/>
                      </a:lnTo>
                      <a:lnTo>
                        <a:pt x="0" y="548"/>
                      </a:lnTo>
                      <a:lnTo>
                        <a:pt x="0" y="524"/>
                      </a:lnTo>
                      <a:lnTo>
                        <a:pt x="0" y="500"/>
                      </a:lnTo>
                      <a:lnTo>
                        <a:pt x="0" y="476"/>
                      </a:lnTo>
                      <a:lnTo>
                        <a:pt x="0" y="453"/>
                      </a:lnTo>
                      <a:lnTo>
                        <a:pt x="0" y="429"/>
                      </a:lnTo>
                      <a:lnTo>
                        <a:pt x="8" y="371"/>
                      </a:lnTo>
                      <a:lnTo>
                        <a:pt x="19" y="324"/>
                      </a:lnTo>
                      <a:lnTo>
                        <a:pt x="25" y="298"/>
                      </a:lnTo>
                      <a:lnTo>
                        <a:pt x="46" y="265"/>
                      </a:lnTo>
                      <a:lnTo>
                        <a:pt x="74" y="252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5061600" y="2103120"/>
                <a:ext cx="385200" cy="215640"/>
                <a:chOff x="5061600" y="2103120"/>
                <a:chExt cx="385200" cy="215640"/>
              </a:xfrm>
            </p:grpSpPr>
            <p:grpSp>
              <p:nvGrpSpPr>
                <p:cNvPr id="445" name=""/>
                <p:cNvGrpSpPr/>
                <p:nvPr/>
              </p:nvGrpSpPr>
              <p:grpSpPr>
                <a:xfrm>
                  <a:off x="5061600" y="2103120"/>
                  <a:ext cx="385200" cy="215640"/>
                  <a:chOff x="5061600" y="2103120"/>
                  <a:chExt cx="385200" cy="21564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5063040" y="2103120"/>
                    <a:ext cx="38340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0" h="1095">
                        <a:moveTo>
                          <a:pt x="0" y="1095"/>
                        </a:moveTo>
                        <a:lnTo>
                          <a:pt x="0" y="320"/>
                        </a:lnTo>
                        <a:lnTo>
                          <a:pt x="809" y="139"/>
                        </a:lnTo>
                        <a:lnTo>
                          <a:pt x="856" y="0"/>
                        </a:lnTo>
                        <a:lnTo>
                          <a:pt x="961" y="3"/>
                        </a:lnTo>
                        <a:lnTo>
                          <a:pt x="1005" y="139"/>
                        </a:lnTo>
                        <a:lnTo>
                          <a:pt x="1831" y="139"/>
                        </a:lnTo>
                        <a:lnTo>
                          <a:pt x="1856" y="5"/>
                        </a:lnTo>
                        <a:lnTo>
                          <a:pt x="1970" y="5"/>
                        </a:lnTo>
                        <a:lnTo>
                          <a:pt x="2010" y="139"/>
                        </a:lnTo>
                        <a:lnTo>
                          <a:pt x="2880" y="363"/>
                        </a:lnTo>
                        <a:lnTo>
                          <a:pt x="2877" y="1087"/>
                        </a:lnTo>
                        <a:lnTo>
                          <a:pt x="0" y="1095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061600" y="2275920"/>
                    <a:ext cx="3852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8" h="206">
                        <a:moveTo>
                          <a:pt x="0" y="0"/>
                        </a:moveTo>
                        <a:lnTo>
                          <a:pt x="41" y="206"/>
                        </a:lnTo>
                        <a:lnTo>
                          <a:pt x="2839" y="206"/>
                        </a:lnTo>
                        <a:lnTo>
                          <a:pt x="288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5068800" y="2307600"/>
                    <a:ext cx="3686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72" h="64">
                        <a:moveTo>
                          <a:pt x="0" y="0"/>
                        </a:moveTo>
                        <a:lnTo>
                          <a:pt x="115" y="64"/>
                        </a:lnTo>
                        <a:lnTo>
                          <a:pt x="2665" y="64"/>
                        </a:lnTo>
                        <a:lnTo>
                          <a:pt x="27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5164200" y="2150640"/>
                  <a:ext cx="174960" cy="90360"/>
                  <a:chOff x="5164200" y="2150640"/>
                  <a:chExt cx="174960" cy="90360"/>
                </a:xfrm>
              </p:grpSpPr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5164200" y="2150640"/>
                    <a:ext cx="173520" cy="88920"/>
                    <a:chOff x="5164200" y="2150640"/>
                    <a:chExt cx="173520" cy="8892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5164200" y="215064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5204880" y="215064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5239800" y="215064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5273640" y="215064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5314320" y="215064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5204880" y="217584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5239800" y="217584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5273640" y="217584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5204880" y="2199960"/>
                      <a:ext cx="23400" cy="14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5239800" y="2199960"/>
                      <a:ext cx="23400" cy="14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5273640" y="2199960"/>
                      <a:ext cx="23040" cy="14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>
                      <a:off x="5204880" y="222516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5239800" y="222516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5273640" y="222516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5164200" y="221400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5164200" y="217584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5314320" y="221400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5314320" y="217584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9" name=""/>
                  <p:cNvGrpSpPr/>
                  <p:nvPr/>
                </p:nvGrpSpPr>
                <p:grpSpPr>
                  <a:xfrm>
                    <a:off x="5165280" y="2153880"/>
                    <a:ext cx="23400" cy="14040"/>
                    <a:chOff x="5165280" y="2153880"/>
                    <a:chExt cx="23400" cy="14040"/>
                  </a:xfrm>
                </p:grpSpPr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5165280" y="215388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5165280" y="215388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2" name=""/>
                  <p:cNvGrpSpPr/>
                  <p:nvPr/>
                </p:nvGrpSpPr>
                <p:grpSpPr>
                  <a:xfrm>
                    <a:off x="5206320" y="2153880"/>
                    <a:ext cx="23040" cy="14040"/>
                    <a:chOff x="5206320" y="2153880"/>
                    <a:chExt cx="23040" cy="14040"/>
                  </a:xfrm>
                </p:grpSpPr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5206320" y="2153880"/>
                      <a:ext cx="2304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5206320" y="215388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5" name=""/>
                  <p:cNvGrpSpPr/>
                  <p:nvPr/>
                </p:nvGrpSpPr>
                <p:grpSpPr>
                  <a:xfrm>
                    <a:off x="5241600" y="2153880"/>
                    <a:ext cx="23040" cy="14040"/>
                    <a:chOff x="5241600" y="2153880"/>
                    <a:chExt cx="23040" cy="14040"/>
                  </a:xfrm>
                </p:grpSpPr>
                <p:sp>
                  <p:nvSpPr>
                    <p:cNvPr id="476" name=""/>
                    <p:cNvSpPr/>
                    <p:nvPr/>
                  </p:nvSpPr>
                  <p:spPr>
                    <a:xfrm>
                      <a:off x="5241600" y="2153880"/>
                      <a:ext cx="2304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>
                      <a:off x="5241600" y="215388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8" name=""/>
                  <p:cNvGrpSpPr/>
                  <p:nvPr/>
                </p:nvGrpSpPr>
                <p:grpSpPr>
                  <a:xfrm>
                    <a:off x="5276520" y="2153880"/>
                    <a:ext cx="23400" cy="14040"/>
                    <a:chOff x="5276520" y="2153880"/>
                    <a:chExt cx="23400" cy="14040"/>
                  </a:xfrm>
                </p:grpSpPr>
                <p:sp>
                  <p:nvSpPr>
                    <p:cNvPr id="479" name=""/>
                    <p:cNvSpPr/>
                    <p:nvPr/>
                  </p:nvSpPr>
                  <p:spPr>
                    <a:xfrm>
                      <a:off x="5276520" y="215388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>
                      <a:off x="5276520" y="215388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1" name=""/>
                  <p:cNvGrpSpPr/>
                  <p:nvPr/>
                </p:nvGrpSpPr>
                <p:grpSpPr>
                  <a:xfrm>
                    <a:off x="5315760" y="2153880"/>
                    <a:ext cx="23400" cy="14040"/>
                    <a:chOff x="5315760" y="2153880"/>
                    <a:chExt cx="23400" cy="14040"/>
                  </a:xfrm>
                </p:grpSpPr>
                <p:sp>
                  <p:nvSpPr>
                    <p:cNvPr id="482" name=""/>
                    <p:cNvSpPr/>
                    <p:nvPr/>
                  </p:nvSpPr>
                  <p:spPr>
                    <a:xfrm>
                      <a:off x="5315760" y="215388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>
                      <a:off x="5317200" y="215388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5206320" y="2177640"/>
                    <a:ext cx="23040" cy="15840"/>
                    <a:chOff x="5206320" y="2177640"/>
                    <a:chExt cx="23040" cy="1584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5206320" y="2177640"/>
                      <a:ext cx="23040" cy="15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>
                      <a:off x="5206320" y="217908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7" name=""/>
                  <p:cNvGrpSpPr/>
                  <p:nvPr/>
                </p:nvGrpSpPr>
                <p:grpSpPr>
                  <a:xfrm>
                    <a:off x="5241600" y="2177640"/>
                    <a:ext cx="23040" cy="14400"/>
                    <a:chOff x="5241600" y="2177640"/>
                    <a:chExt cx="23040" cy="14400"/>
                  </a:xfrm>
                </p:grpSpPr>
                <p:sp>
                  <p:nvSpPr>
                    <p:cNvPr id="488" name=""/>
                    <p:cNvSpPr/>
                    <p:nvPr/>
                  </p:nvSpPr>
                  <p:spPr>
                    <a:xfrm>
                      <a:off x="5241600" y="2177640"/>
                      <a:ext cx="2304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>
                      <a:off x="5241600" y="217764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0" name=""/>
                  <p:cNvGrpSpPr/>
                  <p:nvPr/>
                </p:nvGrpSpPr>
                <p:grpSpPr>
                  <a:xfrm>
                    <a:off x="5276520" y="2177640"/>
                    <a:ext cx="23400" cy="14400"/>
                    <a:chOff x="5276520" y="2177640"/>
                    <a:chExt cx="23400" cy="14400"/>
                  </a:xfrm>
                </p:grpSpPr>
                <p:sp>
                  <p:nvSpPr>
                    <p:cNvPr id="491" name=""/>
                    <p:cNvSpPr/>
                    <p:nvPr/>
                  </p:nvSpPr>
                  <p:spPr>
                    <a:xfrm>
                      <a:off x="5276520" y="2177640"/>
                      <a:ext cx="2340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5276520" y="217764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3" name=""/>
                  <p:cNvGrpSpPr/>
                  <p:nvPr/>
                </p:nvGrpSpPr>
                <p:grpSpPr>
                  <a:xfrm>
                    <a:off x="5206320" y="2202840"/>
                    <a:ext cx="23040" cy="14400"/>
                    <a:chOff x="5206320" y="2202840"/>
                    <a:chExt cx="23040" cy="14400"/>
                  </a:xfrm>
                </p:grpSpPr>
                <p:sp>
                  <p:nvSpPr>
                    <p:cNvPr id="494" name=""/>
                    <p:cNvSpPr/>
                    <p:nvPr/>
                  </p:nvSpPr>
                  <p:spPr>
                    <a:xfrm>
                      <a:off x="5206320" y="2202840"/>
                      <a:ext cx="2304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>
                      <a:off x="5206320" y="220284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5241600" y="2202840"/>
                    <a:ext cx="23040" cy="14400"/>
                    <a:chOff x="5241600" y="2202840"/>
                    <a:chExt cx="23040" cy="14400"/>
                  </a:xfrm>
                </p:grpSpPr>
                <p:sp>
                  <p:nvSpPr>
                    <p:cNvPr id="497" name=""/>
                    <p:cNvSpPr/>
                    <p:nvPr/>
                  </p:nvSpPr>
                  <p:spPr>
                    <a:xfrm>
                      <a:off x="5241600" y="2202840"/>
                      <a:ext cx="2304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>
                      <a:off x="5241600" y="220284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9" name=""/>
                  <p:cNvGrpSpPr/>
                  <p:nvPr/>
                </p:nvGrpSpPr>
                <p:grpSpPr>
                  <a:xfrm>
                    <a:off x="5276520" y="2202840"/>
                    <a:ext cx="23400" cy="14400"/>
                    <a:chOff x="5276520" y="2202840"/>
                    <a:chExt cx="23400" cy="14400"/>
                  </a:xfrm>
                </p:grpSpPr>
                <p:sp>
                  <p:nvSpPr>
                    <p:cNvPr id="500" name=""/>
                    <p:cNvSpPr/>
                    <p:nvPr/>
                  </p:nvSpPr>
                  <p:spPr>
                    <a:xfrm>
                      <a:off x="5276520" y="2202840"/>
                      <a:ext cx="2340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>
                      <a:off x="5276520" y="220284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2" name=""/>
                  <p:cNvGrpSpPr/>
                  <p:nvPr/>
                </p:nvGrpSpPr>
                <p:grpSpPr>
                  <a:xfrm>
                    <a:off x="5206320" y="2226960"/>
                    <a:ext cx="23040" cy="14040"/>
                    <a:chOff x="5206320" y="2226960"/>
                    <a:chExt cx="23040" cy="14040"/>
                  </a:xfrm>
                </p:grpSpPr>
                <p:sp>
                  <p:nvSpPr>
                    <p:cNvPr id="503" name=""/>
                    <p:cNvSpPr/>
                    <p:nvPr/>
                  </p:nvSpPr>
                  <p:spPr>
                    <a:xfrm>
                      <a:off x="5206320" y="2226960"/>
                      <a:ext cx="2304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>
                      <a:off x="5206320" y="2226960"/>
                      <a:ext cx="19800" cy="1080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5241600" y="2226960"/>
                    <a:ext cx="23040" cy="14040"/>
                    <a:chOff x="5241600" y="2226960"/>
                    <a:chExt cx="23040" cy="1404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>
                      <a:off x="5241600" y="2226960"/>
                      <a:ext cx="2304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5241600" y="2226960"/>
                      <a:ext cx="19800" cy="1080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5276520" y="2226960"/>
                    <a:ext cx="23400" cy="14040"/>
                    <a:chOff x="5276520" y="2226960"/>
                    <a:chExt cx="23400" cy="14040"/>
                  </a:xfrm>
                </p:grpSpPr>
                <p:sp>
                  <p:nvSpPr>
                    <p:cNvPr id="509" name=""/>
                    <p:cNvSpPr/>
                    <p:nvPr/>
                  </p:nvSpPr>
                  <p:spPr>
                    <a:xfrm>
                      <a:off x="5276520" y="222696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5276520" y="2226960"/>
                      <a:ext cx="20160" cy="1080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5165280" y="2215800"/>
                    <a:ext cx="23400" cy="14040"/>
                    <a:chOff x="5165280" y="2215800"/>
                    <a:chExt cx="23400" cy="1404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5165280" y="221580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5165280" y="221724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5165280" y="2177640"/>
                    <a:ext cx="23400" cy="15840"/>
                    <a:chOff x="5165280" y="2177640"/>
                    <a:chExt cx="23400" cy="1584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5165280" y="2177640"/>
                      <a:ext cx="23400" cy="15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5165280" y="217908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7" name=""/>
                  <p:cNvGrpSpPr/>
                  <p:nvPr/>
                </p:nvGrpSpPr>
                <p:grpSpPr>
                  <a:xfrm>
                    <a:off x="5315760" y="2215800"/>
                    <a:ext cx="23400" cy="14040"/>
                    <a:chOff x="5315760" y="2215800"/>
                    <a:chExt cx="23400" cy="14040"/>
                  </a:xfrm>
                </p:grpSpPr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5315760" y="221580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5317200" y="221724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0" name=""/>
                  <p:cNvGrpSpPr/>
                  <p:nvPr/>
                </p:nvGrpSpPr>
                <p:grpSpPr>
                  <a:xfrm>
                    <a:off x="5315760" y="2177640"/>
                    <a:ext cx="23400" cy="15840"/>
                    <a:chOff x="5315760" y="2177640"/>
                    <a:chExt cx="23400" cy="15840"/>
                  </a:xfrm>
                </p:grpSpPr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5315760" y="2177640"/>
                      <a:ext cx="23400" cy="15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5317200" y="217908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23" name=""/>
              <p:cNvGrpSpPr/>
              <p:nvPr/>
            </p:nvGrpSpPr>
            <p:grpSpPr>
              <a:xfrm>
                <a:off x="5020920" y="2109240"/>
                <a:ext cx="42120" cy="115560"/>
                <a:chOff x="5020920" y="2109240"/>
                <a:chExt cx="42120" cy="1155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5022000" y="2144160"/>
                  <a:ext cx="20520" cy="1908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5020920" y="2155320"/>
                  <a:ext cx="20160" cy="1584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5022000" y="2171160"/>
                  <a:ext cx="21600" cy="792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5023440" y="2185560"/>
                  <a:ext cx="21960" cy="144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V="1">
                  <a:off x="5028120" y="2197800"/>
                  <a:ext cx="21600" cy="180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5031000" y="2202840"/>
                  <a:ext cx="21600" cy="648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024880" y="2133000"/>
                  <a:ext cx="18720" cy="2412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5031000" y="2122200"/>
                  <a:ext cx="14400" cy="2844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5038200" y="2114280"/>
                  <a:ext cx="9720" cy="2988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5050080" y="2109240"/>
                  <a:ext cx="2880" cy="3348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V="1">
                  <a:off x="5039640" y="2204640"/>
                  <a:ext cx="18720" cy="1440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5050080" y="2204280"/>
                  <a:ext cx="12960" cy="2052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6" name=""/>
            <p:cNvGrpSpPr/>
            <p:nvPr/>
          </p:nvGrpSpPr>
          <p:grpSpPr>
            <a:xfrm>
              <a:off x="5020920" y="2361960"/>
              <a:ext cx="434520" cy="261720"/>
              <a:chOff x="5020920" y="2361960"/>
              <a:chExt cx="434520" cy="261720"/>
            </a:xfrm>
          </p:grpSpPr>
          <p:grpSp>
            <p:nvGrpSpPr>
              <p:cNvPr id="537" name=""/>
              <p:cNvGrpSpPr/>
              <p:nvPr/>
            </p:nvGrpSpPr>
            <p:grpSpPr>
              <a:xfrm>
                <a:off x="5057280" y="2361960"/>
                <a:ext cx="398160" cy="117360"/>
                <a:chOff x="5057280" y="2361960"/>
                <a:chExt cx="398160" cy="1173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5058360" y="2406240"/>
                  <a:ext cx="395280" cy="73080"/>
                </a:xfrm>
                <a:custGeom>
                  <a:avLst/>
                  <a:gdLst/>
                  <a:ahLst/>
                  <a:rect l="l" t="t" r="r" b="b"/>
                  <a:pathLst>
                    <a:path w="2965" h="459">
                      <a:moveTo>
                        <a:pt x="0" y="278"/>
                      </a:moveTo>
                      <a:lnTo>
                        <a:pt x="352" y="143"/>
                      </a:lnTo>
                      <a:lnTo>
                        <a:pt x="1129" y="0"/>
                      </a:lnTo>
                      <a:lnTo>
                        <a:pt x="2036" y="40"/>
                      </a:lnTo>
                      <a:lnTo>
                        <a:pt x="2494" y="143"/>
                      </a:lnTo>
                      <a:lnTo>
                        <a:pt x="2965" y="367"/>
                      </a:lnTo>
                      <a:lnTo>
                        <a:pt x="2911" y="407"/>
                      </a:lnTo>
                      <a:lnTo>
                        <a:pt x="2889" y="433"/>
                      </a:lnTo>
                      <a:lnTo>
                        <a:pt x="2857" y="451"/>
                      </a:lnTo>
                      <a:lnTo>
                        <a:pt x="2829" y="459"/>
                      </a:lnTo>
                      <a:lnTo>
                        <a:pt x="2805" y="459"/>
                      </a:lnTo>
                      <a:lnTo>
                        <a:pt x="2781" y="459"/>
                      </a:lnTo>
                      <a:lnTo>
                        <a:pt x="2756" y="459"/>
                      </a:lnTo>
                      <a:lnTo>
                        <a:pt x="2732" y="459"/>
                      </a:lnTo>
                      <a:lnTo>
                        <a:pt x="2707" y="451"/>
                      </a:lnTo>
                      <a:lnTo>
                        <a:pt x="2674" y="443"/>
                      </a:lnTo>
                      <a:lnTo>
                        <a:pt x="2654" y="441"/>
                      </a:lnTo>
                      <a:lnTo>
                        <a:pt x="2627" y="433"/>
                      </a:lnTo>
                      <a:lnTo>
                        <a:pt x="2595" y="425"/>
                      </a:lnTo>
                      <a:lnTo>
                        <a:pt x="2568" y="420"/>
                      </a:lnTo>
                      <a:lnTo>
                        <a:pt x="2543" y="412"/>
                      </a:lnTo>
                      <a:lnTo>
                        <a:pt x="2524" y="409"/>
                      </a:lnTo>
                      <a:lnTo>
                        <a:pt x="2500" y="399"/>
                      </a:lnTo>
                      <a:lnTo>
                        <a:pt x="2475" y="391"/>
                      </a:lnTo>
                      <a:lnTo>
                        <a:pt x="2451" y="386"/>
                      </a:lnTo>
                      <a:lnTo>
                        <a:pt x="2424" y="378"/>
                      </a:lnTo>
                      <a:lnTo>
                        <a:pt x="2399" y="373"/>
                      </a:lnTo>
                      <a:lnTo>
                        <a:pt x="2371" y="365"/>
                      </a:lnTo>
                      <a:lnTo>
                        <a:pt x="2346" y="357"/>
                      </a:lnTo>
                      <a:lnTo>
                        <a:pt x="2322" y="349"/>
                      </a:lnTo>
                      <a:lnTo>
                        <a:pt x="2297" y="340"/>
                      </a:lnTo>
                      <a:lnTo>
                        <a:pt x="2273" y="332"/>
                      </a:lnTo>
                      <a:lnTo>
                        <a:pt x="2248" y="325"/>
                      </a:lnTo>
                      <a:lnTo>
                        <a:pt x="2227" y="312"/>
                      </a:lnTo>
                      <a:lnTo>
                        <a:pt x="2200" y="298"/>
                      </a:lnTo>
                      <a:lnTo>
                        <a:pt x="2175" y="285"/>
                      </a:lnTo>
                      <a:lnTo>
                        <a:pt x="2151" y="272"/>
                      </a:lnTo>
                      <a:lnTo>
                        <a:pt x="2126" y="262"/>
                      </a:lnTo>
                      <a:lnTo>
                        <a:pt x="2104" y="246"/>
                      </a:lnTo>
                      <a:lnTo>
                        <a:pt x="2085" y="230"/>
                      </a:lnTo>
                      <a:lnTo>
                        <a:pt x="2060" y="214"/>
                      </a:lnTo>
                      <a:lnTo>
                        <a:pt x="2036" y="198"/>
                      </a:lnTo>
                      <a:lnTo>
                        <a:pt x="2011" y="182"/>
                      </a:lnTo>
                      <a:lnTo>
                        <a:pt x="1987" y="167"/>
                      </a:lnTo>
                      <a:lnTo>
                        <a:pt x="1962" y="159"/>
                      </a:lnTo>
                      <a:lnTo>
                        <a:pt x="1938" y="151"/>
                      </a:lnTo>
                      <a:lnTo>
                        <a:pt x="1906" y="143"/>
                      </a:lnTo>
                      <a:lnTo>
                        <a:pt x="1881" y="135"/>
                      </a:lnTo>
                      <a:lnTo>
                        <a:pt x="1857" y="130"/>
                      </a:lnTo>
                      <a:lnTo>
                        <a:pt x="1832" y="128"/>
                      </a:lnTo>
                      <a:lnTo>
                        <a:pt x="1808" y="121"/>
                      </a:lnTo>
                      <a:lnTo>
                        <a:pt x="1774" y="116"/>
                      </a:lnTo>
                      <a:lnTo>
                        <a:pt x="1725" y="113"/>
                      </a:lnTo>
                      <a:lnTo>
                        <a:pt x="1669" y="113"/>
                      </a:lnTo>
                      <a:lnTo>
                        <a:pt x="1586" y="111"/>
                      </a:lnTo>
                      <a:lnTo>
                        <a:pt x="1537" y="111"/>
                      </a:lnTo>
                      <a:lnTo>
                        <a:pt x="1431" y="111"/>
                      </a:lnTo>
                      <a:lnTo>
                        <a:pt x="1407" y="111"/>
                      </a:lnTo>
                      <a:lnTo>
                        <a:pt x="1382" y="111"/>
                      </a:lnTo>
                      <a:lnTo>
                        <a:pt x="1333" y="111"/>
                      </a:lnTo>
                      <a:lnTo>
                        <a:pt x="1206" y="111"/>
                      </a:lnTo>
                      <a:lnTo>
                        <a:pt x="1104" y="116"/>
                      </a:lnTo>
                      <a:lnTo>
                        <a:pt x="1055" y="121"/>
                      </a:lnTo>
                      <a:lnTo>
                        <a:pt x="1032" y="124"/>
                      </a:lnTo>
                      <a:lnTo>
                        <a:pt x="1006" y="130"/>
                      </a:lnTo>
                      <a:lnTo>
                        <a:pt x="982" y="135"/>
                      </a:lnTo>
                      <a:lnTo>
                        <a:pt x="957" y="143"/>
                      </a:lnTo>
                      <a:lnTo>
                        <a:pt x="933" y="151"/>
                      </a:lnTo>
                      <a:lnTo>
                        <a:pt x="908" y="159"/>
                      </a:lnTo>
                      <a:lnTo>
                        <a:pt x="884" y="175"/>
                      </a:lnTo>
                      <a:lnTo>
                        <a:pt x="866" y="186"/>
                      </a:lnTo>
                      <a:lnTo>
                        <a:pt x="840" y="203"/>
                      </a:lnTo>
                      <a:lnTo>
                        <a:pt x="821" y="214"/>
                      </a:lnTo>
                      <a:lnTo>
                        <a:pt x="795" y="230"/>
                      </a:lnTo>
                      <a:lnTo>
                        <a:pt x="769" y="246"/>
                      </a:lnTo>
                      <a:lnTo>
                        <a:pt x="745" y="262"/>
                      </a:lnTo>
                      <a:lnTo>
                        <a:pt x="720" y="272"/>
                      </a:lnTo>
                      <a:lnTo>
                        <a:pt x="698" y="281"/>
                      </a:lnTo>
                      <a:lnTo>
                        <a:pt x="671" y="293"/>
                      </a:lnTo>
                      <a:lnTo>
                        <a:pt x="649" y="304"/>
                      </a:lnTo>
                      <a:lnTo>
                        <a:pt x="626" y="313"/>
                      </a:lnTo>
                      <a:lnTo>
                        <a:pt x="598" y="325"/>
                      </a:lnTo>
                      <a:lnTo>
                        <a:pt x="573" y="332"/>
                      </a:lnTo>
                      <a:lnTo>
                        <a:pt x="549" y="340"/>
                      </a:lnTo>
                      <a:lnTo>
                        <a:pt x="515" y="349"/>
                      </a:lnTo>
                      <a:lnTo>
                        <a:pt x="491" y="357"/>
                      </a:lnTo>
                      <a:lnTo>
                        <a:pt x="466" y="365"/>
                      </a:lnTo>
                      <a:lnTo>
                        <a:pt x="437" y="373"/>
                      </a:lnTo>
                      <a:lnTo>
                        <a:pt x="410" y="377"/>
                      </a:lnTo>
                      <a:lnTo>
                        <a:pt x="376" y="384"/>
                      </a:lnTo>
                      <a:lnTo>
                        <a:pt x="350" y="390"/>
                      </a:lnTo>
                      <a:lnTo>
                        <a:pt x="324" y="395"/>
                      </a:lnTo>
                      <a:lnTo>
                        <a:pt x="300" y="401"/>
                      </a:lnTo>
                      <a:lnTo>
                        <a:pt x="270" y="407"/>
                      </a:lnTo>
                      <a:lnTo>
                        <a:pt x="249" y="411"/>
                      </a:lnTo>
                      <a:lnTo>
                        <a:pt x="224" y="417"/>
                      </a:lnTo>
                      <a:lnTo>
                        <a:pt x="188" y="420"/>
                      </a:lnTo>
                      <a:lnTo>
                        <a:pt x="164" y="424"/>
                      </a:lnTo>
                      <a:lnTo>
                        <a:pt x="139" y="428"/>
                      </a:lnTo>
                      <a:lnTo>
                        <a:pt x="115" y="428"/>
                      </a:lnTo>
                      <a:lnTo>
                        <a:pt x="90" y="428"/>
                      </a:lnTo>
                      <a:lnTo>
                        <a:pt x="66" y="428"/>
                      </a:lnTo>
                      <a:lnTo>
                        <a:pt x="41" y="412"/>
                      </a:lnTo>
                      <a:lnTo>
                        <a:pt x="27" y="390"/>
                      </a:lnTo>
                      <a:lnTo>
                        <a:pt x="17" y="365"/>
                      </a:lnTo>
                      <a:lnTo>
                        <a:pt x="9" y="340"/>
                      </a:lnTo>
                      <a:lnTo>
                        <a:pt x="9" y="317"/>
                      </a:lnTo>
                      <a:lnTo>
                        <a:pt x="0" y="293"/>
                      </a:lnTo>
                      <a:lnTo>
                        <a:pt x="0" y="270"/>
                      </a:lnTo>
                      <a:lnTo>
                        <a:pt x="0" y="278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057280" y="2361960"/>
                  <a:ext cx="398160" cy="106200"/>
                </a:xfrm>
                <a:custGeom>
                  <a:avLst/>
                  <a:gdLst/>
                  <a:ahLst/>
                  <a:rect l="l" t="t" r="r" b="b"/>
                  <a:pathLst>
                    <a:path w="2993" h="666">
                      <a:moveTo>
                        <a:pt x="74" y="252"/>
                      </a:moveTo>
                      <a:lnTo>
                        <a:pt x="128" y="229"/>
                      </a:lnTo>
                      <a:lnTo>
                        <a:pt x="206" y="198"/>
                      </a:lnTo>
                      <a:lnTo>
                        <a:pt x="250" y="182"/>
                      </a:lnTo>
                      <a:lnTo>
                        <a:pt x="291" y="165"/>
                      </a:lnTo>
                      <a:lnTo>
                        <a:pt x="327" y="152"/>
                      </a:lnTo>
                      <a:lnTo>
                        <a:pt x="374" y="134"/>
                      </a:lnTo>
                      <a:lnTo>
                        <a:pt x="406" y="124"/>
                      </a:lnTo>
                      <a:lnTo>
                        <a:pt x="433" y="113"/>
                      </a:lnTo>
                      <a:lnTo>
                        <a:pt x="487" y="98"/>
                      </a:lnTo>
                      <a:lnTo>
                        <a:pt x="531" y="84"/>
                      </a:lnTo>
                      <a:lnTo>
                        <a:pt x="570" y="74"/>
                      </a:lnTo>
                      <a:lnTo>
                        <a:pt x="638" y="57"/>
                      </a:lnTo>
                      <a:lnTo>
                        <a:pt x="663" y="52"/>
                      </a:lnTo>
                      <a:lnTo>
                        <a:pt x="736" y="42"/>
                      </a:lnTo>
                      <a:lnTo>
                        <a:pt x="776" y="34"/>
                      </a:lnTo>
                      <a:lnTo>
                        <a:pt x="935" y="18"/>
                      </a:lnTo>
                      <a:lnTo>
                        <a:pt x="968" y="16"/>
                      </a:lnTo>
                      <a:lnTo>
                        <a:pt x="1017" y="13"/>
                      </a:lnTo>
                      <a:lnTo>
                        <a:pt x="1098" y="5"/>
                      </a:lnTo>
                      <a:lnTo>
                        <a:pt x="1145" y="3"/>
                      </a:lnTo>
                      <a:lnTo>
                        <a:pt x="1186" y="0"/>
                      </a:lnTo>
                      <a:lnTo>
                        <a:pt x="1262" y="0"/>
                      </a:lnTo>
                      <a:lnTo>
                        <a:pt x="1308" y="3"/>
                      </a:lnTo>
                      <a:lnTo>
                        <a:pt x="1333" y="3"/>
                      </a:lnTo>
                      <a:lnTo>
                        <a:pt x="1431" y="3"/>
                      </a:lnTo>
                      <a:lnTo>
                        <a:pt x="1455" y="3"/>
                      </a:lnTo>
                      <a:lnTo>
                        <a:pt x="1504" y="3"/>
                      </a:lnTo>
                      <a:lnTo>
                        <a:pt x="1538" y="3"/>
                      </a:lnTo>
                      <a:lnTo>
                        <a:pt x="1595" y="3"/>
                      </a:lnTo>
                      <a:lnTo>
                        <a:pt x="1619" y="3"/>
                      </a:lnTo>
                      <a:lnTo>
                        <a:pt x="1679" y="5"/>
                      </a:lnTo>
                      <a:lnTo>
                        <a:pt x="1725" y="10"/>
                      </a:lnTo>
                      <a:lnTo>
                        <a:pt x="1775" y="16"/>
                      </a:lnTo>
                      <a:lnTo>
                        <a:pt x="1802" y="16"/>
                      </a:lnTo>
                      <a:lnTo>
                        <a:pt x="1851" y="21"/>
                      </a:lnTo>
                      <a:lnTo>
                        <a:pt x="1913" y="26"/>
                      </a:lnTo>
                      <a:lnTo>
                        <a:pt x="1962" y="34"/>
                      </a:lnTo>
                      <a:lnTo>
                        <a:pt x="2086" y="50"/>
                      </a:lnTo>
                      <a:lnTo>
                        <a:pt x="2191" y="66"/>
                      </a:lnTo>
                      <a:lnTo>
                        <a:pt x="2257" y="79"/>
                      </a:lnTo>
                      <a:lnTo>
                        <a:pt x="2320" y="92"/>
                      </a:lnTo>
                      <a:lnTo>
                        <a:pt x="2355" y="100"/>
                      </a:lnTo>
                      <a:lnTo>
                        <a:pt x="2409" y="113"/>
                      </a:lnTo>
                      <a:lnTo>
                        <a:pt x="2467" y="129"/>
                      </a:lnTo>
                      <a:lnTo>
                        <a:pt x="2519" y="144"/>
                      </a:lnTo>
                      <a:lnTo>
                        <a:pt x="2551" y="155"/>
                      </a:lnTo>
                      <a:lnTo>
                        <a:pt x="2590" y="168"/>
                      </a:lnTo>
                      <a:lnTo>
                        <a:pt x="2639" y="182"/>
                      </a:lnTo>
                      <a:lnTo>
                        <a:pt x="2685" y="198"/>
                      </a:lnTo>
                      <a:lnTo>
                        <a:pt x="2731" y="216"/>
                      </a:lnTo>
                      <a:lnTo>
                        <a:pt x="2797" y="239"/>
                      </a:lnTo>
                      <a:lnTo>
                        <a:pt x="2837" y="258"/>
                      </a:lnTo>
                      <a:lnTo>
                        <a:pt x="2895" y="286"/>
                      </a:lnTo>
                      <a:lnTo>
                        <a:pt x="2920" y="303"/>
                      </a:lnTo>
                      <a:lnTo>
                        <a:pt x="2927" y="311"/>
                      </a:lnTo>
                      <a:lnTo>
                        <a:pt x="2944" y="334"/>
                      </a:lnTo>
                      <a:lnTo>
                        <a:pt x="2952" y="358"/>
                      </a:lnTo>
                      <a:lnTo>
                        <a:pt x="2961" y="381"/>
                      </a:lnTo>
                      <a:lnTo>
                        <a:pt x="2969" y="406"/>
                      </a:lnTo>
                      <a:lnTo>
                        <a:pt x="2976" y="429"/>
                      </a:lnTo>
                      <a:lnTo>
                        <a:pt x="2982" y="455"/>
                      </a:lnTo>
                      <a:lnTo>
                        <a:pt x="2985" y="476"/>
                      </a:lnTo>
                      <a:lnTo>
                        <a:pt x="2988" y="500"/>
                      </a:lnTo>
                      <a:lnTo>
                        <a:pt x="2993" y="524"/>
                      </a:lnTo>
                      <a:lnTo>
                        <a:pt x="2993" y="548"/>
                      </a:lnTo>
                      <a:lnTo>
                        <a:pt x="2993" y="571"/>
                      </a:lnTo>
                      <a:lnTo>
                        <a:pt x="2993" y="595"/>
                      </a:lnTo>
                      <a:lnTo>
                        <a:pt x="2993" y="618"/>
                      </a:lnTo>
                      <a:lnTo>
                        <a:pt x="2993" y="643"/>
                      </a:lnTo>
                      <a:lnTo>
                        <a:pt x="2993" y="666"/>
                      </a:lnTo>
                      <a:lnTo>
                        <a:pt x="2993" y="666"/>
                      </a:lnTo>
                      <a:lnTo>
                        <a:pt x="2974" y="650"/>
                      </a:lnTo>
                      <a:lnTo>
                        <a:pt x="2944" y="643"/>
                      </a:lnTo>
                      <a:lnTo>
                        <a:pt x="2920" y="632"/>
                      </a:lnTo>
                      <a:lnTo>
                        <a:pt x="2886" y="615"/>
                      </a:lnTo>
                      <a:lnTo>
                        <a:pt x="2822" y="595"/>
                      </a:lnTo>
                      <a:lnTo>
                        <a:pt x="2726" y="550"/>
                      </a:lnTo>
                      <a:lnTo>
                        <a:pt x="2698" y="540"/>
                      </a:lnTo>
                      <a:lnTo>
                        <a:pt x="2674" y="527"/>
                      </a:lnTo>
                      <a:lnTo>
                        <a:pt x="2649" y="516"/>
                      </a:lnTo>
                      <a:lnTo>
                        <a:pt x="2625" y="507"/>
                      </a:lnTo>
                      <a:lnTo>
                        <a:pt x="2600" y="500"/>
                      </a:lnTo>
                      <a:lnTo>
                        <a:pt x="2576" y="492"/>
                      </a:lnTo>
                      <a:lnTo>
                        <a:pt x="2551" y="484"/>
                      </a:lnTo>
                      <a:lnTo>
                        <a:pt x="2524" y="474"/>
                      </a:lnTo>
                      <a:lnTo>
                        <a:pt x="2502" y="468"/>
                      </a:lnTo>
                      <a:lnTo>
                        <a:pt x="2478" y="461"/>
                      </a:lnTo>
                      <a:lnTo>
                        <a:pt x="2453" y="453"/>
                      </a:lnTo>
                      <a:lnTo>
                        <a:pt x="2429" y="445"/>
                      </a:lnTo>
                      <a:lnTo>
                        <a:pt x="2404" y="437"/>
                      </a:lnTo>
                      <a:lnTo>
                        <a:pt x="2274" y="397"/>
                      </a:lnTo>
                      <a:lnTo>
                        <a:pt x="2199" y="384"/>
                      </a:lnTo>
                      <a:lnTo>
                        <a:pt x="2167" y="379"/>
                      </a:lnTo>
                      <a:lnTo>
                        <a:pt x="2142" y="373"/>
                      </a:lnTo>
                      <a:lnTo>
                        <a:pt x="2093" y="366"/>
                      </a:lnTo>
                      <a:lnTo>
                        <a:pt x="2055" y="355"/>
                      </a:lnTo>
                      <a:lnTo>
                        <a:pt x="1995" y="350"/>
                      </a:lnTo>
                      <a:lnTo>
                        <a:pt x="1971" y="342"/>
                      </a:lnTo>
                      <a:lnTo>
                        <a:pt x="1930" y="340"/>
                      </a:lnTo>
                      <a:lnTo>
                        <a:pt x="1897" y="334"/>
                      </a:lnTo>
                      <a:lnTo>
                        <a:pt x="1824" y="326"/>
                      </a:lnTo>
                      <a:lnTo>
                        <a:pt x="1775" y="319"/>
                      </a:lnTo>
                      <a:lnTo>
                        <a:pt x="1742" y="316"/>
                      </a:lnTo>
                      <a:lnTo>
                        <a:pt x="1700" y="313"/>
                      </a:lnTo>
                      <a:lnTo>
                        <a:pt x="1660" y="311"/>
                      </a:lnTo>
                      <a:lnTo>
                        <a:pt x="1614" y="306"/>
                      </a:lnTo>
                      <a:lnTo>
                        <a:pt x="1570" y="306"/>
                      </a:lnTo>
                      <a:lnTo>
                        <a:pt x="1531" y="306"/>
                      </a:lnTo>
                      <a:lnTo>
                        <a:pt x="1497" y="303"/>
                      </a:lnTo>
                      <a:lnTo>
                        <a:pt x="1433" y="303"/>
                      </a:lnTo>
                      <a:lnTo>
                        <a:pt x="1357" y="303"/>
                      </a:lnTo>
                      <a:lnTo>
                        <a:pt x="1311" y="303"/>
                      </a:lnTo>
                      <a:lnTo>
                        <a:pt x="1259" y="303"/>
                      </a:lnTo>
                      <a:lnTo>
                        <a:pt x="1210" y="303"/>
                      </a:lnTo>
                      <a:lnTo>
                        <a:pt x="1186" y="303"/>
                      </a:lnTo>
                      <a:lnTo>
                        <a:pt x="1106" y="311"/>
                      </a:lnTo>
                      <a:lnTo>
                        <a:pt x="1074" y="313"/>
                      </a:lnTo>
                      <a:lnTo>
                        <a:pt x="1049" y="319"/>
                      </a:lnTo>
                      <a:lnTo>
                        <a:pt x="1017" y="321"/>
                      </a:lnTo>
                      <a:lnTo>
                        <a:pt x="978" y="326"/>
                      </a:lnTo>
                      <a:lnTo>
                        <a:pt x="935" y="334"/>
                      </a:lnTo>
                      <a:lnTo>
                        <a:pt x="883" y="345"/>
                      </a:lnTo>
                      <a:lnTo>
                        <a:pt x="810" y="358"/>
                      </a:lnTo>
                      <a:lnTo>
                        <a:pt x="736" y="373"/>
                      </a:lnTo>
                      <a:lnTo>
                        <a:pt x="687" y="381"/>
                      </a:lnTo>
                      <a:lnTo>
                        <a:pt x="654" y="389"/>
                      </a:lnTo>
                      <a:lnTo>
                        <a:pt x="629" y="397"/>
                      </a:lnTo>
                      <a:lnTo>
                        <a:pt x="597" y="406"/>
                      </a:lnTo>
                      <a:lnTo>
                        <a:pt x="572" y="414"/>
                      </a:lnTo>
                      <a:lnTo>
                        <a:pt x="548" y="421"/>
                      </a:lnTo>
                      <a:lnTo>
                        <a:pt x="458" y="453"/>
                      </a:lnTo>
                      <a:lnTo>
                        <a:pt x="384" y="476"/>
                      </a:lnTo>
                      <a:lnTo>
                        <a:pt x="360" y="484"/>
                      </a:lnTo>
                      <a:lnTo>
                        <a:pt x="335" y="492"/>
                      </a:lnTo>
                      <a:lnTo>
                        <a:pt x="311" y="500"/>
                      </a:lnTo>
                      <a:lnTo>
                        <a:pt x="286" y="507"/>
                      </a:lnTo>
                      <a:lnTo>
                        <a:pt x="262" y="516"/>
                      </a:lnTo>
                      <a:lnTo>
                        <a:pt x="237" y="524"/>
                      </a:lnTo>
                      <a:lnTo>
                        <a:pt x="213" y="532"/>
                      </a:lnTo>
                      <a:lnTo>
                        <a:pt x="164" y="548"/>
                      </a:lnTo>
                      <a:lnTo>
                        <a:pt x="139" y="555"/>
                      </a:lnTo>
                      <a:lnTo>
                        <a:pt x="115" y="563"/>
                      </a:lnTo>
                      <a:lnTo>
                        <a:pt x="90" y="571"/>
                      </a:lnTo>
                      <a:lnTo>
                        <a:pt x="66" y="579"/>
                      </a:lnTo>
                      <a:lnTo>
                        <a:pt x="40" y="587"/>
                      </a:lnTo>
                      <a:lnTo>
                        <a:pt x="16" y="595"/>
                      </a:lnTo>
                      <a:lnTo>
                        <a:pt x="0" y="595"/>
                      </a:lnTo>
                      <a:lnTo>
                        <a:pt x="0" y="571"/>
                      </a:lnTo>
                      <a:lnTo>
                        <a:pt x="0" y="548"/>
                      </a:lnTo>
                      <a:lnTo>
                        <a:pt x="0" y="524"/>
                      </a:lnTo>
                      <a:lnTo>
                        <a:pt x="0" y="500"/>
                      </a:lnTo>
                      <a:lnTo>
                        <a:pt x="0" y="476"/>
                      </a:lnTo>
                      <a:lnTo>
                        <a:pt x="0" y="453"/>
                      </a:lnTo>
                      <a:lnTo>
                        <a:pt x="0" y="429"/>
                      </a:lnTo>
                      <a:lnTo>
                        <a:pt x="8" y="371"/>
                      </a:lnTo>
                      <a:lnTo>
                        <a:pt x="19" y="324"/>
                      </a:lnTo>
                      <a:lnTo>
                        <a:pt x="25" y="298"/>
                      </a:lnTo>
                      <a:lnTo>
                        <a:pt x="46" y="265"/>
                      </a:lnTo>
                      <a:lnTo>
                        <a:pt x="74" y="252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5061600" y="2408040"/>
                <a:ext cx="385200" cy="215640"/>
                <a:chOff x="5061600" y="2408040"/>
                <a:chExt cx="385200" cy="215640"/>
              </a:xfrm>
            </p:grpSpPr>
            <p:grpSp>
              <p:nvGrpSpPr>
                <p:cNvPr id="541" name=""/>
                <p:cNvGrpSpPr/>
                <p:nvPr/>
              </p:nvGrpSpPr>
              <p:grpSpPr>
                <a:xfrm>
                  <a:off x="5061600" y="2408040"/>
                  <a:ext cx="385200" cy="215640"/>
                  <a:chOff x="5061600" y="2408040"/>
                  <a:chExt cx="385200" cy="21564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>
                    <a:off x="5063040" y="2408040"/>
                    <a:ext cx="38340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0" h="1095">
                        <a:moveTo>
                          <a:pt x="0" y="1095"/>
                        </a:moveTo>
                        <a:lnTo>
                          <a:pt x="0" y="320"/>
                        </a:lnTo>
                        <a:lnTo>
                          <a:pt x="809" y="139"/>
                        </a:lnTo>
                        <a:lnTo>
                          <a:pt x="856" y="0"/>
                        </a:lnTo>
                        <a:lnTo>
                          <a:pt x="961" y="3"/>
                        </a:lnTo>
                        <a:lnTo>
                          <a:pt x="1005" y="139"/>
                        </a:lnTo>
                        <a:lnTo>
                          <a:pt x="1831" y="139"/>
                        </a:lnTo>
                        <a:lnTo>
                          <a:pt x="1856" y="5"/>
                        </a:lnTo>
                        <a:lnTo>
                          <a:pt x="1970" y="5"/>
                        </a:lnTo>
                        <a:lnTo>
                          <a:pt x="2010" y="139"/>
                        </a:lnTo>
                        <a:lnTo>
                          <a:pt x="2880" y="363"/>
                        </a:lnTo>
                        <a:lnTo>
                          <a:pt x="2877" y="1087"/>
                        </a:lnTo>
                        <a:lnTo>
                          <a:pt x="0" y="1095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5061600" y="2580840"/>
                    <a:ext cx="3852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8" h="206">
                        <a:moveTo>
                          <a:pt x="0" y="0"/>
                        </a:moveTo>
                        <a:lnTo>
                          <a:pt x="41" y="206"/>
                        </a:lnTo>
                        <a:lnTo>
                          <a:pt x="2839" y="206"/>
                        </a:lnTo>
                        <a:lnTo>
                          <a:pt x="288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5068800" y="2612520"/>
                    <a:ext cx="3686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72" h="64">
                        <a:moveTo>
                          <a:pt x="0" y="0"/>
                        </a:moveTo>
                        <a:lnTo>
                          <a:pt x="115" y="64"/>
                        </a:lnTo>
                        <a:lnTo>
                          <a:pt x="2665" y="64"/>
                        </a:lnTo>
                        <a:lnTo>
                          <a:pt x="27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5" name=""/>
                <p:cNvGrpSpPr/>
                <p:nvPr/>
              </p:nvGrpSpPr>
              <p:grpSpPr>
                <a:xfrm>
                  <a:off x="5164200" y="2455560"/>
                  <a:ext cx="174960" cy="90360"/>
                  <a:chOff x="5164200" y="2455560"/>
                  <a:chExt cx="174960" cy="90360"/>
                </a:xfrm>
              </p:grpSpPr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5164200" y="2455560"/>
                    <a:ext cx="173520" cy="88920"/>
                    <a:chOff x="5164200" y="2455560"/>
                    <a:chExt cx="173520" cy="8892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5164200" y="245556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5204880" y="245556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5239800" y="245556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5273640" y="245556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>
                      <a:off x="5314320" y="245556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5204880" y="248076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5239800" y="248076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5273640" y="248076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5204880" y="2504880"/>
                      <a:ext cx="23400" cy="14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5239800" y="2504880"/>
                      <a:ext cx="23400" cy="14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5273640" y="2504880"/>
                      <a:ext cx="23040" cy="14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5204880" y="253008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5239800" y="253008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5273640" y="253008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5164200" y="251892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>
                      <a:off x="5164200" y="248076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5314320" y="251892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5314320" y="248076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5165280" y="2458800"/>
                    <a:ext cx="23400" cy="14040"/>
                    <a:chOff x="5165280" y="2458800"/>
                    <a:chExt cx="23400" cy="1404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>
                      <a:off x="5165280" y="245880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>
                      <a:off x="5165280" y="245880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8" name=""/>
                  <p:cNvGrpSpPr/>
                  <p:nvPr/>
                </p:nvGrpSpPr>
                <p:grpSpPr>
                  <a:xfrm>
                    <a:off x="5206320" y="2458800"/>
                    <a:ext cx="23040" cy="14040"/>
                    <a:chOff x="5206320" y="2458800"/>
                    <a:chExt cx="23040" cy="14040"/>
                  </a:xfrm>
                </p:grpSpPr>
                <p:sp>
                  <p:nvSpPr>
                    <p:cNvPr id="569" name=""/>
                    <p:cNvSpPr/>
                    <p:nvPr/>
                  </p:nvSpPr>
                  <p:spPr>
                    <a:xfrm>
                      <a:off x="5206320" y="2458800"/>
                      <a:ext cx="2304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5206320" y="245880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5241600" y="2458800"/>
                    <a:ext cx="23040" cy="14040"/>
                    <a:chOff x="5241600" y="2458800"/>
                    <a:chExt cx="23040" cy="1404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>
                      <a:off x="5241600" y="2458800"/>
                      <a:ext cx="2304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5241600" y="245880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5276520" y="2458800"/>
                    <a:ext cx="23400" cy="14040"/>
                    <a:chOff x="5276520" y="2458800"/>
                    <a:chExt cx="23400" cy="1404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5276520" y="245880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>
                      <a:off x="5276520" y="245880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5315760" y="2458800"/>
                    <a:ext cx="23400" cy="14040"/>
                    <a:chOff x="5315760" y="2458800"/>
                    <a:chExt cx="23400" cy="1404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5315760" y="245880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5317200" y="245880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5206320" y="2482560"/>
                    <a:ext cx="23040" cy="15840"/>
                    <a:chOff x="5206320" y="2482560"/>
                    <a:chExt cx="23040" cy="1584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5206320" y="2482560"/>
                      <a:ext cx="23040" cy="15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5206320" y="248400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5241600" y="2482560"/>
                    <a:ext cx="23040" cy="14400"/>
                    <a:chOff x="5241600" y="2482560"/>
                    <a:chExt cx="23040" cy="1440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>
                      <a:off x="5241600" y="2482560"/>
                      <a:ext cx="2304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>
                      <a:off x="5241600" y="248256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6" name=""/>
                  <p:cNvGrpSpPr/>
                  <p:nvPr/>
                </p:nvGrpSpPr>
                <p:grpSpPr>
                  <a:xfrm>
                    <a:off x="5276520" y="2482560"/>
                    <a:ext cx="23400" cy="14400"/>
                    <a:chOff x="5276520" y="2482560"/>
                    <a:chExt cx="23400" cy="14400"/>
                  </a:xfrm>
                </p:grpSpPr>
                <p:sp>
                  <p:nvSpPr>
                    <p:cNvPr id="587" name=""/>
                    <p:cNvSpPr/>
                    <p:nvPr/>
                  </p:nvSpPr>
                  <p:spPr>
                    <a:xfrm>
                      <a:off x="5276520" y="2482560"/>
                      <a:ext cx="2340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>
                      <a:off x="5276520" y="248256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5206320" y="2507760"/>
                    <a:ext cx="23040" cy="14400"/>
                    <a:chOff x="5206320" y="2507760"/>
                    <a:chExt cx="23040" cy="1440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>
                      <a:off x="5206320" y="2507760"/>
                      <a:ext cx="2304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5206320" y="250776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5241600" y="2507760"/>
                    <a:ext cx="23040" cy="14400"/>
                    <a:chOff x="5241600" y="2507760"/>
                    <a:chExt cx="23040" cy="14400"/>
                  </a:xfrm>
                </p:grpSpPr>
                <p:sp>
                  <p:nvSpPr>
                    <p:cNvPr id="593" name=""/>
                    <p:cNvSpPr/>
                    <p:nvPr/>
                  </p:nvSpPr>
                  <p:spPr>
                    <a:xfrm>
                      <a:off x="5241600" y="2507760"/>
                      <a:ext cx="2304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>
                      <a:off x="5241600" y="250776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5276520" y="2507760"/>
                    <a:ext cx="23400" cy="14400"/>
                    <a:chOff x="5276520" y="2507760"/>
                    <a:chExt cx="23400" cy="1440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>
                      <a:off x="5276520" y="2507760"/>
                      <a:ext cx="2340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5276520" y="250776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5206320" y="2531880"/>
                    <a:ext cx="23040" cy="14040"/>
                    <a:chOff x="5206320" y="2531880"/>
                    <a:chExt cx="23040" cy="1404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5206320" y="2531880"/>
                      <a:ext cx="2304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5206320" y="2531880"/>
                      <a:ext cx="19800" cy="1080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5241600" y="2531880"/>
                    <a:ext cx="23040" cy="14040"/>
                    <a:chOff x="5241600" y="2531880"/>
                    <a:chExt cx="23040" cy="14040"/>
                  </a:xfrm>
                </p:grpSpPr>
                <p:sp>
                  <p:nvSpPr>
                    <p:cNvPr id="602" name=""/>
                    <p:cNvSpPr/>
                    <p:nvPr/>
                  </p:nvSpPr>
                  <p:spPr>
                    <a:xfrm>
                      <a:off x="5241600" y="2531880"/>
                      <a:ext cx="2304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5241600" y="2531880"/>
                      <a:ext cx="19800" cy="1080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5276520" y="2531880"/>
                    <a:ext cx="23400" cy="14040"/>
                    <a:chOff x="5276520" y="2531880"/>
                    <a:chExt cx="23400" cy="1404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5276520" y="253188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5276520" y="2531880"/>
                      <a:ext cx="20160" cy="1080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7" name=""/>
                  <p:cNvGrpSpPr/>
                  <p:nvPr/>
                </p:nvGrpSpPr>
                <p:grpSpPr>
                  <a:xfrm>
                    <a:off x="5165280" y="2520720"/>
                    <a:ext cx="23400" cy="14040"/>
                    <a:chOff x="5165280" y="2520720"/>
                    <a:chExt cx="23400" cy="14040"/>
                  </a:xfrm>
                </p:grpSpPr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5165280" y="252072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5165280" y="252216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5165280" y="2482560"/>
                    <a:ext cx="23400" cy="15840"/>
                    <a:chOff x="5165280" y="2482560"/>
                    <a:chExt cx="23400" cy="1584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>
                      <a:off x="5165280" y="2482560"/>
                      <a:ext cx="23400" cy="15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5165280" y="248400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3" name=""/>
                  <p:cNvGrpSpPr/>
                  <p:nvPr/>
                </p:nvGrpSpPr>
                <p:grpSpPr>
                  <a:xfrm>
                    <a:off x="5315760" y="2520720"/>
                    <a:ext cx="23400" cy="14040"/>
                    <a:chOff x="5315760" y="2520720"/>
                    <a:chExt cx="23400" cy="14040"/>
                  </a:xfrm>
                </p:grpSpPr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5315760" y="252072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5317200" y="252216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5315760" y="2482560"/>
                    <a:ext cx="23400" cy="15840"/>
                    <a:chOff x="5315760" y="2482560"/>
                    <a:chExt cx="23400" cy="1584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5315760" y="2482560"/>
                      <a:ext cx="23400" cy="15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5317200" y="248400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619" name=""/>
              <p:cNvGrpSpPr/>
              <p:nvPr/>
            </p:nvGrpSpPr>
            <p:grpSpPr>
              <a:xfrm>
                <a:off x="5020920" y="2414160"/>
                <a:ext cx="42120" cy="115560"/>
                <a:chOff x="5020920" y="2414160"/>
                <a:chExt cx="42120" cy="11556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022000" y="2449080"/>
                  <a:ext cx="20520" cy="1908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020920" y="2460240"/>
                  <a:ext cx="20160" cy="1584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5022000" y="2476080"/>
                  <a:ext cx="21600" cy="792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023440" y="2490480"/>
                  <a:ext cx="21960" cy="144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V="1">
                  <a:off x="5028120" y="2502720"/>
                  <a:ext cx="21600" cy="180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V="1">
                  <a:off x="5031000" y="2507760"/>
                  <a:ext cx="21600" cy="648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024880" y="2437920"/>
                  <a:ext cx="18720" cy="2412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031000" y="2427120"/>
                  <a:ext cx="14400" cy="2844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38200" y="2419200"/>
                  <a:ext cx="9720" cy="2988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050080" y="2414160"/>
                  <a:ext cx="2880" cy="3348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 flipV="1">
                  <a:off x="5039640" y="2509560"/>
                  <a:ext cx="18720" cy="1440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5050080" y="2509200"/>
                  <a:ext cx="12960" cy="2052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2" name=""/>
            <p:cNvGrpSpPr/>
            <p:nvPr/>
          </p:nvGrpSpPr>
          <p:grpSpPr>
            <a:xfrm>
              <a:off x="5020920" y="2666880"/>
              <a:ext cx="434520" cy="261720"/>
              <a:chOff x="5020920" y="2666880"/>
              <a:chExt cx="434520" cy="26172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5057280" y="2666880"/>
                <a:ext cx="398160" cy="117360"/>
                <a:chOff x="5057280" y="2666880"/>
                <a:chExt cx="398160" cy="1173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5058360" y="2711160"/>
                  <a:ext cx="395280" cy="73080"/>
                </a:xfrm>
                <a:custGeom>
                  <a:avLst/>
                  <a:gdLst/>
                  <a:ahLst/>
                  <a:rect l="l" t="t" r="r" b="b"/>
                  <a:pathLst>
                    <a:path w="2965" h="459">
                      <a:moveTo>
                        <a:pt x="0" y="278"/>
                      </a:moveTo>
                      <a:lnTo>
                        <a:pt x="352" y="143"/>
                      </a:lnTo>
                      <a:lnTo>
                        <a:pt x="1129" y="0"/>
                      </a:lnTo>
                      <a:lnTo>
                        <a:pt x="2036" y="40"/>
                      </a:lnTo>
                      <a:lnTo>
                        <a:pt x="2494" y="143"/>
                      </a:lnTo>
                      <a:lnTo>
                        <a:pt x="2965" y="367"/>
                      </a:lnTo>
                      <a:lnTo>
                        <a:pt x="2911" y="407"/>
                      </a:lnTo>
                      <a:lnTo>
                        <a:pt x="2889" y="433"/>
                      </a:lnTo>
                      <a:lnTo>
                        <a:pt x="2857" y="451"/>
                      </a:lnTo>
                      <a:lnTo>
                        <a:pt x="2829" y="459"/>
                      </a:lnTo>
                      <a:lnTo>
                        <a:pt x="2805" y="459"/>
                      </a:lnTo>
                      <a:lnTo>
                        <a:pt x="2781" y="459"/>
                      </a:lnTo>
                      <a:lnTo>
                        <a:pt x="2756" y="459"/>
                      </a:lnTo>
                      <a:lnTo>
                        <a:pt x="2732" y="459"/>
                      </a:lnTo>
                      <a:lnTo>
                        <a:pt x="2707" y="451"/>
                      </a:lnTo>
                      <a:lnTo>
                        <a:pt x="2674" y="443"/>
                      </a:lnTo>
                      <a:lnTo>
                        <a:pt x="2654" y="441"/>
                      </a:lnTo>
                      <a:lnTo>
                        <a:pt x="2627" y="433"/>
                      </a:lnTo>
                      <a:lnTo>
                        <a:pt x="2595" y="425"/>
                      </a:lnTo>
                      <a:lnTo>
                        <a:pt x="2568" y="420"/>
                      </a:lnTo>
                      <a:lnTo>
                        <a:pt x="2543" y="412"/>
                      </a:lnTo>
                      <a:lnTo>
                        <a:pt x="2524" y="409"/>
                      </a:lnTo>
                      <a:lnTo>
                        <a:pt x="2500" y="399"/>
                      </a:lnTo>
                      <a:lnTo>
                        <a:pt x="2475" y="391"/>
                      </a:lnTo>
                      <a:lnTo>
                        <a:pt x="2451" y="386"/>
                      </a:lnTo>
                      <a:lnTo>
                        <a:pt x="2424" y="378"/>
                      </a:lnTo>
                      <a:lnTo>
                        <a:pt x="2399" y="373"/>
                      </a:lnTo>
                      <a:lnTo>
                        <a:pt x="2371" y="365"/>
                      </a:lnTo>
                      <a:lnTo>
                        <a:pt x="2346" y="357"/>
                      </a:lnTo>
                      <a:lnTo>
                        <a:pt x="2322" y="349"/>
                      </a:lnTo>
                      <a:lnTo>
                        <a:pt x="2297" y="340"/>
                      </a:lnTo>
                      <a:lnTo>
                        <a:pt x="2273" y="332"/>
                      </a:lnTo>
                      <a:lnTo>
                        <a:pt x="2248" y="325"/>
                      </a:lnTo>
                      <a:lnTo>
                        <a:pt x="2227" y="312"/>
                      </a:lnTo>
                      <a:lnTo>
                        <a:pt x="2200" y="298"/>
                      </a:lnTo>
                      <a:lnTo>
                        <a:pt x="2175" y="285"/>
                      </a:lnTo>
                      <a:lnTo>
                        <a:pt x="2151" y="272"/>
                      </a:lnTo>
                      <a:lnTo>
                        <a:pt x="2126" y="262"/>
                      </a:lnTo>
                      <a:lnTo>
                        <a:pt x="2104" y="246"/>
                      </a:lnTo>
                      <a:lnTo>
                        <a:pt x="2085" y="230"/>
                      </a:lnTo>
                      <a:lnTo>
                        <a:pt x="2060" y="214"/>
                      </a:lnTo>
                      <a:lnTo>
                        <a:pt x="2036" y="198"/>
                      </a:lnTo>
                      <a:lnTo>
                        <a:pt x="2011" y="182"/>
                      </a:lnTo>
                      <a:lnTo>
                        <a:pt x="1987" y="167"/>
                      </a:lnTo>
                      <a:lnTo>
                        <a:pt x="1962" y="159"/>
                      </a:lnTo>
                      <a:lnTo>
                        <a:pt x="1938" y="151"/>
                      </a:lnTo>
                      <a:lnTo>
                        <a:pt x="1906" y="143"/>
                      </a:lnTo>
                      <a:lnTo>
                        <a:pt x="1881" y="135"/>
                      </a:lnTo>
                      <a:lnTo>
                        <a:pt x="1857" y="130"/>
                      </a:lnTo>
                      <a:lnTo>
                        <a:pt x="1832" y="128"/>
                      </a:lnTo>
                      <a:lnTo>
                        <a:pt x="1808" y="121"/>
                      </a:lnTo>
                      <a:lnTo>
                        <a:pt x="1774" y="116"/>
                      </a:lnTo>
                      <a:lnTo>
                        <a:pt x="1725" y="113"/>
                      </a:lnTo>
                      <a:lnTo>
                        <a:pt x="1669" y="113"/>
                      </a:lnTo>
                      <a:lnTo>
                        <a:pt x="1586" y="111"/>
                      </a:lnTo>
                      <a:lnTo>
                        <a:pt x="1537" y="111"/>
                      </a:lnTo>
                      <a:lnTo>
                        <a:pt x="1431" y="111"/>
                      </a:lnTo>
                      <a:lnTo>
                        <a:pt x="1407" y="111"/>
                      </a:lnTo>
                      <a:lnTo>
                        <a:pt x="1382" y="111"/>
                      </a:lnTo>
                      <a:lnTo>
                        <a:pt x="1333" y="111"/>
                      </a:lnTo>
                      <a:lnTo>
                        <a:pt x="1206" y="111"/>
                      </a:lnTo>
                      <a:lnTo>
                        <a:pt x="1104" y="116"/>
                      </a:lnTo>
                      <a:lnTo>
                        <a:pt x="1055" y="121"/>
                      </a:lnTo>
                      <a:lnTo>
                        <a:pt x="1032" y="124"/>
                      </a:lnTo>
                      <a:lnTo>
                        <a:pt x="1006" y="130"/>
                      </a:lnTo>
                      <a:lnTo>
                        <a:pt x="982" y="135"/>
                      </a:lnTo>
                      <a:lnTo>
                        <a:pt x="957" y="143"/>
                      </a:lnTo>
                      <a:lnTo>
                        <a:pt x="933" y="151"/>
                      </a:lnTo>
                      <a:lnTo>
                        <a:pt x="908" y="159"/>
                      </a:lnTo>
                      <a:lnTo>
                        <a:pt x="884" y="175"/>
                      </a:lnTo>
                      <a:lnTo>
                        <a:pt x="866" y="186"/>
                      </a:lnTo>
                      <a:lnTo>
                        <a:pt x="840" y="203"/>
                      </a:lnTo>
                      <a:lnTo>
                        <a:pt x="821" y="214"/>
                      </a:lnTo>
                      <a:lnTo>
                        <a:pt x="795" y="230"/>
                      </a:lnTo>
                      <a:lnTo>
                        <a:pt x="769" y="246"/>
                      </a:lnTo>
                      <a:lnTo>
                        <a:pt x="745" y="262"/>
                      </a:lnTo>
                      <a:lnTo>
                        <a:pt x="720" y="272"/>
                      </a:lnTo>
                      <a:lnTo>
                        <a:pt x="698" y="281"/>
                      </a:lnTo>
                      <a:lnTo>
                        <a:pt x="671" y="293"/>
                      </a:lnTo>
                      <a:lnTo>
                        <a:pt x="649" y="304"/>
                      </a:lnTo>
                      <a:lnTo>
                        <a:pt x="626" y="313"/>
                      </a:lnTo>
                      <a:lnTo>
                        <a:pt x="598" y="325"/>
                      </a:lnTo>
                      <a:lnTo>
                        <a:pt x="573" y="332"/>
                      </a:lnTo>
                      <a:lnTo>
                        <a:pt x="549" y="340"/>
                      </a:lnTo>
                      <a:lnTo>
                        <a:pt x="515" y="349"/>
                      </a:lnTo>
                      <a:lnTo>
                        <a:pt x="491" y="357"/>
                      </a:lnTo>
                      <a:lnTo>
                        <a:pt x="466" y="365"/>
                      </a:lnTo>
                      <a:lnTo>
                        <a:pt x="437" y="373"/>
                      </a:lnTo>
                      <a:lnTo>
                        <a:pt x="410" y="377"/>
                      </a:lnTo>
                      <a:lnTo>
                        <a:pt x="376" y="384"/>
                      </a:lnTo>
                      <a:lnTo>
                        <a:pt x="350" y="390"/>
                      </a:lnTo>
                      <a:lnTo>
                        <a:pt x="324" y="395"/>
                      </a:lnTo>
                      <a:lnTo>
                        <a:pt x="300" y="401"/>
                      </a:lnTo>
                      <a:lnTo>
                        <a:pt x="270" y="407"/>
                      </a:lnTo>
                      <a:lnTo>
                        <a:pt x="249" y="411"/>
                      </a:lnTo>
                      <a:lnTo>
                        <a:pt x="224" y="417"/>
                      </a:lnTo>
                      <a:lnTo>
                        <a:pt x="188" y="420"/>
                      </a:lnTo>
                      <a:lnTo>
                        <a:pt x="164" y="424"/>
                      </a:lnTo>
                      <a:lnTo>
                        <a:pt x="139" y="428"/>
                      </a:lnTo>
                      <a:lnTo>
                        <a:pt x="115" y="428"/>
                      </a:lnTo>
                      <a:lnTo>
                        <a:pt x="90" y="428"/>
                      </a:lnTo>
                      <a:lnTo>
                        <a:pt x="66" y="428"/>
                      </a:lnTo>
                      <a:lnTo>
                        <a:pt x="41" y="412"/>
                      </a:lnTo>
                      <a:lnTo>
                        <a:pt x="27" y="390"/>
                      </a:lnTo>
                      <a:lnTo>
                        <a:pt x="17" y="365"/>
                      </a:lnTo>
                      <a:lnTo>
                        <a:pt x="9" y="340"/>
                      </a:lnTo>
                      <a:lnTo>
                        <a:pt x="9" y="317"/>
                      </a:lnTo>
                      <a:lnTo>
                        <a:pt x="0" y="293"/>
                      </a:lnTo>
                      <a:lnTo>
                        <a:pt x="0" y="270"/>
                      </a:lnTo>
                      <a:lnTo>
                        <a:pt x="0" y="278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057280" y="2666880"/>
                  <a:ext cx="398160" cy="106200"/>
                </a:xfrm>
                <a:custGeom>
                  <a:avLst/>
                  <a:gdLst/>
                  <a:ahLst/>
                  <a:rect l="l" t="t" r="r" b="b"/>
                  <a:pathLst>
                    <a:path w="2993" h="666">
                      <a:moveTo>
                        <a:pt x="74" y="252"/>
                      </a:moveTo>
                      <a:lnTo>
                        <a:pt x="128" y="229"/>
                      </a:lnTo>
                      <a:lnTo>
                        <a:pt x="206" y="198"/>
                      </a:lnTo>
                      <a:lnTo>
                        <a:pt x="250" y="182"/>
                      </a:lnTo>
                      <a:lnTo>
                        <a:pt x="291" y="165"/>
                      </a:lnTo>
                      <a:lnTo>
                        <a:pt x="327" y="152"/>
                      </a:lnTo>
                      <a:lnTo>
                        <a:pt x="374" y="134"/>
                      </a:lnTo>
                      <a:lnTo>
                        <a:pt x="406" y="124"/>
                      </a:lnTo>
                      <a:lnTo>
                        <a:pt x="433" y="113"/>
                      </a:lnTo>
                      <a:lnTo>
                        <a:pt x="487" y="98"/>
                      </a:lnTo>
                      <a:lnTo>
                        <a:pt x="531" y="84"/>
                      </a:lnTo>
                      <a:lnTo>
                        <a:pt x="570" y="74"/>
                      </a:lnTo>
                      <a:lnTo>
                        <a:pt x="638" y="57"/>
                      </a:lnTo>
                      <a:lnTo>
                        <a:pt x="663" y="52"/>
                      </a:lnTo>
                      <a:lnTo>
                        <a:pt x="736" y="42"/>
                      </a:lnTo>
                      <a:lnTo>
                        <a:pt x="776" y="34"/>
                      </a:lnTo>
                      <a:lnTo>
                        <a:pt x="935" y="18"/>
                      </a:lnTo>
                      <a:lnTo>
                        <a:pt x="968" y="16"/>
                      </a:lnTo>
                      <a:lnTo>
                        <a:pt x="1017" y="13"/>
                      </a:lnTo>
                      <a:lnTo>
                        <a:pt x="1098" y="5"/>
                      </a:lnTo>
                      <a:lnTo>
                        <a:pt x="1145" y="3"/>
                      </a:lnTo>
                      <a:lnTo>
                        <a:pt x="1186" y="0"/>
                      </a:lnTo>
                      <a:lnTo>
                        <a:pt x="1262" y="0"/>
                      </a:lnTo>
                      <a:lnTo>
                        <a:pt x="1308" y="3"/>
                      </a:lnTo>
                      <a:lnTo>
                        <a:pt x="1333" y="3"/>
                      </a:lnTo>
                      <a:lnTo>
                        <a:pt x="1431" y="3"/>
                      </a:lnTo>
                      <a:lnTo>
                        <a:pt x="1455" y="3"/>
                      </a:lnTo>
                      <a:lnTo>
                        <a:pt x="1504" y="3"/>
                      </a:lnTo>
                      <a:lnTo>
                        <a:pt x="1538" y="3"/>
                      </a:lnTo>
                      <a:lnTo>
                        <a:pt x="1595" y="3"/>
                      </a:lnTo>
                      <a:lnTo>
                        <a:pt x="1619" y="3"/>
                      </a:lnTo>
                      <a:lnTo>
                        <a:pt x="1679" y="5"/>
                      </a:lnTo>
                      <a:lnTo>
                        <a:pt x="1725" y="10"/>
                      </a:lnTo>
                      <a:lnTo>
                        <a:pt x="1775" y="16"/>
                      </a:lnTo>
                      <a:lnTo>
                        <a:pt x="1802" y="16"/>
                      </a:lnTo>
                      <a:lnTo>
                        <a:pt x="1851" y="21"/>
                      </a:lnTo>
                      <a:lnTo>
                        <a:pt x="1913" y="26"/>
                      </a:lnTo>
                      <a:lnTo>
                        <a:pt x="1962" y="34"/>
                      </a:lnTo>
                      <a:lnTo>
                        <a:pt x="2086" y="50"/>
                      </a:lnTo>
                      <a:lnTo>
                        <a:pt x="2191" y="66"/>
                      </a:lnTo>
                      <a:lnTo>
                        <a:pt x="2257" y="79"/>
                      </a:lnTo>
                      <a:lnTo>
                        <a:pt x="2320" y="92"/>
                      </a:lnTo>
                      <a:lnTo>
                        <a:pt x="2355" y="100"/>
                      </a:lnTo>
                      <a:lnTo>
                        <a:pt x="2409" y="113"/>
                      </a:lnTo>
                      <a:lnTo>
                        <a:pt x="2467" y="129"/>
                      </a:lnTo>
                      <a:lnTo>
                        <a:pt x="2519" y="144"/>
                      </a:lnTo>
                      <a:lnTo>
                        <a:pt x="2551" y="155"/>
                      </a:lnTo>
                      <a:lnTo>
                        <a:pt x="2590" y="168"/>
                      </a:lnTo>
                      <a:lnTo>
                        <a:pt x="2639" y="182"/>
                      </a:lnTo>
                      <a:lnTo>
                        <a:pt x="2685" y="198"/>
                      </a:lnTo>
                      <a:lnTo>
                        <a:pt x="2731" y="216"/>
                      </a:lnTo>
                      <a:lnTo>
                        <a:pt x="2797" y="239"/>
                      </a:lnTo>
                      <a:lnTo>
                        <a:pt x="2837" y="258"/>
                      </a:lnTo>
                      <a:lnTo>
                        <a:pt x="2895" y="286"/>
                      </a:lnTo>
                      <a:lnTo>
                        <a:pt x="2920" y="303"/>
                      </a:lnTo>
                      <a:lnTo>
                        <a:pt x="2927" y="311"/>
                      </a:lnTo>
                      <a:lnTo>
                        <a:pt x="2944" y="334"/>
                      </a:lnTo>
                      <a:lnTo>
                        <a:pt x="2952" y="358"/>
                      </a:lnTo>
                      <a:lnTo>
                        <a:pt x="2961" y="381"/>
                      </a:lnTo>
                      <a:lnTo>
                        <a:pt x="2969" y="406"/>
                      </a:lnTo>
                      <a:lnTo>
                        <a:pt x="2976" y="429"/>
                      </a:lnTo>
                      <a:lnTo>
                        <a:pt x="2982" y="455"/>
                      </a:lnTo>
                      <a:lnTo>
                        <a:pt x="2985" y="476"/>
                      </a:lnTo>
                      <a:lnTo>
                        <a:pt x="2988" y="500"/>
                      </a:lnTo>
                      <a:lnTo>
                        <a:pt x="2993" y="524"/>
                      </a:lnTo>
                      <a:lnTo>
                        <a:pt x="2993" y="548"/>
                      </a:lnTo>
                      <a:lnTo>
                        <a:pt x="2993" y="571"/>
                      </a:lnTo>
                      <a:lnTo>
                        <a:pt x="2993" y="595"/>
                      </a:lnTo>
                      <a:lnTo>
                        <a:pt x="2993" y="618"/>
                      </a:lnTo>
                      <a:lnTo>
                        <a:pt x="2993" y="643"/>
                      </a:lnTo>
                      <a:lnTo>
                        <a:pt x="2993" y="666"/>
                      </a:lnTo>
                      <a:lnTo>
                        <a:pt x="2993" y="666"/>
                      </a:lnTo>
                      <a:lnTo>
                        <a:pt x="2974" y="650"/>
                      </a:lnTo>
                      <a:lnTo>
                        <a:pt x="2944" y="643"/>
                      </a:lnTo>
                      <a:lnTo>
                        <a:pt x="2920" y="632"/>
                      </a:lnTo>
                      <a:lnTo>
                        <a:pt x="2886" y="615"/>
                      </a:lnTo>
                      <a:lnTo>
                        <a:pt x="2822" y="595"/>
                      </a:lnTo>
                      <a:lnTo>
                        <a:pt x="2726" y="550"/>
                      </a:lnTo>
                      <a:lnTo>
                        <a:pt x="2698" y="540"/>
                      </a:lnTo>
                      <a:lnTo>
                        <a:pt x="2674" y="527"/>
                      </a:lnTo>
                      <a:lnTo>
                        <a:pt x="2649" y="516"/>
                      </a:lnTo>
                      <a:lnTo>
                        <a:pt x="2625" y="507"/>
                      </a:lnTo>
                      <a:lnTo>
                        <a:pt x="2600" y="500"/>
                      </a:lnTo>
                      <a:lnTo>
                        <a:pt x="2576" y="492"/>
                      </a:lnTo>
                      <a:lnTo>
                        <a:pt x="2551" y="484"/>
                      </a:lnTo>
                      <a:lnTo>
                        <a:pt x="2524" y="474"/>
                      </a:lnTo>
                      <a:lnTo>
                        <a:pt x="2502" y="468"/>
                      </a:lnTo>
                      <a:lnTo>
                        <a:pt x="2478" y="461"/>
                      </a:lnTo>
                      <a:lnTo>
                        <a:pt x="2453" y="453"/>
                      </a:lnTo>
                      <a:lnTo>
                        <a:pt x="2429" y="445"/>
                      </a:lnTo>
                      <a:lnTo>
                        <a:pt x="2404" y="437"/>
                      </a:lnTo>
                      <a:lnTo>
                        <a:pt x="2274" y="397"/>
                      </a:lnTo>
                      <a:lnTo>
                        <a:pt x="2199" y="384"/>
                      </a:lnTo>
                      <a:lnTo>
                        <a:pt x="2167" y="379"/>
                      </a:lnTo>
                      <a:lnTo>
                        <a:pt x="2142" y="373"/>
                      </a:lnTo>
                      <a:lnTo>
                        <a:pt x="2093" y="366"/>
                      </a:lnTo>
                      <a:lnTo>
                        <a:pt x="2055" y="355"/>
                      </a:lnTo>
                      <a:lnTo>
                        <a:pt x="1995" y="350"/>
                      </a:lnTo>
                      <a:lnTo>
                        <a:pt x="1971" y="342"/>
                      </a:lnTo>
                      <a:lnTo>
                        <a:pt x="1930" y="340"/>
                      </a:lnTo>
                      <a:lnTo>
                        <a:pt x="1897" y="334"/>
                      </a:lnTo>
                      <a:lnTo>
                        <a:pt x="1824" y="326"/>
                      </a:lnTo>
                      <a:lnTo>
                        <a:pt x="1775" y="319"/>
                      </a:lnTo>
                      <a:lnTo>
                        <a:pt x="1742" y="316"/>
                      </a:lnTo>
                      <a:lnTo>
                        <a:pt x="1700" y="313"/>
                      </a:lnTo>
                      <a:lnTo>
                        <a:pt x="1660" y="311"/>
                      </a:lnTo>
                      <a:lnTo>
                        <a:pt x="1614" y="306"/>
                      </a:lnTo>
                      <a:lnTo>
                        <a:pt x="1570" y="306"/>
                      </a:lnTo>
                      <a:lnTo>
                        <a:pt x="1531" y="306"/>
                      </a:lnTo>
                      <a:lnTo>
                        <a:pt x="1497" y="303"/>
                      </a:lnTo>
                      <a:lnTo>
                        <a:pt x="1433" y="303"/>
                      </a:lnTo>
                      <a:lnTo>
                        <a:pt x="1357" y="303"/>
                      </a:lnTo>
                      <a:lnTo>
                        <a:pt x="1311" y="303"/>
                      </a:lnTo>
                      <a:lnTo>
                        <a:pt x="1259" y="303"/>
                      </a:lnTo>
                      <a:lnTo>
                        <a:pt x="1210" y="303"/>
                      </a:lnTo>
                      <a:lnTo>
                        <a:pt x="1186" y="303"/>
                      </a:lnTo>
                      <a:lnTo>
                        <a:pt x="1106" y="311"/>
                      </a:lnTo>
                      <a:lnTo>
                        <a:pt x="1074" y="313"/>
                      </a:lnTo>
                      <a:lnTo>
                        <a:pt x="1049" y="319"/>
                      </a:lnTo>
                      <a:lnTo>
                        <a:pt x="1017" y="321"/>
                      </a:lnTo>
                      <a:lnTo>
                        <a:pt x="978" y="326"/>
                      </a:lnTo>
                      <a:lnTo>
                        <a:pt x="935" y="334"/>
                      </a:lnTo>
                      <a:lnTo>
                        <a:pt x="883" y="345"/>
                      </a:lnTo>
                      <a:lnTo>
                        <a:pt x="810" y="358"/>
                      </a:lnTo>
                      <a:lnTo>
                        <a:pt x="736" y="373"/>
                      </a:lnTo>
                      <a:lnTo>
                        <a:pt x="687" y="381"/>
                      </a:lnTo>
                      <a:lnTo>
                        <a:pt x="654" y="389"/>
                      </a:lnTo>
                      <a:lnTo>
                        <a:pt x="629" y="397"/>
                      </a:lnTo>
                      <a:lnTo>
                        <a:pt x="597" y="406"/>
                      </a:lnTo>
                      <a:lnTo>
                        <a:pt x="572" y="414"/>
                      </a:lnTo>
                      <a:lnTo>
                        <a:pt x="548" y="421"/>
                      </a:lnTo>
                      <a:lnTo>
                        <a:pt x="458" y="453"/>
                      </a:lnTo>
                      <a:lnTo>
                        <a:pt x="384" y="476"/>
                      </a:lnTo>
                      <a:lnTo>
                        <a:pt x="360" y="484"/>
                      </a:lnTo>
                      <a:lnTo>
                        <a:pt x="335" y="492"/>
                      </a:lnTo>
                      <a:lnTo>
                        <a:pt x="311" y="500"/>
                      </a:lnTo>
                      <a:lnTo>
                        <a:pt x="286" y="507"/>
                      </a:lnTo>
                      <a:lnTo>
                        <a:pt x="262" y="516"/>
                      </a:lnTo>
                      <a:lnTo>
                        <a:pt x="237" y="524"/>
                      </a:lnTo>
                      <a:lnTo>
                        <a:pt x="213" y="532"/>
                      </a:lnTo>
                      <a:lnTo>
                        <a:pt x="164" y="548"/>
                      </a:lnTo>
                      <a:lnTo>
                        <a:pt x="139" y="555"/>
                      </a:lnTo>
                      <a:lnTo>
                        <a:pt x="115" y="563"/>
                      </a:lnTo>
                      <a:lnTo>
                        <a:pt x="90" y="571"/>
                      </a:lnTo>
                      <a:lnTo>
                        <a:pt x="66" y="579"/>
                      </a:lnTo>
                      <a:lnTo>
                        <a:pt x="40" y="587"/>
                      </a:lnTo>
                      <a:lnTo>
                        <a:pt x="16" y="595"/>
                      </a:lnTo>
                      <a:lnTo>
                        <a:pt x="0" y="595"/>
                      </a:lnTo>
                      <a:lnTo>
                        <a:pt x="0" y="571"/>
                      </a:lnTo>
                      <a:lnTo>
                        <a:pt x="0" y="548"/>
                      </a:lnTo>
                      <a:lnTo>
                        <a:pt x="0" y="524"/>
                      </a:lnTo>
                      <a:lnTo>
                        <a:pt x="0" y="500"/>
                      </a:lnTo>
                      <a:lnTo>
                        <a:pt x="0" y="476"/>
                      </a:lnTo>
                      <a:lnTo>
                        <a:pt x="0" y="453"/>
                      </a:lnTo>
                      <a:lnTo>
                        <a:pt x="0" y="429"/>
                      </a:lnTo>
                      <a:lnTo>
                        <a:pt x="8" y="371"/>
                      </a:lnTo>
                      <a:lnTo>
                        <a:pt x="19" y="324"/>
                      </a:lnTo>
                      <a:lnTo>
                        <a:pt x="25" y="298"/>
                      </a:lnTo>
                      <a:lnTo>
                        <a:pt x="46" y="265"/>
                      </a:lnTo>
                      <a:lnTo>
                        <a:pt x="74" y="252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5061600" y="2712960"/>
                <a:ext cx="385200" cy="215640"/>
                <a:chOff x="5061600" y="2712960"/>
                <a:chExt cx="385200" cy="215640"/>
              </a:xfrm>
            </p:grpSpPr>
            <p:grpSp>
              <p:nvGrpSpPr>
                <p:cNvPr id="637" name=""/>
                <p:cNvGrpSpPr/>
                <p:nvPr/>
              </p:nvGrpSpPr>
              <p:grpSpPr>
                <a:xfrm>
                  <a:off x="5061600" y="2712960"/>
                  <a:ext cx="385200" cy="215640"/>
                  <a:chOff x="5061600" y="2712960"/>
                  <a:chExt cx="385200" cy="21564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>
                    <a:off x="5063040" y="2712960"/>
                    <a:ext cx="38340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0" h="1095">
                        <a:moveTo>
                          <a:pt x="0" y="1095"/>
                        </a:moveTo>
                        <a:lnTo>
                          <a:pt x="0" y="320"/>
                        </a:lnTo>
                        <a:lnTo>
                          <a:pt x="809" y="139"/>
                        </a:lnTo>
                        <a:lnTo>
                          <a:pt x="856" y="0"/>
                        </a:lnTo>
                        <a:lnTo>
                          <a:pt x="961" y="3"/>
                        </a:lnTo>
                        <a:lnTo>
                          <a:pt x="1005" y="139"/>
                        </a:lnTo>
                        <a:lnTo>
                          <a:pt x="1831" y="139"/>
                        </a:lnTo>
                        <a:lnTo>
                          <a:pt x="1856" y="5"/>
                        </a:lnTo>
                        <a:lnTo>
                          <a:pt x="1970" y="5"/>
                        </a:lnTo>
                        <a:lnTo>
                          <a:pt x="2010" y="139"/>
                        </a:lnTo>
                        <a:lnTo>
                          <a:pt x="2880" y="363"/>
                        </a:lnTo>
                        <a:lnTo>
                          <a:pt x="2877" y="1087"/>
                        </a:lnTo>
                        <a:lnTo>
                          <a:pt x="0" y="1095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5061600" y="2885760"/>
                    <a:ext cx="3852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8" h="206">
                        <a:moveTo>
                          <a:pt x="0" y="0"/>
                        </a:moveTo>
                        <a:lnTo>
                          <a:pt x="41" y="206"/>
                        </a:lnTo>
                        <a:lnTo>
                          <a:pt x="2839" y="206"/>
                        </a:lnTo>
                        <a:lnTo>
                          <a:pt x="288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5068800" y="2917440"/>
                    <a:ext cx="36864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72" h="64">
                        <a:moveTo>
                          <a:pt x="0" y="0"/>
                        </a:moveTo>
                        <a:lnTo>
                          <a:pt x="115" y="64"/>
                        </a:lnTo>
                        <a:lnTo>
                          <a:pt x="2665" y="64"/>
                        </a:lnTo>
                        <a:lnTo>
                          <a:pt x="277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1" name=""/>
                <p:cNvGrpSpPr/>
                <p:nvPr/>
              </p:nvGrpSpPr>
              <p:grpSpPr>
                <a:xfrm>
                  <a:off x="5164200" y="2760480"/>
                  <a:ext cx="174960" cy="90360"/>
                  <a:chOff x="5164200" y="2760480"/>
                  <a:chExt cx="174960" cy="90360"/>
                </a:xfrm>
              </p:grpSpPr>
              <p:grpSp>
                <p:nvGrpSpPr>
                  <p:cNvPr id="642" name=""/>
                  <p:cNvGrpSpPr/>
                  <p:nvPr/>
                </p:nvGrpSpPr>
                <p:grpSpPr>
                  <a:xfrm>
                    <a:off x="5164200" y="2760480"/>
                    <a:ext cx="173520" cy="88920"/>
                    <a:chOff x="5164200" y="2760480"/>
                    <a:chExt cx="173520" cy="88920"/>
                  </a:xfrm>
                </p:grpSpPr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5164200" y="276048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5204880" y="276048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5239800" y="276048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5273640" y="276048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>
                      <a:off x="5314320" y="276048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>
                      <a:off x="5204880" y="278568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5239800" y="278568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>
                      <a:off x="5273640" y="278568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>
                      <a:off x="5204880" y="2809800"/>
                      <a:ext cx="23400" cy="14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5239800" y="2809800"/>
                      <a:ext cx="23400" cy="14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5273640" y="2809800"/>
                      <a:ext cx="23040" cy="140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>
                      <a:off x="5204880" y="283500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>
                      <a:off x="5239800" y="283500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>
                      <a:off x="5273640" y="283500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5164200" y="282384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>
                      <a:off x="5164200" y="2785680"/>
                      <a:ext cx="2304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5314320" y="282384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5314320" y="2785680"/>
                      <a:ext cx="23400" cy="144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165280" y="2763720"/>
                    <a:ext cx="23400" cy="14040"/>
                    <a:chOff x="5165280" y="2763720"/>
                    <a:chExt cx="23400" cy="1404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5165280" y="276372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5165280" y="276372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206320" y="2763720"/>
                    <a:ext cx="23040" cy="14040"/>
                    <a:chOff x="5206320" y="2763720"/>
                    <a:chExt cx="23040" cy="1404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>
                      <a:off x="5206320" y="2763720"/>
                      <a:ext cx="2304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>
                      <a:off x="5206320" y="276372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5241600" y="2763720"/>
                    <a:ext cx="23040" cy="14040"/>
                    <a:chOff x="5241600" y="2763720"/>
                    <a:chExt cx="23040" cy="1404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5241600" y="2763720"/>
                      <a:ext cx="2304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5241600" y="276372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5276520" y="2763720"/>
                    <a:ext cx="23400" cy="14040"/>
                    <a:chOff x="5276520" y="2763720"/>
                    <a:chExt cx="23400" cy="1404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5276520" y="276372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5276520" y="276372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5315760" y="2763720"/>
                    <a:ext cx="23400" cy="14040"/>
                    <a:chOff x="5315760" y="2763720"/>
                    <a:chExt cx="23400" cy="1404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5315760" y="276372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5317200" y="276372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5206320" y="2787480"/>
                    <a:ext cx="23040" cy="15840"/>
                    <a:chOff x="5206320" y="2787480"/>
                    <a:chExt cx="23040" cy="1584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5206320" y="2787480"/>
                      <a:ext cx="23040" cy="15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5206320" y="278892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5241600" y="2787480"/>
                    <a:ext cx="23040" cy="14400"/>
                    <a:chOff x="5241600" y="2787480"/>
                    <a:chExt cx="23040" cy="1440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5241600" y="2787480"/>
                      <a:ext cx="2304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5241600" y="278748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5276520" y="2787480"/>
                    <a:ext cx="23400" cy="14400"/>
                    <a:chOff x="5276520" y="2787480"/>
                    <a:chExt cx="23400" cy="1440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5276520" y="2787480"/>
                      <a:ext cx="2340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5276520" y="278748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5206320" y="2812680"/>
                    <a:ext cx="23040" cy="14400"/>
                    <a:chOff x="5206320" y="2812680"/>
                    <a:chExt cx="23040" cy="1440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5206320" y="2812680"/>
                      <a:ext cx="2304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5206320" y="281268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5241600" y="2812680"/>
                    <a:ext cx="23040" cy="14400"/>
                    <a:chOff x="5241600" y="2812680"/>
                    <a:chExt cx="23040" cy="1440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5241600" y="2812680"/>
                      <a:ext cx="2304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5241600" y="2812680"/>
                      <a:ext cx="1980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5276520" y="2812680"/>
                    <a:ext cx="23400" cy="14400"/>
                    <a:chOff x="5276520" y="2812680"/>
                    <a:chExt cx="23400" cy="1440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5276520" y="2812680"/>
                      <a:ext cx="23400" cy="144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5276520" y="281268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5206320" y="2836800"/>
                    <a:ext cx="23040" cy="14040"/>
                    <a:chOff x="5206320" y="2836800"/>
                    <a:chExt cx="23040" cy="1404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5206320" y="2836800"/>
                      <a:ext cx="2304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5206320" y="2836800"/>
                      <a:ext cx="19800" cy="1080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5241600" y="2836800"/>
                    <a:ext cx="23040" cy="14040"/>
                    <a:chOff x="5241600" y="2836800"/>
                    <a:chExt cx="23040" cy="1404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5241600" y="2836800"/>
                      <a:ext cx="2304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5241600" y="2836800"/>
                      <a:ext cx="19800" cy="1080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5276520" y="2836800"/>
                    <a:ext cx="23400" cy="14040"/>
                    <a:chOff x="5276520" y="2836800"/>
                    <a:chExt cx="23400" cy="1404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5276520" y="283680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5276520" y="2836800"/>
                      <a:ext cx="20160" cy="1080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5165280" y="2825640"/>
                    <a:ext cx="23400" cy="14040"/>
                    <a:chOff x="5165280" y="2825640"/>
                    <a:chExt cx="23400" cy="14040"/>
                  </a:xfrm>
                </p:grpSpPr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5165280" y="282564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5165280" y="282708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5165280" y="2787480"/>
                    <a:ext cx="23400" cy="15840"/>
                    <a:chOff x="5165280" y="2787480"/>
                    <a:chExt cx="23400" cy="1584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5165280" y="2787480"/>
                      <a:ext cx="23400" cy="15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5165280" y="278892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5315760" y="2825640"/>
                    <a:ext cx="23400" cy="14040"/>
                    <a:chOff x="5315760" y="2825640"/>
                    <a:chExt cx="23400" cy="14040"/>
                  </a:xfrm>
                </p:grpSpPr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5315760" y="2825640"/>
                      <a:ext cx="23400" cy="140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5317200" y="282708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5315760" y="2787480"/>
                    <a:ext cx="23400" cy="15840"/>
                    <a:chOff x="5315760" y="2787480"/>
                    <a:chExt cx="23400" cy="1584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5315760" y="2787480"/>
                      <a:ext cx="23400" cy="158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5317200" y="2788920"/>
                      <a:ext cx="20160" cy="11160"/>
                    </a:xfrm>
                    <a:prstGeom prst="rect">
                      <a:avLst/>
                    </a:prstGeom>
                    <a:solidFill>
                      <a:srgbClr val="a2c1fe"/>
                    </a:solidFill>
                    <a:ln w="3240">
                      <a:solidFill>
                        <a:srgbClr val="808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715" name=""/>
              <p:cNvGrpSpPr/>
              <p:nvPr/>
            </p:nvGrpSpPr>
            <p:grpSpPr>
              <a:xfrm>
                <a:off x="5020920" y="2719080"/>
                <a:ext cx="42120" cy="115560"/>
                <a:chOff x="5020920" y="2719080"/>
                <a:chExt cx="42120" cy="11556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5022000" y="2754000"/>
                  <a:ext cx="20520" cy="1908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5020920" y="2765160"/>
                  <a:ext cx="20160" cy="1584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5022000" y="2781000"/>
                  <a:ext cx="21600" cy="792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5023440" y="2795400"/>
                  <a:ext cx="21960" cy="144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flipV="1">
                  <a:off x="5028120" y="2807640"/>
                  <a:ext cx="21600" cy="180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V="1">
                  <a:off x="5031000" y="2812680"/>
                  <a:ext cx="21600" cy="648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024880" y="2742840"/>
                  <a:ext cx="18720" cy="2412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031000" y="2732040"/>
                  <a:ext cx="14400" cy="2844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5038200" y="2724120"/>
                  <a:ext cx="9720" cy="2988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050080" y="2719080"/>
                  <a:ext cx="2880" cy="3348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V="1">
                  <a:off x="5039640" y="2814480"/>
                  <a:ext cx="18720" cy="1440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flipV="1">
                  <a:off x="5050080" y="2814120"/>
                  <a:ext cx="12960" cy="20520"/>
                </a:xfrm>
                <a:prstGeom prst="line">
                  <a:avLst/>
                </a:prstGeom>
                <a:ln w="7920">
                  <a:solidFill>
                    <a:srgbClr val="4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28" name=""/>
          <p:cNvSpPr/>
          <p:nvPr/>
        </p:nvSpPr>
        <p:spPr>
          <a:xfrm>
            <a:off x="1617840" y="1752480"/>
            <a:ext cx="253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e Dupla Estr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760D3-8BA7-40CE-84D9-B159C14C37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553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UTILIZAÇÃO DE CONCENTRADORES</a:t>
            </a:r>
            <a:endParaRPr b="0" lang="en-US" sz="2800" spc="-1" strike="noStrike">
              <a:solidFill>
                <a:srgbClr val="ff0066"/>
              </a:solidFill>
              <a:latin typeface="Times New Roman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457200" y="1981080"/>
          <a:ext cx="8077320" cy="39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81080"/>
                    <a:ext cx="8077320" cy="39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C77A5-B421-491D-B280-6C32AA1083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Conexões em uma Central Local</a:t>
            </a:r>
            <a:endParaRPr b="0" lang="en-US" sz="3600" spc="-1" strike="noStrike">
              <a:solidFill>
                <a:srgbClr val="ff0066"/>
              </a:solidFill>
              <a:latin typeface="Times New Roman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 flipH="1" rot="10800000">
            <a:off x="4114800" y="1066680"/>
            <a:ext cx="758880" cy="47304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2"/>
          <a:stretch/>
        </p:blipFill>
        <p:spPr>
          <a:xfrm flipH="1" rot="10800000">
            <a:off x="4038480" y="1676520"/>
            <a:ext cx="758880" cy="47304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3"/>
          <a:stretch/>
        </p:blipFill>
        <p:spPr>
          <a:xfrm flipH="1" rot="10800000">
            <a:off x="762120" y="2057400"/>
            <a:ext cx="758880" cy="47304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4"/>
          <a:stretch/>
        </p:blipFill>
        <p:spPr>
          <a:xfrm flipH="1" rot="10800000">
            <a:off x="838080" y="1447920"/>
            <a:ext cx="758880" cy="47304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5"/>
          <a:stretch/>
        </p:blipFill>
        <p:spPr>
          <a:xfrm flipH="1" rot="10800000">
            <a:off x="457200" y="4008600"/>
            <a:ext cx="685800" cy="42696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6"/>
          <a:stretch/>
        </p:blipFill>
        <p:spPr>
          <a:xfrm flipH="1" rot="10800000">
            <a:off x="609480" y="2819520"/>
            <a:ext cx="758880" cy="47304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7"/>
          <a:stretch/>
        </p:blipFill>
        <p:spPr>
          <a:xfrm flipH="1" rot="10800000">
            <a:off x="1219320" y="4876920"/>
            <a:ext cx="758880" cy="47304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8"/>
          <a:stretch/>
        </p:blipFill>
        <p:spPr>
          <a:xfrm flipH="1" rot="10800000">
            <a:off x="1143000" y="5715000"/>
            <a:ext cx="758880" cy="47304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 rot="16200000">
            <a:off x="2114280" y="5505120"/>
            <a:ext cx="1028880" cy="381240"/>
          </a:xfrm>
          <a:prstGeom prst="flowChartManualOpe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095880" y="1219320"/>
            <a:ext cx="2743200" cy="2286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16200000">
            <a:off x="6000480" y="2266560"/>
            <a:ext cx="1181160" cy="380880"/>
          </a:xfrm>
          <a:prstGeom prst="flowChartManualOpe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7315200" y="1905120"/>
            <a:ext cx="1066680" cy="1143000"/>
            <a:chOff x="7315200" y="1905120"/>
            <a:chExt cx="1066680" cy="1143000"/>
          </a:xfrm>
        </p:grpSpPr>
        <p:sp>
          <p:nvSpPr>
            <p:cNvPr id="745" name=""/>
            <p:cNvSpPr/>
            <p:nvPr/>
          </p:nvSpPr>
          <p:spPr>
            <a:xfrm>
              <a:off x="7315200" y="1905120"/>
              <a:ext cx="1066680" cy="1143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7391520" y="2210040"/>
              <a:ext cx="837720" cy="532800"/>
              <a:chOff x="7391520" y="2210040"/>
              <a:chExt cx="837720" cy="532800"/>
            </a:xfrm>
          </p:grpSpPr>
          <p:grpSp>
            <p:nvGrpSpPr>
              <p:cNvPr id="747" name=""/>
              <p:cNvGrpSpPr/>
              <p:nvPr/>
            </p:nvGrpSpPr>
            <p:grpSpPr>
              <a:xfrm>
                <a:off x="7391520" y="2210040"/>
                <a:ext cx="837720" cy="532080"/>
                <a:chOff x="7391520" y="2210040"/>
                <a:chExt cx="837720" cy="532080"/>
              </a:xfrm>
            </p:grpSpPr>
            <p:grpSp>
              <p:nvGrpSpPr>
                <p:cNvPr id="748" name=""/>
                <p:cNvGrpSpPr/>
                <p:nvPr/>
              </p:nvGrpSpPr>
              <p:grpSpPr>
                <a:xfrm>
                  <a:off x="7391520" y="2210040"/>
                  <a:ext cx="508680" cy="532080"/>
                  <a:chOff x="7391520" y="2210040"/>
                  <a:chExt cx="508680" cy="532080"/>
                </a:xfrm>
              </p:grpSpPr>
              <p:sp>
                <p:nvSpPr>
                  <p:cNvPr id="749" name=""/>
                  <p:cNvSpPr/>
                  <p:nvPr/>
                </p:nvSpPr>
                <p:spPr>
                  <a:xfrm>
                    <a:off x="7391520" y="2742120"/>
                    <a:ext cx="32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flipV="1">
                    <a:off x="7713720" y="2210040"/>
                    <a:ext cx="186480" cy="532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1" name=""/>
                <p:cNvGrpSpPr/>
                <p:nvPr/>
              </p:nvGrpSpPr>
              <p:grpSpPr>
                <a:xfrm>
                  <a:off x="7720560" y="2210040"/>
                  <a:ext cx="508680" cy="532080"/>
                  <a:chOff x="7720560" y="2210040"/>
                  <a:chExt cx="508680" cy="532080"/>
                </a:xfrm>
              </p:grpSpPr>
              <p:sp>
                <p:nvSpPr>
                  <p:cNvPr id="752" name=""/>
                  <p:cNvSpPr/>
                  <p:nvPr/>
                </p:nvSpPr>
                <p:spPr>
                  <a:xfrm flipH="1">
                    <a:off x="7907040" y="2210040"/>
                    <a:ext cx="32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 flipH="1">
                    <a:off x="7720560" y="2210040"/>
                    <a:ext cx="186480" cy="532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4" name=""/>
              <p:cNvGrpSpPr/>
              <p:nvPr/>
            </p:nvGrpSpPr>
            <p:grpSpPr>
              <a:xfrm>
                <a:off x="7391520" y="2210760"/>
                <a:ext cx="837720" cy="532080"/>
                <a:chOff x="7391520" y="2210760"/>
                <a:chExt cx="837720" cy="532080"/>
              </a:xfrm>
            </p:grpSpPr>
            <p:grpSp>
              <p:nvGrpSpPr>
                <p:cNvPr id="755" name=""/>
                <p:cNvGrpSpPr/>
                <p:nvPr/>
              </p:nvGrpSpPr>
              <p:grpSpPr>
                <a:xfrm>
                  <a:off x="7391520" y="2210760"/>
                  <a:ext cx="508680" cy="532080"/>
                  <a:chOff x="7391520" y="2210760"/>
                  <a:chExt cx="508680" cy="532080"/>
                </a:xfrm>
              </p:grpSpPr>
              <p:sp>
                <p:nvSpPr>
                  <p:cNvPr id="756" name=""/>
                  <p:cNvSpPr/>
                  <p:nvPr/>
                </p:nvSpPr>
                <p:spPr>
                  <a:xfrm>
                    <a:off x="7391520" y="2210760"/>
                    <a:ext cx="32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7713720" y="2210760"/>
                    <a:ext cx="186480" cy="532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8" name=""/>
                <p:cNvGrpSpPr/>
                <p:nvPr/>
              </p:nvGrpSpPr>
              <p:grpSpPr>
                <a:xfrm>
                  <a:off x="7720560" y="2210760"/>
                  <a:ext cx="508680" cy="532080"/>
                  <a:chOff x="7720560" y="2210760"/>
                  <a:chExt cx="508680" cy="53208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 flipH="1">
                    <a:off x="7907040" y="2742840"/>
                    <a:ext cx="322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flipH="1" flipV="1">
                    <a:off x="7720560" y="2210760"/>
                    <a:ext cx="186480" cy="532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761" name=""/>
          <p:cNvSpPr/>
          <p:nvPr/>
        </p:nvSpPr>
        <p:spPr>
          <a:xfrm>
            <a:off x="6781680" y="22096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81680" y="2438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781680" y="26668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381880" y="23623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381880" y="21337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381880" y="2819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381880" y="25909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800600" y="129528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724280" y="1905120"/>
            <a:ext cx="16765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09680" y="2057400"/>
            <a:ext cx="914400" cy="4572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1295280" y="228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 flipV="1">
            <a:off x="1447920" y="175212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1295280" y="2438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2286000"/>
            <a:ext cx="32767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1752480" y="58672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905120" y="510552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562720" y="33526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7009920" y="289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01028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819520" y="57150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562720" y="33526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00200" y="3809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066680" y="40384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752480" y="3505320"/>
            <a:ext cx="152280" cy="304560"/>
            <a:chOff x="1752480" y="3505320"/>
            <a:chExt cx="152280" cy="304560"/>
          </a:xfrm>
        </p:grpSpPr>
        <p:sp>
          <p:nvSpPr>
            <p:cNvPr id="785" name=""/>
            <p:cNvSpPr/>
            <p:nvPr/>
          </p:nvSpPr>
          <p:spPr>
            <a:xfrm>
              <a:off x="1828440" y="3505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1752480" y="3505320"/>
              <a:ext cx="152280" cy="152280"/>
              <a:chOff x="1752480" y="3505320"/>
              <a:chExt cx="152280" cy="152280"/>
            </a:xfrm>
          </p:grpSpPr>
          <p:sp>
            <p:nvSpPr>
              <p:cNvPr id="787" name=""/>
              <p:cNvSpPr/>
              <p:nvPr/>
            </p:nvSpPr>
            <p:spPr>
              <a:xfrm flipV="1">
                <a:off x="1752480" y="3505680"/>
                <a:ext cx="152280" cy="15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752480" y="350532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9" name=""/>
          <p:cNvGrpSpPr/>
          <p:nvPr/>
        </p:nvGrpSpPr>
        <p:grpSpPr>
          <a:xfrm>
            <a:off x="3581280" y="2971440"/>
            <a:ext cx="304920" cy="1219320"/>
            <a:chOff x="3581280" y="2971440"/>
            <a:chExt cx="304920" cy="1219320"/>
          </a:xfrm>
        </p:grpSpPr>
        <p:grpSp>
          <p:nvGrpSpPr>
            <p:cNvPr id="790" name=""/>
            <p:cNvGrpSpPr/>
            <p:nvPr/>
          </p:nvGrpSpPr>
          <p:grpSpPr>
            <a:xfrm>
              <a:off x="3581280" y="2971800"/>
              <a:ext cx="304920" cy="1218960"/>
              <a:chOff x="3581280" y="2971800"/>
              <a:chExt cx="304920" cy="1218960"/>
            </a:xfrm>
          </p:grpSpPr>
          <p:sp>
            <p:nvSpPr>
              <p:cNvPr id="791" name=""/>
              <p:cNvSpPr/>
              <p:nvPr/>
            </p:nvSpPr>
            <p:spPr>
              <a:xfrm>
                <a:off x="3733920" y="2971800"/>
                <a:ext cx="0" cy="121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3581280" y="3047760"/>
                <a:ext cx="15264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733920" y="3047760"/>
                <a:ext cx="15228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581280" y="4114800"/>
                <a:ext cx="28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83160" y="3429000"/>
                <a:ext cx="9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57600" y="358128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57600" y="373356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19440" y="388620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600360" y="4038480"/>
                <a:ext cx="257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64080" y="3504960"/>
                <a:ext cx="12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657600" y="365760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29160" y="3809880"/>
                <a:ext cx="209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9440" y="396216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4" name=""/>
            <p:cNvSpPr/>
            <p:nvPr/>
          </p:nvSpPr>
          <p:spPr>
            <a:xfrm>
              <a:off x="3657600" y="3047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3809880" y="29714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657600" y="29714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 rot="4948800">
            <a:off x="2593080" y="2436840"/>
            <a:ext cx="228600" cy="16002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4203360" y="2743200"/>
            <a:ext cx="2197080" cy="9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3962160" y="5562720"/>
            <a:ext cx="187560" cy="304560"/>
            <a:chOff x="3962160" y="5562720"/>
            <a:chExt cx="187560" cy="304560"/>
          </a:xfrm>
        </p:grpSpPr>
        <p:sp>
          <p:nvSpPr>
            <p:cNvPr id="810" name=""/>
            <p:cNvSpPr/>
            <p:nvPr/>
          </p:nvSpPr>
          <p:spPr>
            <a:xfrm>
              <a:off x="4038480" y="5562720"/>
              <a:ext cx="763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3962160" y="5586480"/>
              <a:ext cx="187560" cy="228600"/>
              <a:chOff x="3962160" y="5586480"/>
              <a:chExt cx="187560" cy="22860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3962160" y="5586480"/>
                <a:ext cx="7596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4073400" y="5586480"/>
                <a:ext cx="763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4" name=""/>
          <p:cNvGrpSpPr/>
          <p:nvPr/>
        </p:nvGrpSpPr>
        <p:grpSpPr>
          <a:xfrm>
            <a:off x="4516200" y="2239920"/>
            <a:ext cx="187560" cy="304560"/>
            <a:chOff x="4516200" y="2239920"/>
            <a:chExt cx="187560" cy="304560"/>
          </a:xfrm>
        </p:grpSpPr>
        <p:sp>
          <p:nvSpPr>
            <p:cNvPr id="815" name=""/>
            <p:cNvSpPr/>
            <p:nvPr/>
          </p:nvSpPr>
          <p:spPr>
            <a:xfrm>
              <a:off x="4592520" y="2239920"/>
              <a:ext cx="763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4516200" y="2263680"/>
              <a:ext cx="187560" cy="228600"/>
              <a:chOff x="4516200" y="2263680"/>
              <a:chExt cx="187560" cy="228600"/>
            </a:xfrm>
          </p:grpSpPr>
          <p:sp>
            <p:nvSpPr>
              <p:cNvPr id="817" name=""/>
              <p:cNvSpPr/>
              <p:nvPr/>
            </p:nvSpPr>
            <p:spPr>
              <a:xfrm flipH="1">
                <a:off x="4516200" y="2263680"/>
                <a:ext cx="7596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4627440" y="2263680"/>
                <a:ext cx="763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9" name=""/>
          <p:cNvGrpSpPr/>
          <p:nvPr/>
        </p:nvGrpSpPr>
        <p:grpSpPr>
          <a:xfrm>
            <a:off x="4738320" y="3230640"/>
            <a:ext cx="187560" cy="304560"/>
            <a:chOff x="4738320" y="3230640"/>
            <a:chExt cx="187560" cy="304560"/>
          </a:xfrm>
        </p:grpSpPr>
        <p:sp>
          <p:nvSpPr>
            <p:cNvPr id="820" name=""/>
            <p:cNvSpPr/>
            <p:nvPr/>
          </p:nvSpPr>
          <p:spPr>
            <a:xfrm>
              <a:off x="4814640" y="3230640"/>
              <a:ext cx="7632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4738320" y="3254400"/>
              <a:ext cx="187560" cy="228600"/>
              <a:chOff x="4738320" y="3254400"/>
              <a:chExt cx="187560" cy="228600"/>
            </a:xfrm>
          </p:grpSpPr>
          <p:sp>
            <p:nvSpPr>
              <p:cNvPr id="822" name=""/>
              <p:cNvSpPr/>
              <p:nvPr/>
            </p:nvSpPr>
            <p:spPr>
              <a:xfrm flipH="1">
                <a:off x="4738320" y="3254400"/>
                <a:ext cx="7596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4849560" y="3254400"/>
                <a:ext cx="763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4" name=""/>
          <p:cNvSpPr/>
          <p:nvPr/>
        </p:nvSpPr>
        <p:spPr>
          <a:xfrm flipH="1">
            <a:off x="3862440" y="3668760"/>
            <a:ext cx="334800" cy="4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155640" y="1273320"/>
            <a:ext cx="106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ági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in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354800" y="1268280"/>
            <a:ext cx="94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 Gru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092680" y="1406520"/>
            <a:ext cx="134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plex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 Assin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746440" y="4952880"/>
            <a:ext cx="148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ágio Remo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 Assin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948680" y="3613320"/>
            <a:ext cx="63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RL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771600" y="372096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ral 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5ADE1-2694-4FAC-A60C-30C8474225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9T17:17:48Z</dcterms:created>
  <dc:creator>Carlinhos</dc:creator>
  <dc:description/>
  <dc:language>en-US</dc:language>
  <cp:lastModifiedBy>carlos</cp:lastModifiedBy>
  <dcterms:modified xsi:type="dcterms:W3CDTF">2010-03-30T13:23:52Z</dcterms:modified>
  <cp:revision>28</cp:revision>
  <dc:subject/>
  <dc:title>REDES DE TELECOMUNICAÇÕES V</dc:title>
</cp:coreProperties>
</file>