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140-DA9A-4F7C-95F1-639C28A7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71D-3DFD-4C87-BF47-C5C9DAD0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9CD-CEC8-4FD5-9CE3-F8ADD212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2C4-AF40-4CBB-B808-8768B4CC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44E-C770-45B2-8786-AEC6CC74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A577-64F9-4795-A005-1DF822B7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CC4-0F2B-46FE-BACD-80EDC567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9CF-F050-4C02-900D-4F84E122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3FD-4473-46B7-B622-034B6335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004-C8D2-4D8B-A921-935ECBDA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1A8-3CD0-495C-ADBC-0750CFAA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8EB-AAF5-4751-AC6E-69908864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660E-12B0-45AD-B848-2A2890783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0A09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1722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0A11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5029200" cy="3980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1905120"/>
            <a:ext cx="30481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 call fr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 values passed to 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e as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 for local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60920" y="5346720"/>
            <a:ext cx="3632040" cy="355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2440" y="1231920"/>
            <a:ext cx="3784320" cy="73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60920" y="3289320"/>
            <a:ext cx="3632040" cy="736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4800" y="1214280"/>
            <a:ext cx="3959280" cy="453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ze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stant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rved for assemb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ion evalu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901f3"/>
                </a:solidFill>
                <a:latin typeface="Arial"/>
              </a:rPr>
              <a:t>a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901f3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901f3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901f3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901f3"/>
                </a:solidFill>
                <a:latin typeface="Arial"/>
              </a:rPr>
              <a:t>a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t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temporary: caller s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t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8720" y="228600"/>
            <a:ext cx="703116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PS: Software conventions for Regi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1214280"/>
            <a:ext cx="3959280" cy="453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51dc00"/>
                </a:solidFill>
                <a:latin typeface="Arial"/>
              </a:rPr>
              <a:t>s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allee s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51dc00"/>
                </a:solidFill>
                <a:latin typeface="Arial"/>
              </a:rPr>
              <a:t>s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t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temporary (cont’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t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k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rved for OS 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er to global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2440" y="2908440"/>
            <a:ext cx="3327120" cy="1498320"/>
          </a:xfrm>
          <a:prstGeom prst="rect">
            <a:avLst/>
          </a:prstGeom>
          <a:noFill/>
          <a:ln w="2556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2440" y="4508640"/>
            <a:ext cx="3632040" cy="1193760"/>
          </a:xfrm>
          <a:prstGeom prst="rect">
            <a:avLst/>
          </a:prstGeom>
          <a:noFill/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60920" y="1231920"/>
            <a:ext cx="3632040" cy="111744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60920" y="2451240"/>
            <a:ext cx="3251160" cy="736560"/>
          </a:xfrm>
          <a:prstGeom prst="rect">
            <a:avLst/>
          </a:prstGeom>
          <a:noFill/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440" y="2070000"/>
            <a:ext cx="3632040" cy="7365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60920" y="4127400"/>
            <a:ext cx="3403440" cy="1117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76320"/>
            <a:ext cx="8686800" cy="75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argument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irst 4 in registers $a0 - $a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emaining pushed on the stack (at the beginning of the stack fr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 caller-saved registers ($a0-$a3, $t0, $t9). The callee can use these regis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j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e (before starts runn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e memory for the frame by subtracting the frame size from the stack poi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 callee-saved registers in the frame ($s0-$s7, $fp, $ra) before altering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the frame pointer by adding the frame size minus 4 to $sp and storing the sum in $f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e (before return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t is a function, place the returned value in register $v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ore the callee-save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 the stack frame by subtracting the frame size from $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by executing jr $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5920" y="76320"/>
            <a:ext cx="39816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PS Calling Co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9720" y="942840"/>
            <a:ext cx="97812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84440" y="942840"/>
            <a:ext cx="67320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1038240"/>
            <a:ext cx="2890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63760" y="11653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84440" y="1324080"/>
            <a:ext cx="673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419120"/>
            <a:ext cx="2952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63760" y="162252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480" y="1469880"/>
            <a:ext cx="8191440" cy="40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u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sp, $sp,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ra, 20($s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fp, 16($s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fp, $sp,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a0, 0($f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ra, 20($s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fp, 16($s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sp, $sp,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79720" y="2162160"/>
            <a:ext cx="97812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63760" y="23842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3760" y="2841480"/>
            <a:ext cx="60984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79720" y="3076560"/>
            <a:ext cx="978120" cy="97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3247920"/>
            <a:ext cx="2462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3476520"/>
            <a:ext cx="5144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 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79720" y="4219560"/>
            <a:ext cx="97812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4441680"/>
            <a:ext cx="5335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3760" y="4898880"/>
            <a:ext cx="60984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79720" y="5133960"/>
            <a:ext cx="978120" cy="97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5305320"/>
            <a:ext cx="2462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5533920"/>
            <a:ext cx="5144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 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84440" y="1704960"/>
            <a:ext cx="673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1724040"/>
            <a:ext cx="2462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84440" y="2238480"/>
            <a:ext cx="673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2333520"/>
            <a:ext cx="2890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84440" y="2619360"/>
            <a:ext cx="673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714760"/>
            <a:ext cx="2952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84440" y="3000240"/>
            <a:ext cx="67320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019320"/>
            <a:ext cx="2462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84440" y="4295880"/>
            <a:ext cx="673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390920"/>
            <a:ext cx="2890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84440" y="4676760"/>
            <a:ext cx="673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4772160"/>
            <a:ext cx="2952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84440" y="5057640"/>
            <a:ext cx="67320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17640" y="510228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1524240" y="6296040"/>
            <a:ext cx="258876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st four arguments passed in regist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F0A12" descr=""/>
          <p:cNvPicPr/>
          <p:nvPr/>
        </p:nvPicPr>
        <p:blipFill>
          <a:blip r:embed="rId1"/>
          <a:stretch/>
        </p:blipFill>
        <p:spPr>
          <a:xfrm>
            <a:off x="5826240" y="1143000"/>
            <a:ext cx="3089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1T15:35:46Z</dcterms:created>
  <dc:creator>markovz</dc:creator>
  <dc:description/>
  <dc:language>en-US</dc:language>
  <cp:lastModifiedBy>pannain</cp:lastModifiedBy>
  <dcterms:modified xsi:type="dcterms:W3CDTF">2002-06-18T16:06:09Z</dcterms:modified>
  <cp:revision>13</cp:revision>
  <dc:subject/>
  <dc:title>PowerPoint Presentation</dc:title>
</cp:coreProperties>
</file>