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26535-56CA-4210-84B9-87BA351EC4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F2BD9-E59E-4AEA-BBAB-5E5BFD9951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13239-D4EE-4C48-A41E-B1A5ED9940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485FF-9B55-477A-92F5-9FC50C0D0E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643AF-56FA-4F12-ABE7-240D470B3A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52693-245C-4904-8FCC-FDCEECABAD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DB65D-FE1F-43D0-BA8B-9F0C44B602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37396-45B2-41BF-8B3E-B0261A2126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AE1D3-5230-421F-90B2-AF3DFECD2D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88A96-ECF5-48B0-8B51-F0A0AE7858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BDE01-5E46-4325-BED8-E90F2CD26C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20131-0502-494A-A180-C1CF9F7585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21560" y="6458040"/>
            <a:ext cx="4701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78B0-288D-4540-ABEF-8CDF8481A2B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6440" y="126324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ntrada/Saíd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673200" y="2319480"/>
            <a:ext cx="815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a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ar todos os dispositivos de E/S de um comput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itir coman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ceptar interrup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tar os er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necer a mesma interface de acesso a todos os disposi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556A2-0A94-408E-89B6-6E7E2B0A70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09520"/>
            <a:ext cx="756936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rincípios do Hardware de E/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19280" y="1429920"/>
            <a:ext cx="57592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positivos de E/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92000" y="2459160"/>
          <a:ext cx="7153560" cy="31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2459160"/>
                    <a:ext cx="7153560" cy="31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8BC15-C0D2-4D05-9866-9388FB1B54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209520"/>
            <a:ext cx="756936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rincípios do Hardware de E/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360" y="858960"/>
            <a:ext cx="819792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positivos de E/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positivos de blo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mazena informação em blocos de tamanho fixo, cada um com seu próprio endereç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 blocos variam de 512 a 32768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da bloco pode ser lido ou escrito independentemente dos outros blo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: Discos, Fita Magné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27EFA-507F-4185-BAC6-7093990F8D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09520"/>
            <a:ext cx="756936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rincípios do Hardware de E/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28800" y="1981080"/>
          <a:ext cx="7289640" cy="33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1981080"/>
                    <a:ext cx="728964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CB72F-00D6-49E3-8F42-DD10B83155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09520"/>
            <a:ext cx="756936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rincípios do Hardware de E/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858960"/>
            <a:ext cx="819792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positivos de E/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positivos de caracte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via ou recebe um fluxo de caracteres, sem considerar qualquer estrutura de blo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ão é endereçá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: Impressora, mous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12068-F35E-4350-9878-4F547F6224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09520"/>
            <a:ext cx="756936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rincípios do Hardware de E/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5400" y="6078600"/>
            <a:ext cx="85597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as de dados típicas de dispositivos, redes e barra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5_1" descr=""/>
          <p:cNvPicPr/>
          <p:nvPr/>
        </p:nvPicPr>
        <p:blipFill>
          <a:blip r:embed="rId1"/>
          <a:stretch/>
        </p:blipFill>
        <p:spPr>
          <a:xfrm>
            <a:off x="1714680" y="1046160"/>
            <a:ext cx="5715000" cy="476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992F5-D89E-48A3-9EDB-D2E5EB9AAC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9516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ontroladores de Dispositiv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es de dispositivos de E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âni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trô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componente eletrônico é o controlador do disposi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e ser capaz de tratar múltiplos disposi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efas do control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er fluxo serial de bits em bloco de by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ar toda correção de erro necessá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rnar o bloco disponível para ser copiado para a memória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7A747-8966-46EE-A0F7-6002F3A456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2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/S mapeada na memória (1)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560" y="4591080"/>
            <a:ext cx="77724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aços de memória e E/S separ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/S mapeada na memó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íbr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5_2" descr=""/>
          <p:cNvPicPr/>
          <p:nvPr/>
        </p:nvPicPr>
        <p:blipFill>
          <a:blip r:embed="rId1"/>
          <a:stretch/>
        </p:blipFill>
        <p:spPr>
          <a:xfrm>
            <a:off x="1546200" y="1819440"/>
            <a:ext cx="5715000" cy="196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69781-4FE9-476A-A209-0C900AED88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71480" y="20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/S mapeada na memória (2)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34800" y="5218200"/>
            <a:ext cx="6877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Arquitetura com barramento ú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Arquitetura com barramento 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5_3" descr=""/>
          <p:cNvPicPr/>
          <p:nvPr/>
        </p:nvPicPr>
        <p:blipFill>
          <a:blip r:embed="rId1"/>
          <a:stretch/>
        </p:blipFill>
        <p:spPr>
          <a:xfrm>
            <a:off x="1143000" y="2011320"/>
            <a:ext cx="685800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862B0-9832-4C4A-9B5F-E3D4004E64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30T00:42:29Z</dcterms:created>
  <dc:creator>Steve  Armstrong</dc:creator>
  <dc:description/>
  <dc:language>en-US</dc:language>
  <cp:lastModifiedBy>MVG</cp:lastModifiedBy>
  <dcterms:modified xsi:type="dcterms:W3CDTF">2004-08-11T07:15:07Z</dcterms:modified>
  <cp:revision>94</cp:revision>
  <dc:subject/>
  <dc:title>Input/Output</dc:title>
</cp:coreProperties>
</file>