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1784-B2C6-4E99-B62D-AA95FA060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4244-3BF1-46DC-9FEF-94B0F8A74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774D-5886-4696-9C1D-8AE210935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A15E-C971-4AFA-B5FB-BA33C12B8A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71EC-42C4-4B98-A744-66613CA885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FDFD-5900-41D1-9E2D-00F3C247C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423A-E9F4-478C-96A0-E020E6D60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7009-D5B1-42E5-A6CB-6B9E5F7DE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9769-6EC2-4838-A23D-5595B7627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A04D-2523-4EE7-8493-15DE62851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6B3F-EC0C-433A-9CCA-A89CCF6C0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A644-EF5F-4583-AF74-F5D61376A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21560" y="6458040"/>
            <a:ext cx="470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A48B-6C1A-49D6-97E5-C4932D618B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cesso Direto à Memória (DMA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47640" y="56034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ção de uma transferência com 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5_4" descr=""/>
          <p:cNvPicPr/>
          <p:nvPr/>
        </p:nvPicPr>
        <p:blipFill>
          <a:blip r:embed="rId1"/>
          <a:stretch/>
        </p:blipFill>
        <p:spPr>
          <a:xfrm>
            <a:off x="857160" y="2182680"/>
            <a:ext cx="7429680" cy="24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645A-90B1-4626-9801-4BEE742619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73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terrupções Revisitada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501948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ocorre uma interrupção. Conexões entre dispositivos e controlador de interrupção usam linhas de interrupção no barramento em vez de fios ded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72280" y="4600440"/>
            <a:ext cx="685800" cy="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5_5" descr=""/>
          <p:cNvPicPr/>
          <p:nvPr/>
        </p:nvPicPr>
        <p:blipFill>
          <a:blip r:embed="rId1"/>
          <a:stretch/>
        </p:blipFill>
        <p:spPr>
          <a:xfrm>
            <a:off x="857160" y="2182680"/>
            <a:ext cx="7429680" cy="24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792F-B801-4575-BAA8-09B1C7D565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00:42:29Z</dcterms:created>
  <dc:creator>Steve  Armstrong</dc:creator>
  <dc:description/>
  <dc:language>en-US</dc:language>
  <cp:lastModifiedBy>MVG</cp:lastModifiedBy>
  <dcterms:modified xsi:type="dcterms:W3CDTF">2004-08-11T12:41:29Z</dcterms:modified>
  <cp:revision>94</cp:revision>
  <dc:subject/>
  <dc:title>Input/Output</dc:title>
</cp:coreProperties>
</file>