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9038-E3A5-426D-9775-ACBF57EB1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DBFB-EA17-48FE-B911-BCEC0227D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D2D9-4BB8-4F98-9A24-2CC08BEAC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B5EE-3AD1-4470-B354-4897B8DC5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8BD3-92F7-4318-BD3F-CF0742889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385C-922A-4D14-A101-0AC7AD788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8A82-6B72-4FF2-8B73-0ED654970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6056-0B87-4887-B4C6-54F238756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50E2-9A5B-41A1-8B99-052936697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D889-DFBB-453C-8073-CCE6F5960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0E41-E8F8-439A-BC65-8424A8B27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4B10-B5F4-4FA8-AF6E-9BC8BC8A3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204-E9C7-4A17-9762-AB7472B61C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151920"/>
            <a:ext cx="85849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2680" y="5454720"/>
            <a:ext cx="8712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ções do software de E/S independente de di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57120" y="1663560"/>
          <a:ext cx="8296200" cy="3311640"/>
        </p:xfrm>
        <a:graphic>
          <a:graphicData uri="http://schemas.openxmlformats.org/drawingml/2006/table">
            <a:tbl>
              <a:tblPr/>
              <a:tblGrid>
                <a:gridCol w="829620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uniforme para os drivers dos disposi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mento em buf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dos er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cação e liberação de dispositivos dedic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necimento de tamanho de bloco independente de dispos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019F-3631-4289-86DB-1980B8F46A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núcleo seguido de cópia para o  espaço do usuário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DFFE-41F7-4997-B696-9B6117FE7A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Duplicar os buffers do núcleo ( 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 primeiro está cheio, utiliza-se o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-se os dois de maneira alternada, enquanto um está sendo copiado o outro está recebendo novos caract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E9A8-5398-4C17-9396-4E15F5240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duplo no núcleo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E241-DB62-4856-8B41-4B475AC262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apresentar desvantagem: se os dados forem copiados muitas vezes, o desempenho cair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a chamada ao sistema para escrever n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1D8F-54AC-4C62-B83C-CB71C1068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0" y="177480"/>
            <a:ext cx="8616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0240" y="54817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operação em rede pode envolver muitas cópias de um p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5_15" descr=""/>
          <p:cNvPicPr/>
          <p:nvPr/>
        </p:nvPicPr>
        <p:blipFill>
          <a:blip r:embed="rId1"/>
          <a:stretch/>
        </p:blipFill>
        <p:spPr>
          <a:xfrm>
            <a:off x="1143000" y="1736640"/>
            <a:ext cx="685800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52EF-423B-4291-8C7F-179456A95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04232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as operações de cópia reduzem a taxa de transmi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passos são executados sequenci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8F58-6707-4ED4-856C-ED81FE33CE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ório de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de err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 de 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imento de endereço inválido de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ficação de um dispositivo inv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tude: Relatar ao processo chamador um código de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2FA9-3441-4237-B5D3-6B6E1E635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ocação e liberação de dispositivos dedic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dispositivos podem ser usados por apenas um único processo em um dado mo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na-se necessário mecanismos especiais para requisição e liberação dos me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7447-22AD-4FB7-8C63-6F9A8B0694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nho de bloco independente de disposi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diferentes podem ter tamanhos diferenciados para os se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necessário fornecer um tamanho uniforme para as camadas sup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e dispositivo é responsável por esconder estas difere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168B-B98E-4147-9B45-27B3D174F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a pequena parte do software de E/S é constituída de bibliotecas ligadas aos programas do usuá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amadas aos sistema, normalmente são feitas por procedimentos de bibli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 programa em C contém a cha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dor=write(fd, buffer, nbyt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1827-1EAB-4CBE-8AE0-E6A6D5AA2D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368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com interfaces diferentes para o sistema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que têm a mesm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004E-EEBA-4932-8D2E-3C8296828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cedime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á ligado ao programa e estará contido no binário que será armazenado na memória em tempo de exec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 procedimento faz parte do sistema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m como parte dos programas d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9E44-49FA-46DE-A06D-D47F8AE2BF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m todo software de E/S no nível do usuário consiste de procedimentos de bibliote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rocesso do usuário poderia abrir o arquivo especial de caractere para a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 processo abriu o arquivo e não fez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6F13-6AC0-4E9B-B0C7-446AB73B2D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9200" y="158112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espe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tório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ã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ca no diretóri de s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aemon imprime os arquivos d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EF74-BE97-4D1B-B2DE-ED7A70BA6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grama do usuário tenta ler um bloc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 é requisitado para realizar a cham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o dispositivo procura pelo bloco no cache do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 bloco solicitado não está lá, chama o driver para obtê-lo do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20CE-8F92-409C-A263-4CB967080B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disco termina, é gerada uma interrup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ratador de interrupção é execu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ém o status do dispositivo e acorda o processo que estava dormindo para finalizar a requisição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EAFA-A011-4FEA-AA79-987E60B995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7360" y="241200"/>
            <a:ext cx="76197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5428800"/>
            <a:ext cx="80294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adas do sistema de E/S e as principais funções de cada c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5_16" descr=""/>
          <p:cNvPicPr/>
          <p:nvPr/>
        </p:nvPicPr>
        <p:blipFill>
          <a:blip r:embed="rId1"/>
          <a:stretch/>
        </p:blipFill>
        <p:spPr>
          <a:xfrm>
            <a:off x="476280" y="1560600"/>
            <a:ext cx="8001000" cy="36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F130-8B67-4C49-961C-B0B07F8208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920" y="17100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5076720"/>
            <a:ext cx="77724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o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5_13" descr=""/>
          <p:cNvPicPr/>
          <p:nvPr/>
        </p:nvPicPr>
        <p:blipFill>
          <a:blip r:embed="rId1"/>
          <a:stretch/>
        </p:blipFill>
        <p:spPr>
          <a:xfrm>
            <a:off x="1143000" y="1982880"/>
            <a:ext cx="685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FF5E-5C37-4866-9BB0-F1C8B620DC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vos de E/S nom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ndependente cuida do mapeamento do nome para o respectivo apropr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são nomeados as regras de proteção aos arquivos são também aplicadas aos dispositivos de E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5867-9A15-4696-A263-117308959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sem buffer 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 do usuário precisa ser iniciado para cada caractere que ch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7987-D04E-4978-8A4D-94A320655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ada sem utilização de buffer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3CD5-E0DE-47E0-AA33-8F3FACD5F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com um buffer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acteres no processo do usuário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se um buffer é paginado para o disco quando um caractere cheg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camento n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da n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842E-6CC2-4664-AEF9-0C47A0AFD9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espaço do usuário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EC2C-C5CF-414A-9B7E-30672D27D3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8360" y="154296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riar um buffer dentro do núcleo e ter um tratador de interrupção colocando os caracteres nele ( 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cheio, a página associada ao buffer do usuário é copiado para 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com os caracteres que chegam enquanto a página associada ao buffer do usuário está sendo copiada para a memó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00C5-8E9D-4EB1-B326-A2EBED3DE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</cp:lastModifiedBy>
  <dcterms:modified xsi:type="dcterms:W3CDTF">2004-08-13T18:12:02Z</dcterms:modified>
  <cp:revision>185</cp:revision>
  <dc:subject/>
  <dc:title>Input/Output</dc:title>
</cp:coreProperties>
</file>