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92DC-C441-4E35-9E96-7525B19AC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E467-2A19-495F-9212-265DF03CD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705E-3E37-45CD-A921-EC99ADB86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2747-EFDD-48C4-86F1-734567718D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D0D4-300C-4C94-8497-82D6A5F8A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BA46-5CD2-4A0F-886E-1F197FE63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8848-6025-4705-B713-79E5E10D1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A11B-640E-40E1-8431-7683ED2EB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93E4-7A91-465A-968A-FAE5778D7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CDDD-909D-48E6-8BD8-D9B6EB1AD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9BE6-F0DC-46EB-A61B-35C05CBFE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873F-5529-4565-BBD8-5D890A446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21560" y="6458040"/>
            <a:ext cx="47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8547-C69D-4039-B70C-BAAA0B3170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803304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 magné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disco de plástico, ou metal, recoberto de material magné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dados são gravados e, posteriormente, recuperados através de uma “mola” condutora (cabeçote de leitura e gravaçã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F861-FDA1-4F8A-B669-E52C9261B1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8" name="hard-disk1" descr=""/>
          <p:cNvPicPr/>
          <p:nvPr/>
        </p:nvPicPr>
        <p:blipFill>
          <a:blip r:embed="rId1"/>
          <a:stretch/>
        </p:blipFill>
        <p:spPr>
          <a:xfrm>
            <a:off x="2071800" y="1459080"/>
            <a:ext cx="4657680" cy="48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EC25-DD2A-4571-AE7B-9718D5EDF3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0" name="hard-disk2" descr=""/>
          <p:cNvPicPr/>
          <p:nvPr/>
        </p:nvPicPr>
        <p:blipFill>
          <a:blip r:embed="rId1"/>
          <a:stretch/>
        </p:blipFill>
        <p:spPr>
          <a:xfrm>
            <a:off x="971640" y="1538280"/>
            <a:ext cx="6986520" cy="454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D26F-ECBE-40C8-9C94-3AC901837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2" name="hard-disk7" descr=""/>
          <p:cNvPicPr/>
          <p:nvPr/>
        </p:nvPicPr>
        <p:blipFill>
          <a:blip r:embed="rId1"/>
          <a:stretch/>
        </p:blipFill>
        <p:spPr>
          <a:xfrm>
            <a:off x="819000" y="2208240"/>
            <a:ext cx="7358040" cy="36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2CFE-DEAE-49DE-8B8B-FB218323FE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4" name="hard-disk8" descr=""/>
          <p:cNvPicPr/>
          <p:nvPr/>
        </p:nvPicPr>
        <p:blipFill>
          <a:blip r:embed="rId1"/>
          <a:stretch/>
        </p:blipFill>
        <p:spPr>
          <a:xfrm>
            <a:off x="1122480" y="1522440"/>
            <a:ext cx="6734160" cy="46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6C25-205F-429C-823C-8E32D2F8AE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6" name="hard-disk10" descr=""/>
          <p:cNvPicPr/>
          <p:nvPr/>
        </p:nvPicPr>
        <p:blipFill>
          <a:blip r:embed="rId1"/>
          <a:stretch/>
        </p:blipFill>
        <p:spPr>
          <a:xfrm>
            <a:off x="952560" y="1785960"/>
            <a:ext cx="7010280" cy="40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6D7A-5370-4D16-B3D8-352E9F78FE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68" name="hard-disk11" descr=""/>
          <p:cNvPicPr/>
          <p:nvPr/>
        </p:nvPicPr>
        <p:blipFill>
          <a:blip r:embed="rId1"/>
          <a:stretch/>
        </p:blipFill>
        <p:spPr>
          <a:xfrm>
            <a:off x="1467000" y="1317600"/>
            <a:ext cx="6345000" cy="46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0EDC-A115-4973-B7CF-303BD2D9AB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unidades de discos são tratadas como grandes vetores unidimensionais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os 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bloco lógico geralmente tem 512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avés da formatação em baixo nível é possível termos blocos lógicos com tamanhos diferentes, 1024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E469-150A-4909-AA9C-1C3CDF4F01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Vetor unidimensional de blocos lógicos é mapeado nos setores de disco sequenci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etor 0 é o primeiro setor da primeira trilha no cilindro mais ex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BAB5-8F44-4FF7-9EE3-A128E57ADD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74232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mapeamento continua em ordem através desta tril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is pelo resto das trilhas no cilind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o resto dos cilindros, da parte externa para a intern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A7B1-4924-4626-BAE4-78CB403C5B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76" name="cilindros" descr=""/>
          <p:cNvPicPr/>
          <p:nvPr/>
        </p:nvPicPr>
        <p:blipFill>
          <a:blip r:embed="rId1"/>
          <a:stretch/>
        </p:blipFill>
        <p:spPr>
          <a:xfrm>
            <a:off x="542880" y="1447920"/>
            <a:ext cx="787104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3AAD-39F6-4940-9E16-9789770AF1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803304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 magné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itura: a variação do campo magnético gerado pela rotação do disco induz uma corrente no cabeçote de lei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ta: o cabeçote é submetido a uma tensão que gera um campo magnético o qual magnetiza o disco com diferentes padrões de polar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7612-CFF4-467A-A685-4C97279BCA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333440"/>
            <a:ext cx="74232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avés deste mapeamento é possível converter um número de bloco lógico em um endereço de disco no estilo antigo (número de cilindro, número de trilha no cilindro, número de setor dentro da trilh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583C-62B5-4261-BA1A-7009380599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0" name="cilindros" descr=""/>
          <p:cNvPicPr/>
          <p:nvPr/>
        </p:nvPicPr>
        <p:blipFill>
          <a:blip r:embed="rId1"/>
          <a:stretch/>
        </p:blipFill>
        <p:spPr>
          <a:xfrm>
            <a:off x="542880" y="1447920"/>
            <a:ext cx="787104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B3CE-581B-41DF-AD95-8FF41E986D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1480" y="1257480"/>
            <a:ext cx="78804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s no mapea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ores defeitu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setores por trilha não é con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lhas mais distantes do centro tem mais se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2080" indent="-350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27F2-2FAD-46FB-9CE1-91D265E1CA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1480" y="1257480"/>
            <a:ext cx="78804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O deve utilizar o hardware de maneira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 disco, isto significa ter um rápido tempo de acesso e largura de banda de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3408-F5BD-4FF5-A70E-9459425018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4600" y="1162080"/>
            <a:ext cx="78804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 de Ac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 de bus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2080" indent="-350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tempo utilizado pelo braço do disco para as cabeças para o cilindro que contém o setor des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1800" indent="-420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ência ro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2080" indent="-350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tempo adicional de espera para que o disco gire o setor desejado até a cabeça do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FAA9-E85D-48C7-AB92-60E93649A7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8" name="cilindros" descr=""/>
          <p:cNvPicPr/>
          <p:nvPr/>
        </p:nvPicPr>
        <p:blipFill>
          <a:blip r:embed="rId1"/>
          <a:stretch/>
        </p:blipFill>
        <p:spPr>
          <a:xfrm>
            <a:off x="542880" y="1447920"/>
            <a:ext cx="787104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1766-3BD9-4F6D-8D5E-020BD6BD05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4600" y="1162080"/>
            <a:ext cx="78804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ura de b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o número total de bytes transferidos, dividido pelo tempo total entre o primeiro pedido do serviço e a conclusão da última transf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9601-BD7E-4B53-8E83-300FA1E0D6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600" y="1162080"/>
            <a:ext cx="78804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tempo de acesso e a largura de banda podem ser melhorados através do escalonamento dos serviços de E/S de disco em uma ordem adequ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9BC7-D453-4777-A030-71E0E53A03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4240" y="1162080"/>
            <a:ext cx="86994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ido de serviço de E/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ção é de E ou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ereço do disco para a transf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ereço de memória para transf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bytes a ser transfe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D2E6-99E6-40CF-83AD-DD862E69B6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1162080"/>
            <a:ext cx="86994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dimento do ped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 unidade de disco e a controladora estiverem disponíveis, o pedido é atendido imedia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 contrário, os pedidos são colocados numa f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um pedido é concluído, o SO tem a oportunidade de escolher qual pedido pendente será ate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8CC8-6517-48AF-AB75-E15F0F3AD3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7880" y="1523520"/>
            <a:ext cx="793764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 é organizado em uma sequência de círculos concêntr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l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ura da trilha corresponde a largura do cabeçote de leitura/esc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8030-9E2A-4B47-8616-DA2732F59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360" y="1123920"/>
            <a:ext cx="875664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FCFS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irst-Come, First - Serv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 mais simples de escalo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um algoritmo justo, porém não é o mai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ma fila de disco com pedidos de E/S para os blocos nos cilind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, 183, 37, 122, 14, 124, 65, 67, nesta or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beça do disco inicialmente está no cilindro 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2F75-AE5A-4A1F-BF7D-61120DF934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360" y="1123920"/>
            <a:ext cx="875664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FCFS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irst-Come, First - Serv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001" t="9738" r="514" b="9469"/>
          <a:stretch/>
        </p:blipFill>
        <p:spPr>
          <a:xfrm>
            <a:off x="1133640" y="2166840"/>
            <a:ext cx="6742080" cy="44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0C61-2862-4095-9DBA-72F8252C0D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6920" y="1428840"/>
            <a:ext cx="875664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FCFS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irst-Come, First - Serv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movimento total de cabeças foi de 640 cilind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anças bruscas de 122 para 14 e depois para 1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1504-23AB-4FD1-92C6-DAE2293859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4600" y="1638360"/>
            <a:ext cx="78804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SSTF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hortest-Seek-Time-Fir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nder os pedidos mais próximos à posição atual da cabe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iona o pedido com tempo de busca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olhe o pedido pendente mais próximo da posição atual da cabe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22D1-6050-4B0E-861F-2F0A07FB23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4600" y="1009800"/>
            <a:ext cx="78804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SSTF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hortest-Seek-Time-Fir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682" t="9897" r="658" b="9365"/>
          <a:stretch/>
        </p:blipFill>
        <p:spPr>
          <a:xfrm>
            <a:off x="1065240" y="2168640"/>
            <a:ext cx="6669000" cy="43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CB11-11E4-43F9-B12D-059654FE3A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4600" y="1009800"/>
            <a:ext cx="78804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SSTF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hortest-Seek-Time-Fir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mento total de cabeça de apenas 236 cilind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hora substancial no desempe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m causar starvartion(paralisação) de alguns ped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5161-60A4-45DD-8F25-51842EFEE5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4600" y="1219320"/>
            <a:ext cx="78804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SC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movimento começa em uma ponta do disco e se movimenta em direção à outra, atendendo os pedidos assim que chegam em cada cilindro, até a atingir a outra ponta do d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orre continuamente o disco, para frente e para t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2D37-78F3-4BD2-906D-5F329C5754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4600" y="1181160"/>
            <a:ext cx="73850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S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o nosso exemplo, vamos considerar que o braço do disco estará se movendo em direção a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90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ilindro 0, o braço inverterá a dir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FE09-BA75-42D5-9DAD-44DF290977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4600" y="1181160"/>
            <a:ext cx="73850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S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647" t="7815" r="437" b="8107"/>
          <a:stretch/>
        </p:blipFill>
        <p:spPr>
          <a:xfrm flipH="1" rot="10800000">
            <a:off x="1200240" y="1817280"/>
            <a:ext cx="6804000" cy="46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9AEB-FAC5-4CC0-AA29-65555B059F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600" y="118080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S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 também chamado d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mo do elev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istirem mais pedidos na extremidade oposta à direção do disco, por que não atendê-los primeir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B1DB-372E-4190-AC9D-D4D04BA920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ência de dados para o disco é feito em blo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icamente, o bloco é menor que a capacidade de um tril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lha é subdividida em unidades de tamanho fixo (set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A41E-359C-420F-B040-429BAFC50B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5080" y="119988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C-S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uma variante do SCAN, SCAN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tado para fornecer um tempo de espera mais uni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a cabeça de uma extremidade à outra como o 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ém, quando chega á outra extremidade ele retorna ao início do d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a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5EC4-2B4C-474B-AB20-2F2C37EE10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35080" y="119988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C-S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691" t="7785" r="714" b="7483"/>
          <a:stretch/>
        </p:blipFill>
        <p:spPr>
          <a:xfrm>
            <a:off x="1030320" y="1865160"/>
            <a:ext cx="6757920" cy="46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494B-85EB-47FB-A746-0AD466B34B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5080" y="119988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LOOK e C-L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sões SCAN e C-S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 invés de ir até o final do disco, o braço vai até o pedido final em cada dir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uram por um pedido antes de continuar a mover em determinada dir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8DA0-3507-4A15-8767-83E8C5C5A44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5080" y="119988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calonamento C-L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895" t="7645" r="461" b="7678"/>
          <a:stretch/>
        </p:blipFill>
        <p:spPr>
          <a:xfrm>
            <a:off x="896760" y="1801800"/>
            <a:ext cx="6867720" cy="47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14B4-3D1F-471A-BE24-A4821CA6AC1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0560" y="118080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ção de um algoritmo de 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o escolher o melh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STF é comum e tem grande ap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CAN e o C-SCAN têm desempenho melhor em sistemas com uso pesado de d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CB89-2EB2-487D-8C30-180B5406C01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0560" y="118080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ção de um algoritmo de 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desempenho de muito do número e dos tipos de ped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e temos um único pedido em esp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os algoritmos se comportam da mesma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BDF1-03DA-4EAA-B480-1DC1D87A420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0560" y="118080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ção de um algoritmo de 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pedidos de serviços podem ser influenciados pelo método de alocação de arqu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Um programa que faz a leitura de arquivo alocado contiguamente gerará vários pedidos próximos no d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mento limitado da cabe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um arquivo encade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97F7-5682-4BC4-97F4-4310F365040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0560" y="118080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ção de um algoritmo de 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calização dos diretórios e blocos de índice também é 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ir um arquivo requer pesquisa na estrutura de dire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 entrada do diretório está no primeiro cilindro e os dados no arquivo no fi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beça do disco se move por toda a exten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91DC-6E16-4DEE-9C57-B32A9A6B19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0560" y="1180800"/>
            <a:ext cx="8337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ção de um algoritmo de escalonament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a forma, é interessante que o algoritmo de escalonamento seja escrito como um módulo do SO, para que possa ser substituído por um algoritmo dife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1D7D-DAFE-4655-8BA7-615CE227456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42600"/>
            <a:ext cx="8261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ência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ização do d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ga do sistema a partir do d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peração de blocos defeituo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4258-D580-43A9-8212-A67893F9022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zenamento de inform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ções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finição de trilhas e setores é feita pela formatação física, no momento de sua fabr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370C-083A-46B9-A666-ABA9D4BEF8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38040"/>
            <a:ext cx="8261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açã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 magnético é uma lousa em bran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âminas de material de escrita mag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s de armazenar dados, o disco deve ser dividido em setores para que a controladora possa realizar as operações de leiturae/esc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ação de baixo nível ou formatação fí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7EEE-3E84-4FC0-90D2-95ACF7A283E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238040"/>
            <a:ext cx="8261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açã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ação de baixo nível ou formatação fí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enche o disco com uma estrutura de dados  especial para cada se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eçalho, área de dados(512 bytes) e um apên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eçalho(Header) e o Apêndice(trailer) contêm as informações usadas pela controladora de dis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9560" indent="-369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úmero do se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9560" indent="-369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ódigo de Correção de Erros(E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4E51-2487-44AE-8F56-856AC06691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38040"/>
            <a:ext cx="8261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açã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a controladora grava um setor de dados durante uma operação de E/S normal, o ECC é atualizado com um valor calculado a partir de todos os bytes na área de d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o o setor é lido, o ECC é recalculado e comparado com o valor armaz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s valores diferem, o setor está corrompido ou defeitu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7338-F60A-400B-A862-CD3C81078D6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238040"/>
            <a:ext cx="8261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açã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ECC é um código de correção de er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penas 1 ou 2 bits foram corrompidos, através do ECC, a controladora pode identificar os bits que muda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cessamento ECC é feito automaticamente pela controladora sempre que um 1 setor é lido ou grav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E3B7-3174-4AF8-BE87-7EF4B2CD5CA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2616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ação de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atação de baixo nível é feita na fáb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ção do tamanho do se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6, 512 ou 102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nhos maiores de setores signific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os setores por tril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os cabeçalhos e apê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s sistemas operacionais só lidam com setor de 512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B668-EA08-4CA0-93F5-5B2B6D8C2B0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2616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usar um disco, o SO precisa escrever suas próprias estruturas no d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eta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onar o disco em 1 ou mais grupos de cilind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partição funciona como se fosse um disco em sepa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ação 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ção de um sistema de arqu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DED8-5872-4FDA-B0D4-5FE162A5C53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2616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o de part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ização do comput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almente, o programa de partida é armazenado em 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ina de Par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2D43-3A41-4AF6-8863-FFFC09C99B8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04520" y="1542600"/>
            <a:ext cx="69850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os de inicializ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par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 ser alte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 de inicialização ou disc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4C20-7DDD-46D8-9826-F7BC4F80F9A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4520" y="1542600"/>
            <a:ext cx="69850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os defeituo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discos podem ter fal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ou mais setores ficam defeituo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re o disco a procura de blocos defeitu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eve na FAT uma valor especial para os blocos defeitu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8EA3-2CB4-412B-BF9B-D44316715E1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04520" y="1542600"/>
            <a:ext cx="69850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ores sobressalentes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tor sp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war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troladora mantém uma lista de setores defeituo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i cada setor defeituoso por um dos setores sobressal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900B-0D86-49B4-8D3F-71570CF61C3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0" name="trilhas_setores" descr=""/>
          <p:cNvPicPr/>
          <p:nvPr/>
        </p:nvPicPr>
        <p:blipFill>
          <a:blip r:embed="rId1"/>
          <a:stretch/>
        </p:blipFill>
        <p:spPr>
          <a:xfrm>
            <a:off x="1162080" y="1231920"/>
            <a:ext cx="7108920" cy="51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BAE4-8D70-477D-9AA6-9F935350B1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19440" y="1123920"/>
            <a:ext cx="887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ção típica para um setor defeitu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O tenta ler o bloco lógico 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roladora calcula o ECC e descobre que o setor está defeituoso. O fato é relatado ao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einicialização do sistema, um comando especial será executado, solicitando a substituição do setor defeituoso por um sobress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 solicitar o bloco lógico 87, o pedido será traduzido para o endereço do setor substit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0004-9606-469C-823D-8A872489E11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2" name="hard-disk-track" descr=""/>
          <p:cNvPicPr/>
          <p:nvPr/>
        </p:nvPicPr>
        <p:blipFill>
          <a:blip r:embed="rId1"/>
          <a:stretch/>
        </p:blipFill>
        <p:spPr>
          <a:xfrm>
            <a:off x="1981080" y="1204920"/>
            <a:ext cx="512460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724B-1860-4286-B2CC-5E2B2B073E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1523520"/>
            <a:ext cx="742320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501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eçotes de leitura/escrita são montados sobre um bra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501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últiplos pr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501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indro é o conjunto de trilhas de mesmo número em pratos dife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7293-5911-432A-A95E-EB08F84E00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6" name="cilindros" descr=""/>
          <p:cNvPicPr/>
          <p:nvPr/>
        </p:nvPicPr>
        <p:blipFill>
          <a:blip r:embed="rId1"/>
          <a:stretch/>
        </p:blipFill>
        <p:spPr>
          <a:xfrm>
            <a:off x="542880" y="1447920"/>
            <a:ext cx="787104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8339-DEA6-4AC4-A5EC-2AF212BC68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0:42:29Z</dcterms:created>
  <dc:creator>Steve  Armstrong</dc:creator>
  <dc:description/>
  <dc:language>en-US</dc:language>
  <cp:lastModifiedBy>mvgialdi</cp:lastModifiedBy>
  <dcterms:modified xsi:type="dcterms:W3CDTF">2004-09-02T18:28:45Z</dcterms:modified>
  <cp:revision>282</cp:revision>
  <dc:subject/>
  <dc:title>Input/Output</dc:title>
</cp:coreProperties>
</file>