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3501-B8C6-449B-8816-01E1D0A11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CE49-7830-4394-90B5-CD1A24590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70D0-803C-4CC3-9469-211D27ED8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2205-5425-41FA-9255-346196FD46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DFA-22FF-435C-91E8-96D104E3BD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A729-D295-48BF-B38D-8AE849E1F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C4B1-0605-45FB-B509-5F8ECFD42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DB4C-3731-4D3F-BC5B-98811C55D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2FF2-6EBE-4F8C-A587-A76BF1D6D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9527-51DD-406F-A670-4AC60F13E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84B4-48F8-4DF7-B21D-FC5483828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149C-1C50-4F95-B157-09D805790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21560" y="6458040"/>
            <a:ext cx="470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C1EC-4CFE-4A2D-8B5A-5010031D87F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7880" y="1523520"/>
            <a:ext cx="715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as de falha relativamente al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da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 significativo na restauração dos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p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 levar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ópias de 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D6AD-EA55-46D5-8673-641895F442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625760"/>
            <a:ext cx="7067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ção de armazenamento est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nformações que residem no armazenamento estável “nunca” se per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ção de 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últiplos disposi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os de falha indepen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AA4F-53CD-45CB-B16C-7B6F7C29C2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359000"/>
            <a:ext cx="7994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ção de armazenamento est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enação das atualizações(escrita) de modo a garantir que uma falha na atualização não deixe todas as cópias em estado da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recuperação de uma falha, forçar todas as cópias para um valor correto e con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A448-D8C2-4F26-8502-E2E39C2DF1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560" y="1359000"/>
            <a:ext cx="7994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ção de armazenamento est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escrita em disco resulta em 1 das 3 possibil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ão bem-suc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ha Pa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4640" indent="-361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enas alguns setores foram gravados com su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ha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4640" indent="-361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lha ocorreu antes que a escrita começasse, os valores de dados permanecem int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EEFD-EF52-4AD8-86AD-70F343D8A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558800"/>
            <a:ext cx="71438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ção de armazenamento est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pre que ocorre uma falha durante a escrita de um bloco, o sistema deve detectá-lo e recuperá-lo para um estado con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ter dois blocos físicos para cada bloco 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C9EC-3286-4783-A907-49B515C70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8840" y="1216080"/>
            <a:ext cx="793116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ção de armazenamento est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operação de saída é executada da seguinte manei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ar as informações no primeiro bloco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o a primeira escrita for concluída com sucesso, gravar as mesmas informações no segundo bloco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operação é completada após a segunda escrita ocorrer com su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B5CE-7694-4C35-BB1A-BBB7A81E8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216080"/>
            <a:ext cx="793116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ção de armazenamento est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recuperação de uma falha, cada par de blocos físicos é exami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mbos estiverem iguais, não houve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 contr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 detec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i o conteúdo do bloco incorreto pelo cor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i o primeiro pelo segu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9931-AA5C-481B-8270-15963D97F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8840" y="1216080"/>
            <a:ext cx="793116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dias removí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qu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-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-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- 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 -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 -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 - 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18CB-7C7F-49A5-9CF2-C202C7E969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216080"/>
            <a:ext cx="793116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qu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itos de um disco flexível fino revestido com material magnético, envolvido em um invólucro plástico cond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azenamento em torno de 1 mega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 ser tão rápidos quanto os discos ríg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ície de escrita tem mais risco de d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2B77-7295-4B6A-8F52-680800D7BB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8840" y="1216080"/>
            <a:ext cx="793116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qu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disquete" descr=""/>
          <p:cNvPicPr/>
          <p:nvPr/>
        </p:nvPicPr>
        <p:blipFill>
          <a:blip r:embed="rId1"/>
          <a:stretch/>
        </p:blipFill>
        <p:spPr>
          <a:xfrm>
            <a:off x="4137120" y="2986200"/>
            <a:ext cx="3193920" cy="34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3776-CAD1-4EF9-BC64-D8893C880A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9200" y="1216080"/>
            <a:ext cx="67500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 ótico-magn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 dados em uma lâmina rígida revestida com material 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material magnético é revestido por uma camada protetora espessa de plástico ou vi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 mais re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34E3-9A54-4294-B08C-1C383097FC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7880" y="1523520"/>
            <a:ext cx="715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disco restaurado não é uma imagem precisa do disco que falh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mudanças feitas desde o último backup são 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horar a confiabilidade do disco é uma necess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6CC5-1466-4599-BE20-5FA202262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9200" y="1216080"/>
            <a:ext cx="67500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 ótico-magn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O" descr=""/>
          <p:cNvPicPr/>
          <p:nvPr/>
        </p:nvPicPr>
        <p:blipFill>
          <a:blip r:embed="rId1"/>
          <a:stretch/>
        </p:blipFill>
        <p:spPr>
          <a:xfrm>
            <a:off x="2270160" y="3381480"/>
            <a:ext cx="2901960" cy="303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7BA6-5288-40D2-82E1-E86100E47E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8840" y="1304640"/>
            <a:ext cx="737244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 ó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usam magnet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especial que pode ser alterado pela luz do laser para ter pontos que que são relativamente escuros ou brilh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caros porém mais res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C500-29B8-4099-8CE9-002730AFE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8840" y="1304640"/>
            <a:ext cx="737244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 ó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d" descr=""/>
          <p:cNvPicPr/>
          <p:nvPr/>
        </p:nvPicPr>
        <p:blipFill>
          <a:blip r:embed="rId1"/>
          <a:stretch/>
        </p:blipFill>
        <p:spPr>
          <a:xfrm>
            <a:off x="2603520" y="3654360"/>
            <a:ext cx="3551040" cy="237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B6A3-CA4D-4A03-A5A4-4AFE74C51A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8840" y="1304640"/>
            <a:ext cx="817236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em ser usados repetidas ve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s de leitura/esc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M(Write-once, read many-tim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DD37-0A4F-424F-A4C0-933227A820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8840" y="1304640"/>
            <a:ext cx="817236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a mag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barata que um disco ótico ou magn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cesso aleatório à fita é muito mais lento que uma busca em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ta é um meio econômico para fins que não exigem acesso aleatório ráp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AF56-754E-40E4-A49F-90D16D321A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8840" y="1304640"/>
            <a:ext cx="817236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itas" descr=""/>
          <p:cNvPicPr/>
          <p:nvPr/>
        </p:nvPicPr>
        <p:blipFill>
          <a:blip r:embed="rId1"/>
          <a:stretch/>
        </p:blipFill>
        <p:spPr>
          <a:xfrm>
            <a:off x="730080" y="3425760"/>
            <a:ext cx="3380040" cy="2901960"/>
          </a:xfrm>
          <a:prstGeom prst="rect">
            <a:avLst/>
          </a:prstGeom>
          <a:ln w="0">
            <a:noFill/>
          </a:ln>
        </p:spPr>
      </p:pic>
      <p:pic>
        <p:nvPicPr>
          <p:cNvPr id="93" name="fitasdiscos" descr=""/>
          <p:cNvPicPr/>
          <p:nvPr/>
        </p:nvPicPr>
        <p:blipFill>
          <a:blip r:embed="rId2"/>
          <a:stretch/>
        </p:blipFill>
        <p:spPr>
          <a:xfrm>
            <a:off x="5211720" y="2552760"/>
            <a:ext cx="3076560" cy="39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F9FA-72A0-4C79-9BC6-2BF1E35E70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9200" y="1304640"/>
            <a:ext cx="734688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as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ão usadas para armazenar cópías de backup de dis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 armazenamento 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área de superfície de uma fita é geralmente muito maior que a de um dis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E0D7-0100-46FA-8DA2-9835697612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9200" y="1304640"/>
            <a:ext cx="734688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tura de armazenamento terci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 o meio de armazenamento seja um disco ótico-magnético, um CD-ROM ou uma fita magnética, o sistema operacional precisa fornecer várias funcionalidades para utilizar mídia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9071-A482-4113-BC4D-764914F83F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" y="1812960"/>
            <a:ext cx="795672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refas dos sistemas oper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enciar dispositivos fí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sentar uma abstração de máquina virtual para 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9EAC-88B8-4963-A723-1AF61EF6803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85410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ioria dos sistemas operacionais lida com discos removíveis quase que da mesma forma empregada para os discos fi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disco removível é “mont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sistema de arquivos vazio é gerado no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elhante ao sistema de arquivos de um disco ríg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1F25-EDB7-4BBE-B657-E57CA2FEA98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7880" y="1523520"/>
            <a:ext cx="715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múltiplos discos trabalhando de forma coope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striping(intercalaçã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um grupo de discos como uma unidade de armaze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o de dados é quebrado em sub-blo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sub-bloco armazenado em cada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FB22-7A37-4966-9133-E5AD8D66C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85410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fitas geralmente são tratadas de forma dif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aplicação não abre um arquivo na 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o de de armazenamento bruto (sem um sistema de arqu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geral, a unidade de fita fica reservada para esta apliação até que ela 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cesso aleatório na fita tem alto custo em termos de t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7572-098E-4F18-8223-58A7FB8A40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85410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fitas geralmente são tratadas de forma diferent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a fita é usada como um dispositivo bruto, a aplicação deve decidir como usar o vetor de blo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azena uma lista de nomes e tamanhos de arquivos no início da fita e copia os dados dos arquivos para a fita nessa or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F926-6125-429E-8DC9-9B4DF3DA74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75884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fitas geralmente são tratadas de forma diferent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fita cheia de dados geralmente pode ser usada apenas pelo programa que a cri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os arquivos estão armazen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gravados por bloco ou são concaten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 o tamanho do blo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F065-257C-4536-AEDE-177851DB0B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75884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face de aplic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fitas geralmente são tratadas de forma diferent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ções básicas de  uma unidade de dis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, write,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precisa que o seek do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ciona a fita em um bloco lógico específico, em vez de uma trilha i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1A52-BE78-4333-964E-B952B73521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75884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ear arquivos em mídia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s fi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ra da unidade seguida por um nome de camin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agem no sistema de arqu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9E44-CA1E-483C-BDEC-92B3CF48D2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822348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dia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hecer a unidade que continha o disco em determinado momento não significa saber como encontrar o arqu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série para disco removí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4E71-51B0-4837-8043-1BF728E7A6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1760" y="1355760"/>
            <a:ext cx="75884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dia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ar dados em um disco a partir de um computador e depois usá-lo em ou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lidar com as particularidades de cada máqui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1822-F79D-47DA-87B2-0C7D92198E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2120" y="1355760"/>
            <a:ext cx="845208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meação de arqu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dia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istemas operacionais atuais deixam o problema de espaço de nome para mídias removíveis sem sol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e das ap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izmente, para certas mídias removíveis existe uma padro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s de mú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A720-8AEF-4DEE-8E9F-9AF8303972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1120" y="1304640"/>
            <a:ext cx="758844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ência de armazenamento hierárqu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jukebox robotizado permite que o computador troque o disco removível que está na fita ou unidade de disco sem assistência hu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de armazenamento hierárqu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4222-0536-4F05-9F03-32EAAC500B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1120" y="1304640"/>
            <a:ext cx="758844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ência de armazenamento hierárqu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sistema de armazenamento hierárquico estende a hierarquia de armazenamento para além da memória primária e armazenamento secundário(ex. disco rígido), para incorporar armazenamento terciá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06B9-1E4E-4E22-8B6A-FC82BA6194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1219320"/>
            <a:ext cx="7156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striping(intercalaçã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-425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tempo de transferência de bloco tem melhora signific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-425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discos transferem os sub-blocos em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-425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s rotações estiver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roniz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 desempenho melhora ainda 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-425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o maior o número de discos, maior a taxa de transferência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49DD-4F70-4EB4-8F1D-B9F5CEB5A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1120" y="1304640"/>
            <a:ext cx="758844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ência de armazenamento hierárqu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kebox de fitas ou discos removí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barato e mais l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sante para armazenar dados que não são usados com frequ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88E8-A2D9-4A86-BD08-4BE7F95673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4760" y="1219320"/>
            <a:ext cx="7626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(Redundant Vetor of Independents Dis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horar o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ância dos dados é utilizada para melhorar a confiabilidade do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dundância pode ser organizada de várias formas com diferentes níveis de desempenho e cu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72B4-6742-4DBC-8A43-A2325304F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4760" y="1219320"/>
            <a:ext cx="7626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- Espelhamento ou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ém um copia duplicada de cada d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ção c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obro de discos é usado para armazenar a mesma quantidade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s vezes mais rápido na lei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33EA-BA41-4E76-92EF-540ABE2782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219320"/>
            <a:ext cx="7626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- Block interleaved pa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menos redundâ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pequena fração do disco é utilizada para armazenar blocos de par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discos no ve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armazenam bloco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armazena bloco de p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4998-8669-4DE3-ADA5-502FC736F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219320"/>
            <a:ext cx="7626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- Block interleaved parity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4840" indent="-376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posição de bit neste bloco de paridade conteria a paridade das posições de bit correspondentes em cada um dos oito bloco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4840" indent="-376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o defeituo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87360" indent="-376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bits de dados são apa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87360" indent="-376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culados através dos outros blocos e do bloco de p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802E-DCCA-469D-9581-0B27147334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05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iscos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219320"/>
            <a:ext cx="7626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abi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a velocidade combinada de múltiplos discos e control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tualização de qualquer sub-bloco de dados força o sub-bloco de paridade ser recalculado e regra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ção interessante para melhorar a velocidade e confiabilidade dos dis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427A-91B7-44C0-8451-F0176183B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0:42:29Z</dcterms:created>
  <dc:creator>Steve  Armstrong</dc:creator>
  <dc:description/>
  <dc:language>en-US</dc:language>
  <cp:lastModifiedBy>mvgialdi</cp:lastModifiedBy>
  <dcterms:modified xsi:type="dcterms:W3CDTF">2004-09-12T21:04:55Z</dcterms:modified>
  <cp:revision>356</cp:revision>
  <dc:subject/>
  <dc:title>Input/Output</dc:title>
</cp:coreProperties>
</file>