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4CB6-F246-435C-98C9-878544135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95F8-E205-418B-A5F0-CC762EFE0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2CA1-F930-4EF6-97A9-6C59D4AB9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AF43-1B25-446D-805F-AA0123696A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F405-5EF2-406A-B454-C127E0B9FE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171E-CAD7-41AF-95AE-D433DAD8C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42C7-2B15-4220-AFE6-DE9DFBCC7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3A34-D70D-4D94-AF8A-EBDD7176E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8501-49FA-482A-AF12-8348CD0F2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B3A2-2CEB-4A87-815F-06238B83C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E967-F060-40D5-882A-8AFE7F569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E719-34C8-4FE0-AB84-EABAAC56D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89520" y="6451200"/>
            <a:ext cx="48276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248F-3187-44DF-96A2-93B37669A08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602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stemas de Arquivo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71400" y="1753920"/>
            <a:ext cx="76154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As aplicações precisam armazenar e recuperar informaçõ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Processos precisam armazenar informaçõ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Ao término do processo as informações não devem ser perdida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Múltiplos processos podem ter acesso a certas informaçõ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DE11-EF71-4C9F-B39C-A129B9B691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1350720"/>
            <a:ext cx="733104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nicode fornece um único número para cada carac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importa a plataforma, não importa o programa, não importa a língu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adrão Unicode tem sido adotado por líderes do setor de informática tais como a Apple, HP, IBM, Microsoft, Oracle, SAP, Sun, Sybase, Unisys, dentre out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49E3-D44D-41F1-92DB-6395DCB261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350720"/>
            <a:ext cx="733104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nicode é necessário para padrões modernos tais como o XML, Java, ECMAScript (JavaScript), LDAP, CORBA 3.0, WML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suportado por muitos sistemas oper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te com que dados sejam transportados através de muitos sistemas diferentes sem que sejam corromp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15A3-CE9C-4888-9FAB-3C47CCC022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154296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itos sistemas operacionais suportam nomes de arquivos de duas partes separadas por um pont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e.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S - D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es de 1 a 8 caracteres e uma extensão opcional de 1 a 3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ix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tamanho da extensão (se houver) fica a critério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C4FD-74B9-48C1-947E-79521FB44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60480" y="1542960"/>
            <a:ext cx="7129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m alguns sistemas, as extensões de arquivos constituem apenas convençõ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r outro lado, um compilador C pode exigir que os arquivos a serem compilados terminem com a extensão .c ou .cp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ix - Para que servem as extensões?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13C1-D3B7-43F6-BA56-DD1EFDA77C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542960"/>
            <a:ext cx="6724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hece as extensões e atribui significado a cada uma dela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É possível registrá-las no sistema operacional especificando, para cada uma delas, qual programa “trata” aquela extensã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1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5A78-1CD5-420B-B980-A5597A6FCF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3200" y="21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5867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tensões típicas de arquiv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9" name="6_1" descr=""/>
          <p:cNvPicPr/>
          <p:nvPr/>
        </p:nvPicPr>
        <p:blipFill>
          <a:blip r:embed="rId1"/>
          <a:stretch/>
        </p:blipFill>
        <p:spPr>
          <a:xfrm>
            <a:off x="857160" y="1371600"/>
            <a:ext cx="7429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C0F9-5281-4112-8455-50188FB82E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trutura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085760"/>
            <a:ext cx="7219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s arquivos podem ser estruturados de várias maneira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possibilades comun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2" name="6_2" descr=""/>
          <p:cNvPicPr/>
          <p:nvPr/>
        </p:nvPicPr>
        <p:blipFill>
          <a:blip r:embed="rId1"/>
          <a:stretch/>
        </p:blipFill>
        <p:spPr>
          <a:xfrm>
            <a:off x="838080" y="3321000"/>
            <a:ext cx="7429680" cy="28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38CA-D97A-4CE2-A172-5567CBB3E6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trutura de Arquivos - Sequência de byte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542960"/>
            <a:ext cx="7219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quência desestruturada de byt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 sistema operacional não sabe o que o arquivo contém ou simplesmente não se interessa por iss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udo que o SO vê são byt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alquer significado deve ser imposto pelos programas em nível de usuári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ix e Windows usam esta estratégi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exibilidad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76C0-9E2E-42ED-98F9-D2EDBDA05F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trutura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085760"/>
            <a:ext cx="7219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s arquivos podem ser estruturados de várias maneira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possibilades comun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7" name="6_2" descr=""/>
          <p:cNvPicPr/>
          <p:nvPr/>
        </p:nvPicPr>
        <p:blipFill>
          <a:blip r:embed="rId1"/>
          <a:stretch/>
        </p:blipFill>
        <p:spPr>
          <a:xfrm>
            <a:off x="838080" y="3321000"/>
            <a:ext cx="7429680" cy="28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9F0A-6732-4643-ACA2-0C85E8FED2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trutura de Arquivos - Registr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1440" y="2019240"/>
            <a:ext cx="74487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É uma sequência de registros de tamanho fixo, cada um com uma estrutura intern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operação de leitura retorna um registr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operação de escrita anexa/sobrepõe um registr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tualmente nenhum sistema de propósito geral funciona assi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37D8-698E-41D0-A7AA-324D4E2BDA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mazenamento da Informação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Longo Praz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735200"/>
            <a:ext cx="825048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 ser possível armazenar uma quantidade muito grande de informaçã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informação deve sobreviver ao término do processo que a us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últiplos processos devem ser capazes de acessar a informação concorrentement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A1AB-9F40-4FEC-8241-0AD7DD89E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trutura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080" y="1085760"/>
            <a:ext cx="7219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s arquivos podem ser estruturados de várias maneira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possibilades comun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2" name="6_2" descr=""/>
          <p:cNvPicPr/>
          <p:nvPr/>
        </p:nvPicPr>
        <p:blipFill>
          <a:blip r:embed="rId1"/>
          <a:stretch/>
        </p:blipFill>
        <p:spPr>
          <a:xfrm>
            <a:off x="838080" y="3321000"/>
            <a:ext cx="7429680" cy="28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BE24-5288-4F53-A4A5-8A7E6B0CD3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trutura de Arquivos - Árvor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1440" y="2019240"/>
            <a:ext cx="81154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É constituído de uma árvore de registros, não necessariamente todos do mesmo tamanh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da registro tem um campo - chav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árvore é ordenada pelo campo - chav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operação básica é obter o registro com a chave específic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licado em computadores de grande porte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D95D-1DAF-4449-BC35-3C679E8E81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trutura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45960" y="480060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ês tipos de arquiv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399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üência de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99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üência de regi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99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6_2" descr=""/>
          <p:cNvPicPr/>
          <p:nvPr/>
        </p:nvPicPr>
        <p:blipFill>
          <a:blip r:embed="rId1"/>
          <a:stretch/>
        </p:blipFill>
        <p:spPr>
          <a:xfrm>
            <a:off x="857160" y="1625760"/>
            <a:ext cx="7429680" cy="28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E905-0D54-497B-8D44-9ECFC18C75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1440" y="1476360"/>
            <a:ext cx="81154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s sitemas operacionais suportam vários tipos de arquiv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ix/Window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uivos regulares e diretó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quivos regulares são aqueles que contêm informação do usuári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tórios são arquivos do sistema que mantêm a estrutura do sistema de arquiv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 Unix também tem arquivos especiais de caracteres e de bloc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C026-C187-4356-A780-A9527C7F80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6320" y="1847880"/>
            <a:ext cx="71056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s arquivos especiais de caracteres são relacionados a E/S e usados para modelar dispositivos de E/S, como terminais, impressoras e red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s arquivos especiais de blocos são usados para modelar disc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F084-427D-4FC4-82CE-68276493FE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932040"/>
            <a:ext cx="71056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quivos regular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s arquivos ASCII são constituídos de linhas de text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m alguns sistemas cada linha termina com um caractere de retorno de carr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m outros, é usado o caractere de próxima linh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S - D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 am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BF6A-5D30-422A-8FB9-38DDFE9B5D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533600"/>
            <a:ext cx="71056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s arquivos ASCII podem ser mostrados e impressos como são e editados por qualquer editor de text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cilidade para o intercâmbio de informaçõ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pretação da informação fica mais fáci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E730-ACB6-445B-A82B-5ACCEFF978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0200" y="1777680"/>
            <a:ext cx="62532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quivos binári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ão são como os ASCII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ralmente têm alguma estrutura interna conhecida pelos programas que os usa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6252-00EC-4F28-984B-EB4B5496E5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5950080"/>
            <a:ext cx="87994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 Um arquivo binário executável   (b) Um repositório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(archive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0" name="6_3" descr=""/>
          <p:cNvPicPr/>
          <p:nvPr/>
        </p:nvPicPr>
        <p:blipFill>
          <a:blip r:embed="rId1"/>
          <a:stretch/>
        </p:blipFill>
        <p:spPr>
          <a:xfrm>
            <a:off x="2284560" y="887400"/>
            <a:ext cx="484632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DC79-9E7C-48DC-BBDB-990DA94E51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 - Binário Executável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9760" y="1717560"/>
            <a:ext cx="7466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cnicamente este arquivo é uma sequência de byt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 SO só executará um arquivo se ele tiver um formato apropriad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 arquivo possui 5 parte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eç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de relo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D924-4D2C-4859-A008-C4F9BFF56D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stema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306440"/>
            <a:ext cx="742968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rmazenar as informações em discos ou outros meios externos em unidades chamadas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rquiv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informação armazenada em arquivos deve ser persistent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m arquivo somente desaparecerá quando seu proprietário removê-lo explicitament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1ADB-9A64-4994-91C8-6F6212775B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 - Binário Executável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74680"/>
            <a:ext cx="7466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beçalh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má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 o arquivo como execut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ções relacionadas a tama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ereço no qual a execução deve iniciar e alguns bits de sin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ós o cabeçalho estão o texto e os dados do programa propriamente ditos, que são carregados na memória usando os bits de relocaçã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tabela de símbolos é usada para depuraçã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A611-13BC-4253-B8C1-1B2863B3C3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5760" y="5950080"/>
            <a:ext cx="87994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 Um arquivo binário executável   (b) Um repositório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(archive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7" name="6_3" descr=""/>
          <p:cNvPicPr/>
          <p:nvPr/>
        </p:nvPicPr>
        <p:blipFill>
          <a:blip r:embed="rId1"/>
          <a:stretch/>
        </p:blipFill>
        <p:spPr>
          <a:xfrm>
            <a:off x="2284560" y="887400"/>
            <a:ext cx="484632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3C11-1E81-480B-8B4B-015811EBCE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 - Archiv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89120"/>
            <a:ext cx="7466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ositório(archive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siste em uma coleção de procedimentos de biblioteca (módulos) compilados, mas não ligad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beçalh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 seu nome, data de criação, proprietário, código de proteção e tama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preenchidos com números bin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D565-59E4-4B2C-A51D-2E4411EC6D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p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7120" y="1587240"/>
            <a:ext cx="74660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odo sistema operacional deve reconhecer pelo menos um tipo de arquiv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 próprio arquivo execu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OPS-20 (DECsystem20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va data/hora de qualquer arquivo que fosse exec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va se o fonte havia sido mod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afirmativo, automaticamente recompilava o 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10CB-631A-4E5F-81E9-0B63CDF6E2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cesso aos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7680" y="1162080"/>
            <a:ext cx="7307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cesso sequencia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ê todos os bytes/registros desde o iní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pode saltar ou ler fora de seqü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iente quando o meio era a fita mag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cesso aleatóri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/registros lidos em qualquer or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cial para sistemas de bases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7BBF-C7F2-4579-BBA6-06B4C397C6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cesso aos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7680" y="1003320"/>
            <a:ext cx="7307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cesso aleatóri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um cliente de uma companhia aérea liga e quer reservar lugar em um determinado vô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seria se o acesso aos dados fosse sequên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s métodos são utilizados para especificar a partir de onde a leitura come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- indica a posição do arqu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- estabelece a posição a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E4B5-F0D0-4750-902C-B689A8ACC8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ribut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440" y="1147320"/>
            <a:ext cx="7726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odo arquivo tem nome e dad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ata e o horário que o arquivo foi criad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amanho do arquiv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ssas informações constituem os atributos de um arquiv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5E4A-5BDC-488A-9F77-E3366E83DF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ribut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5962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ssíveis atributos de arquiv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0" name="6_4" descr=""/>
          <p:cNvPicPr/>
          <p:nvPr/>
        </p:nvPicPr>
        <p:blipFill>
          <a:blip r:embed="rId1"/>
          <a:stretch/>
        </p:blipFill>
        <p:spPr>
          <a:xfrm>
            <a:off x="1714680" y="907920"/>
            <a:ext cx="5715000" cy="509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F3B2-6D20-4F2C-9572-5FEA6A5740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ribut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6861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s 4 primeiros atributos são sobre a proteção do arquiv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m pode ter acesso ou quem não po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nha para ter acesso a um arquiv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D0E0-903A-4643-83F6-0C1F1E9C7F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ribut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424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s flags são bits ou campos que habilitam/controlam características específica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rquivos ocult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flag de repositório indica se foi feita ou não uma cópia de segurança do arquiv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flag de temporário permite que um arquivo seja marcado para remoção automátic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3FFA-0CCF-44F8-850B-3EDA40D1CE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stema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81040" y="1495080"/>
            <a:ext cx="78487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quivos são gerenciados pelo sistema operaciona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parte do sistema operacional que trata dos arquivos é conhecido com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stema de arquiv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uári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eação dos arqu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ções permit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6827-840C-4B3B-9A83-1CC454FD74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ribut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2520" y="1447920"/>
            <a:ext cx="7424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amanho do registr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sição da chav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amanho dos campos-chav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istem somente em arquivos cujos registros possam ser consultados usando uma chav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rnecem informação necessária para encontrar a chav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E41F-D8E7-493A-8E32-7DFC934CB92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ribut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2520" y="1447920"/>
            <a:ext cx="7424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ment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m quando o arquivo foi cri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ltimo a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tilizaçã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r se o fonte foi modificado depois da criação do arquivo-ob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B0AE-4A01-40F6-8AF2-2EAD0A87F34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ributos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2520" y="1447920"/>
            <a:ext cx="7424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amanho atual do arquiv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amanho máxim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s SOs de computadores de grande porte exigiam que se especificasse o tamanho máximo do arquivo quando ele fosse cri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O reservava a quantidade máxima de memória antes de qualquer op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4536-CE8A-4F22-9632-6988897E77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76600" y="1523880"/>
            <a:ext cx="4229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attrib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 Attrib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C017-3189-47C1-A81E-581F3D894F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20800"/>
            <a:ext cx="7424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reat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rquivo é criado sem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uncia que o arquivo existe e define alguns de seus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let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o arquivo não é mais necessário, ele deve ser removido para liberar espaço em 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C79A-FB15-43C8-AA5F-84D58E3910D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6840" y="1720800"/>
            <a:ext cx="7424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s de usar um arquivo, o processo  deve abrí-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ir que o sistema busque e coloque na memória  principal os atributos e a lista de endereços do 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r mais rápido o acesso das chamadas pos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C15D-EF6A-49B3-8CD8-8FA8996D51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6840" y="1521000"/>
            <a:ext cx="8030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os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todos os acessos terminam, os atributos e os endereços do disco não são mais necess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s sistemas impõem um número máximo de arquivos abertos por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isco é escrito em blocos e o fechamento de um arquivo força a escrita do último bloco do arquivo, mesmo que o bloco não esteja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16E8-14D8-440A-8507-D8B05D277CC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0600" y="1433520"/>
            <a:ext cx="803124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os são lidos d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lmente os bytes lidos são os da posição a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m fez a chamada deve especificar a quantidade de dados necessária e fornecer o buffer para colocar os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A040-7331-426D-A87D-3FAE5221663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0600" y="1433520"/>
            <a:ext cx="803124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dados são escritos n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lmente na posição a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 a posição atual seja o final do arquivo, o tamanho do arquivo sofrerá um a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 posição atual estiver no meio do arquivo, os dados existentes serão sobrescr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5B42-0644-4AE8-95D2-E0D4CE074F8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0600" y="1433520"/>
            <a:ext cx="803124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ppen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 restrita d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 adiciona dados ao final d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que oferecem um conjunto mínimo de chamadas ao sistema geralmente não têm ap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5481-C27B-4B4A-A6AB-5A8C2CDD867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78487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quivo é um mecanismo de abstraçã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ferece meios de armazenar as informações no disco e depois recuperá-la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 usuário não precisa saber dos detalhes sobre como e onde a informação está armazenad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ão é necessário conhecer o funcionamento do disc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D721-837A-474E-AB80-FC4B1C2B1D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6240" y="1606320"/>
            <a:ext cx="803124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t attribut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processos precisam de ler os atributos de um arquivo para fazer al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o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 o momento de alteração de arquivos fontes e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 a compilação de modo a atualizar tu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 os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C50A-1594-4B4C-A990-35B27EB70E4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6240" y="1606320"/>
            <a:ext cx="803124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t attribut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s atributos podem ser alterados pel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ação de prote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D403-B379-4AA7-A3EA-7C760E6431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6240" y="1606320"/>
            <a:ext cx="803124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nam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ar o nome de um arquivo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é estritamente necessá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 ser copiado/movido para um arquivo com nome no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34EF-8FE0-4FE8-B05E-8A226CE896E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 de um programa com chamadas ao sistema para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6240" y="1606320"/>
            <a:ext cx="803124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grama Unix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a um arquivo de origem para um arquivo 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file abc x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xyz já existe, será sobresc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 contrário, será cri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rograma deve ser chamado com 2 argumentos em ambos devem ter nome válidos de arqu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F934-B463-414A-9F7C-93F3FA825C5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76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xemplo de um Programa com </a:t>
            </a:r>
            <a:br>
              <a:rPr sz="3400"/>
            </a:b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Chamadas ao Sistema para Arquivos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5" name="6_5" descr=""/>
          <p:cNvPicPr/>
          <p:nvPr/>
        </p:nvPicPr>
        <p:blipFill>
          <a:blip r:embed="rId1"/>
          <a:stretch/>
        </p:blipFill>
        <p:spPr>
          <a:xfrm>
            <a:off x="1025640" y="1628640"/>
            <a:ext cx="6885000" cy="483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7BB0-4DC1-4494-B5F9-E9AC073D307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 de um programa com chamadas ao sistema para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606320"/>
            <a:ext cx="803124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s quatro comandos #include geram a inclusão de uma grande quantidade de definições e protótipos de funçõ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ão necessárias para adequar o programa aos padrões internaciona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ário para manter o padrão ANSI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DF16-61DF-4F72-9E2C-9350B59DBDB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76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xemplo de um Programa com </a:t>
            </a:r>
            <a:br>
              <a:rPr sz="3400"/>
            </a:b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Chamadas ao Sistema para Arquivos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9" name="6_5" descr=""/>
          <p:cNvPicPr/>
          <p:nvPr/>
        </p:nvPicPr>
        <p:blipFill>
          <a:blip r:embed="rId1"/>
          <a:stretch/>
        </p:blipFill>
        <p:spPr>
          <a:xfrm>
            <a:off x="1085760" y="1219320"/>
            <a:ext cx="6967800" cy="53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A445-1695-4E96-87E9-F9448EB64C4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 de um programa com chamadas ao sistema para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27000" y="1895400"/>
            <a:ext cx="736776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 primeiro comando #define é a definição de uma macro que estabelece o tamanho de uma cadeia BUF_SIZ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 programa lerá e escreverá em pedaços de 4096 bytes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E5A9-6858-439F-8BFF-9115655614D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 de um programa com chamadas ao sistema para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7320" y="1504800"/>
            <a:ext cx="846468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grama principal - mai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rgumentos - argc e argv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rgc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as cadeias de caracteres estavam presentes na linha de comando que invocou o programa, neste cas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rgv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v[0] = copy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v[1] =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v[2] = x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A1A5-6B32-40C9-8ABB-372096E9734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 de um programa com chamadas ao sistema para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6040" y="1995480"/>
            <a:ext cx="744084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riáve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_fd e out_fd - descritores d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_count e wt_count - contadores de bytes retornados pelas chamadas ao sistema read 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- usado para conter os dados lidos ou disponibilizados para a esc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9D7E-2C47-45A0-B08D-F69DEA64CB2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832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ando um processo cria um arquivo, ele dá um nome a esse arquiv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utros processos podem ter acesso a este arquivo através do seu nom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s regras para se dar nome a um arquivo variam de sistema para sistem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odos os SOs permitem cadeia de caracteres de 1 até 8 letras com nomes válidos de arquiv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A30D-3018-4E36-8B9D-92B42D0CD4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 de um programa com chamadas ao sistema para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6040" y="1995480"/>
            <a:ext cx="744084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 primeiro comando verifica se o valor de argc é 3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bertura do arquivo orige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_fd recebe um inteiro para identificar 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riação do arquivo desti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_fd recebe um inteiro para identificar 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76DC-67C3-4017-92EE-F4470E97673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 de um programa com chamadas ao sistema para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6040" y="1995480"/>
            <a:ext cx="744084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re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elece o modo de prote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aço de cópi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a ler 4KB para o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ada a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_count fornece o número de bytes l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025D-7804-4094-B862-7E592E6BA74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 de um programa com chamadas ao sistema para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6040" y="1995480"/>
            <a:ext cx="744084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chamada write descarrega o buffer no arquivo desti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 número de bytes escritos será o número de bytes lid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o término do processamento os arquivos são fechad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C92C-D3F2-4382-858B-331DBD8AF5F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quivos mapeados em memóri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680" y="1317600"/>
            <a:ext cx="819144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pear arquivos no espaço de endereçamento de um processo em execuçã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ovas chamadas ao sistem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- fornece o nome de um arquivo e um endereço virtual, fazendo com que o sistema mapeie o arquivo em espaço de endereçamento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31C3-25FC-4C71-A3C9-4517C43A9BD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quivos mapeados em memóri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54200"/>
            <a:ext cx="819144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nha que um arquivo f, com 64 KB, seja mapeado em um endereço virtual a partir do endereço 512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r o conteúdo de 512K significa ler o byte 0 d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ever no endereço 512K + 21000 significa alterar o byte 21000 d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o processo termina, o arquivo é deixado no disco como se fosse manipulado por um seek 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3537-C8DF-440B-973B-718E8EDC1F7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quivos mapeados em memóri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17240"/>
            <a:ext cx="811836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 mapeamento de arquivos funciona melhor em um sistema que suporta a segmentaçã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ada arquivo pode ser mapeado em seu próprio segment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 byte k no arquivo é também o byte k no segment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68E1-4E6D-4D34-B7A5-A5994E678A1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624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quivos Mapeados em Memóri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41320" y="3230640"/>
            <a:ext cx="77724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m processo segmentado antes de mapear arquivos em seu espaço de endereçament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cesso depois do mapeament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quiv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ente em um seg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ndo novo segmento par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6_6" descr=""/>
          <p:cNvPicPr/>
          <p:nvPr/>
        </p:nvPicPr>
        <p:blipFill>
          <a:blip r:embed="rId1"/>
          <a:stretch/>
        </p:blipFill>
        <p:spPr>
          <a:xfrm>
            <a:off x="1690560" y="1406520"/>
            <a:ext cx="5715000" cy="15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DD7D-FA52-4A80-BE97-E70012E34B2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624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retóri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6560" y="1123560"/>
            <a:ext cx="7772400" cy="32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a controlar os arquivos, os sistemas de arquivos têm,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iretório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u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asta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, que em muitos sistemas são também arquiv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stemas de diretóri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851760" indent="-45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ível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s ní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árqu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9AB4-2338-4C8C-9F09-662A6498B51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3080" y="184320"/>
            <a:ext cx="81914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retóri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stemas de Diretório em Nível Únic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3960" y="483840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m sistema de diretório de nível únic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ém 4 arqu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dades de 3 pessoas diferentes, A, B, 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6_7" descr=""/>
          <p:cNvPicPr/>
          <p:nvPr/>
        </p:nvPicPr>
        <p:blipFill>
          <a:blip r:embed="rId1"/>
          <a:stretch/>
        </p:blipFill>
        <p:spPr>
          <a:xfrm>
            <a:off x="1714680" y="1843200"/>
            <a:ext cx="5715000" cy="24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24B7-325D-414E-A39F-930D248B73B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3080" y="184320"/>
            <a:ext cx="81914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retóri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stemas de Diretório em Nível Únic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4222440"/>
            <a:ext cx="8305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cilidade e capacidade de localizar os arquivos rapidament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lema: nomes do arquiv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ltiusuári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stemas Embarcad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8" name="6_7" descr=""/>
          <p:cNvPicPr/>
          <p:nvPr/>
        </p:nvPicPr>
        <p:blipFill>
          <a:blip r:embed="rId1"/>
          <a:stretch/>
        </p:blipFill>
        <p:spPr>
          <a:xfrm>
            <a:off x="1728720" y="1511280"/>
            <a:ext cx="5715000" cy="24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AE45-E9A9-4F15-8F5A-ED84E87B6EC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52160"/>
            <a:ext cx="789012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racteres especiai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!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itos sistemas de arquivos permite nomes com tamanhos de até 255 caracter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7661-028A-4C4C-996E-7D7EBDF9C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1840" y="43920"/>
            <a:ext cx="88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stemas de Diretóri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m Dois Nívei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559872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s letras indicam os donos dos diretórios e arquiv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1" name="6_8" descr=""/>
          <p:cNvPicPr/>
          <p:nvPr/>
        </p:nvPicPr>
        <p:blipFill>
          <a:blip r:embed="rId1"/>
          <a:stretch/>
        </p:blipFill>
        <p:spPr>
          <a:xfrm>
            <a:off x="1714680" y="1766880"/>
            <a:ext cx="5715000" cy="34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21D3-2B34-4946-B1CF-97826C03B80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1840" y="43920"/>
            <a:ext cx="88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stemas de Diretóri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m Dois Nívei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466092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cesso aos arquivos em seus diretóri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ssibilidade de se acessar arquivos de outros usuári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cução de programas de sistem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4" name="6_8" descr=""/>
          <p:cNvPicPr/>
          <p:nvPr/>
        </p:nvPicPr>
        <p:blipFill>
          <a:blip r:embed="rId1"/>
          <a:stretch/>
        </p:blipFill>
        <p:spPr>
          <a:xfrm>
            <a:off x="1655640" y="1233360"/>
            <a:ext cx="5715000" cy="34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9334-982F-477C-9CCC-3F72B47ABC9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12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stemas de Diretórios Hierárquic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5748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m sistema de diretório hierárquic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7" name="6_9" descr=""/>
          <p:cNvPicPr/>
          <p:nvPr/>
        </p:nvPicPr>
        <p:blipFill>
          <a:blip r:embed="rId1"/>
          <a:stretch/>
        </p:blipFill>
        <p:spPr>
          <a:xfrm>
            <a:off x="1428840" y="1965240"/>
            <a:ext cx="6286320" cy="29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10C6-5D65-45A4-9545-B0BFA1FDECC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12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stemas de Diretórios Hierárquic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9000" y="4826160"/>
            <a:ext cx="85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erarquia gera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Árvore de diretóri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da usuário pode ter tantos diretórios quantos forem necessári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00" name="6_9" descr=""/>
          <p:cNvPicPr/>
          <p:nvPr/>
        </p:nvPicPr>
        <p:blipFill>
          <a:blip r:embed="rId1"/>
          <a:stretch/>
        </p:blipFill>
        <p:spPr>
          <a:xfrm>
            <a:off x="1428840" y="1965240"/>
            <a:ext cx="6286320" cy="29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061F-425D-47E2-8142-BF3A4C89782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12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s de Caminh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9080" y="1087560"/>
            <a:ext cx="859284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ando o sistema de arquivos é organizado como uma árvore de diretório, é preciso algum modo de especificar o nome dos arquiv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istem 2 método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inho ab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320" indent="-114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do pelo caminho entre o diretório-raiz eo arqu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320" indent="-114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usr/mvg/teste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inho re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320" indent="-114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utilizado juntamente com o conceito de diretório de trabalho (diretório atu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320" indent="-114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se o diretório de trabalho for /usr/mvg então o arquivo teste.doc pode ser referenciado simplesmente como teste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A630-4B2C-4375-BC23-CF32D1D5EC6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12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Diretóri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6000" y="1144440"/>
            <a:ext cx="85932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m de sistema para sistem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95760" indent="-95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o do Unix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95760" indent="-95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207720" indent="-7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 um diretório va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let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207720" indent="-7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um diretó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pendi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207720" indent="-7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s de ser lido um diretório deve ser ab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7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cionar todos os arquivos em um diretó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osedi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207720" indent="-7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ós a leitura, o diretório deve ser fe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7FCA-D90D-4BE0-971D-8B68758B705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12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erações com Diretóri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7760" y="1447920"/>
            <a:ext cx="8593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addi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rna a próxima entrada em um diretório ab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nam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da o nome de um diretó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nk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a um arquivo aparecer em mais de um diretó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link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ário do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3A9E-C8D2-4BFD-B339-E38BFCE7061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06080" y="1812600"/>
            <a:ext cx="6164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guns sistemas de arquivos distinguem letras maiúsculas de minúscula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ix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 &lt;&gt; 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S - D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 = 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DAFD-C830-4225-94BC-9DA8AD3F2E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90080"/>
            <a:ext cx="9109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000160"/>
            <a:ext cx="733104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 WIN 95 e 98 usam o sistema de arquivos do MS-D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erdam muitas propriedades como a formação de nom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 WIN NT e o 2000 também herda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udo, apresentam algumas características particular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es de arquivos em Uni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6244-E4CF-4CCF-9D5A-5F4D453187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3T20:28:40Z</dcterms:created>
  <dc:creator>Steve  Armstrong</dc:creator>
  <dc:description/>
  <dc:language>en-US</dc:language>
  <cp:lastModifiedBy>mvgialdi</cp:lastModifiedBy>
  <cp:lastPrinted>2001-01-13T23:51:38Z</cp:lastPrinted>
  <dcterms:modified xsi:type="dcterms:W3CDTF">2004-09-14T18:49:05Z</dcterms:modified>
  <cp:revision>204</cp:revision>
  <dc:subject/>
  <dc:title>File Systems</dc:title>
</cp:coreProperties>
</file>