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9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58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594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29592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D9FD3-B740-465F-AAC7-5784A92EC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626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626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626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626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43000" y="685800"/>
            <a:ext cx="45626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EE61-7E68-4AF6-ABB8-61E289C4C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0760" y="1298160"/>
            <a:ext cx="8217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0760" y="3909960"/>
            <a:ext cx="8217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21A7-0BD3-453E-8DA7-FFC8FB986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0760" y="12981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320" y="12981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0760" y="39099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320" y="39099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E62A-675A-4921-82A8-7FE7013BC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760" y="1298160"/>
            <a:ext cx="2645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298160"/>
            <a:ext cx="2645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360" y="1298160"/>
            <a:ext cx="2645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0760" y="3909960"/>
            <a:ext cx="2645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09960"/>
            <a:ext cx="2645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360" y="3909960"/>
            <a:ext cx="2645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E8B6-D71E-41BD-8788-849D8A753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0760" y="1298160"/>
            <a:ext cx="82170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5DAC-AAFA-43BA-A7A6-A429A03AF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0760" y="1298160"/>
            <a:ext cx="8217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CE0B-38ED-4DB9-AA2F-887C77CD0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0760" y="1298160"/>
            <a:ext cx="40096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320" y="1298160"/>
            <a:ext cx="40096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EB3A-A8A5-4CB8-B7F7-F4C150848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BDC2-593A-4A0A-AC82-DF3E729D5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428760"/>
            <a:ext cx="8217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B995-C88A-4F85-B0B1-200104173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0760" y="12981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320" y="1298160"/>
            <a:ext cx="40096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0760" y="39099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FB7C-F576-4D06-B7EC-9C5361F1A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0760" y="1298160"/>
            <a:ext cx="40096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320" y="12981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320" y="39099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5A1D-2CDE-45AD-B451-617D1AA5F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0760" y="12981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320" y="1298160"/>
            <a:ext cx="40096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0760" y="3909960"/>
            <a:ext cx="8217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463A-A330-49A4-9D4F-9CB2B465F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308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181080" y="0"/>
            <a:ext cx="9506160" cy="549360"/>
          </a:xfrm>
          <a:prstGeom prst="rect">
            <a:avLst/>
          </a:prstGeom>
          <a:solidFill>
            <a:srgbClr val="708ab4"/>
          </a:solidFill>
          <a:ln w="9360">
            <a:solidFill>
              <a:srgbClr val="708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-428760"/>
            <a:ext cx="8217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0760" y="1298160"/>
            <a:ext cx="8217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58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58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8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8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8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243640" y="115560"/>
            <a:ext cx="887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338CB-7E23-4B99-8E5A-B14CBEDF5AED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via-rs.net/profissionais/castro/win95/cap01.htm" TargetMode="External"/><Relationship Id="rId2" Type="http://schemas.openxmlformats.org/officeDocument/2006/relationships/hyperlink" Target="http://www.extremetech.com/article2/0,1697,10403,00.asp" TargetMode="External"/><Relationship Id="rId3" Type="http://schemas.openxmlformats.org/officeDocument/2006/relationships/hyperlink" Target="http://en.wikipedia.org/wiki/Comparison_of_virtual_machines" TargetMode="External"/><Relationship Id="rId4" Type="http://schemas.openxmlformats.org/officeDocument/2006/relationships/hyperlink" Target="http://www.pcmag.com.br/index.php?option=com_content&amp;task=view&amp;id=136&amp;Itemid=32" TargetMode="External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92160" y="-31680"/>
            <a:ext cx="9417240" cy="705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8000" y="2519280"/>
            <a:ext cx="5400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Tópicos I – Prof. Eduardo Zaga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27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  <a:ea typeface="Arial"/>
              </a:rPr>
              <a:t>Virtualizaçã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413240"/>
            <a:ext cx="82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ndré Bernardes    RA: 0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César Kallas    RA: 020992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duardo Stuchi    RA: 01003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afael Curi    RA: 02135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Funcionamen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0040" y="971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os processadores da Intel já vem com instruções para virtualização, exemplo: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MX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MLAUNCH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MX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Funcionament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17920" y="2295360"/>
            <a:ext cx="4762440" cy="3286440"/>
          </a:xfrm>
          <a:prstGeom prst="rect">
            <a:avLst/>
          </a:prstGeom>
          <a:ln w="36000">
            <a:solidFill>
              <a:srgbClr val="ffffff"/>
            </a:solidFill>
            <a:round/>
          </a:ln>
        </p:spPr>
      </p:pic>
      <p:sp>
        <p:nvSpPr>
          <p:cNvPr id="101" name=""/>
          <p:cNvSpPr/>
          <p:nvPr/>
        </p:nvSpPr>
        <p:spPr>
          <a:xfrm>
            <a:off x="3456000" y="5688000"/>
            <a:ext cx="5580000" cy="4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9000" bIns="9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Intel Virtualization Technolo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://images.anandtech.com/reviews/tradeshows/IDF/2005/Spring/Day1/Wrapup/V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D6CC-49A2-4403-8076-D1EE8D9817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42912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ção – Funcionamen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Funcionament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01080" y="720720"/>
            <a:ext cx="7379280" cy="5757480"/>
            <a:chOff x="901080" y="720720"/>
            <a:chExt cx="7379280" cy="57574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907920" y="720720"/>
              <a:ext cx="7372440" cy="55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901080" y="6218280"/>
              <a:ext cx="3917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ttp://pc.watch.impress.co.jp/docs/2005/0305/hot02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F01D-4B45-4C5D-B3C8-F9D9C41124E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Funcionamen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09720"/>
            <a:ext cx="8229600" cy="53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pos de virtualização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1. Emulado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- é o oposto da máquina real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a todas as instruções realizadas pela máquina real em um ambiente abstrato de softwar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gana”, fazendo com que todas as operações da máquina real sejam implementadas em um softwar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preta um código desenvolvido para outra platafo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Funcionament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E942-67B9-4307-A7EF-A46DBF5C8B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Funcionamen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Funcionament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909720"/>
            <a:ext cx="82296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pos de virtualização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2. VM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Virtual Machine Monitor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hecida como Hypervisor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nece uma interface (através da multiplexação do hardware) que é idêntica ao hardware subjacente e controla uma ou mais máquinas virt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de ser implementado entre o hardware e o SO hospedeiro ou como um processo do SO hosped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9752-2A4A-4644-A419-495CA8C0C4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Funcionamen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760" y="828360"/>
            <a:ext cx="8229600" cy="55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-326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écnicas de virtualização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1. Virtualização total</a:t>
            </a: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ma estrutura completa de hardware é virtualizada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stema convidado não precisa sofrer qualquer tipo de alteração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de compatibilidad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rda de veloc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Funcionament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9C2C-FB1B-4E4A-89F1-ADE1FA8A76F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74760" y="828720"/>
            <a:ext cx="82296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écnicas de virtualização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2. Paravirtualização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 sistema que vai ser virtualizado sofre modificações para que a interação com o monitor de máquinas virtuais seja mais eficient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rde compatibilidad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nha velo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Func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Funcionament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E40E-93DD-46ED-A1B8-A2409948208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4760" y="828720"/>
            <a:ext cx="822960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écnicas de virtualização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3. Re-compilação dinâmic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forma o executável em outro executável, compatível com a nova plataforma, através de descompilação, desmontagem e montagem e compilação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ixo desempe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Func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FD02-9EAE-44A6-A468-426C3F0006E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Benefí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1120" y="899640"/>
            <a:ext cx="8229600" cy="54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-326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Particionamento:</a:t>
            </a: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últiplas aplicações e sistemas operacionais podem ser executados em um único sistema físico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rvidores podem ser consolidados em máquinas virtuais, escalando arquitetura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ursos computacionais são tratados em uma política uniforme para que sejam alocadas máquinas virtuais de maneira control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4165-EB77-442A-8F79-7470073C1E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871640" y="1855800"/>
            <a:ext cx="5400720" cy="4260240"/>
            <a:chOff x="1871640" y="1855800"/>
            <a:chExt cx="5400720" cy="426024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957320" y="1855800"/>
              <a:ext cx="531504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871640" y="5856120"/>
              <a:ext cx="2784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ttp://www.heise.de/bilder/50739/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Benefí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1120" y="1119240"/>
            <a:ext cx="8229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Particiona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4D51-9DD2-4563-97CF-BBE163FF873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Benefí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1120" y="97272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Isolamento:</a:t>
            </a: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áquinas virtuais são completamente isoladas da máquina hospedeira e de outras máquinas virtuais. Se uma máquina virtual tem problemas, todas as outras não são afetada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dos não vazam entre máquinas virtuais e aplicativos podem somente se comunicar em conexões de rede configur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6B32-C01A-42E4-90F0-E88E94F88CA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ncionam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enefí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studo de C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emonstr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onclus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ED13-1E66-49D6-96A5-A5F5D296A5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Benefí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Encapsulamento:</a:t>
            </a: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m completo ambiente de máquina virtual é salvo em um simples arquivo, fácil de fazer backup, de ser movido e copiado.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dronização de hardware virtualizado é fornecida para a aplicação, garantindo compatibil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18AF-D73A-4720-BC9B-C5A12C91E5C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764640"/>
            <a:ext cx="8229600" cy="54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Arial"/>
              </a:rPr>
              <a:t>Vmware</a:t>
            </a:r>
            <a:br>
              <a:rPr sz="4000"/>
            </a:br>
            <a:r>
              <a:rPr b="1" lang="en-GB" sz="13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O Vmware oferece basicamente 3 tipos de sistemas de máquinas virtuais: Workstation, GSX Server e ESX Server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Permite instalar praticamente qualquer sistema operacional para a plataforma x86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Dispositivos como o CD-ROM e drive de disquetes podem ser compartilhados entre as máquinas virtuais e o sistema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573A-CC05-44CC-A06C-44F91A26680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Func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6240" y="711360"/>
            <a:ext cx="822960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ssadores Intel possuem modos de operação: Modo Real  (16 bits, até 1Mb de memória) e o  Modo protegido (32 bits, 4 Gb de memó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Modo Protegido, existem 4 níveis de privilégios, 0 até 3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19280" y="2556000"/>
            <a:ext cx="3960720" cy="350496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sp>
        <p:nvSpPr>
          <p:cNvPr id="142" name=""/>
          <p:cNvSpPr/>
          <p:nvPr/>
        </p:nvSpPr>
        <p:spPr>
          <a:xfrm>
            <a:off x="0" y="64310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Funcionament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3A93-F554-488C-B94D-3F7783A5F6F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760" y="765000"/>
            <a:ext cx="82296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Arial"/>
              </a:rPr>
              <a:t>Vmware</a:t>
            </a:r>
            <a:br>
              <a:rPr sz="4000"/>
            </a:br>
            <a:r>
              <a:rPr b="1" lang="en-GB" sz="13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Quando o Workstation é instalado, ele cria três componentes, o VMX driver, o Monitor de máquina Virtuais (VMM) e o VMware application (Vmapp).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VMX driver e o VMM operam no anel 0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O VMapp opera no anel 3 e enxerga o sistema operacional como qualquer outro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6E60-BD60-4686-82C0-F82469AD437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760" y="765000"/>
            <a:ext cx="82296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Arial"/>
              </a:rPr>
              <a:t>Vm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Mdriver, Vmapp, VMM</a:t>
            </a:r>
            <a:br>
              <a:rPr sz="4000"/>
            </a:br>
            <a:r>
              <a:rPr b="1" lang="en-GB" sz="13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36840" y="2340000"/>
            <a:ext cx="4764240" cy="342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5759280"/>
            <a:ext cx="576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Vmware Workstation – Architecture -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ttp://www.vmwar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D35C-E02C-48B7-843E-B47FEF90E71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079640"/>
            <a:ext cx="82296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Arial"/>
                <a:ea typeface="Albany AMT;Arial"/>
              </a:rPr>
              <a:t>Hardware no VM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lbany AMT;Arial"/>
              </a:rPr>
              <a:t>Suporte aos dispositivos mais com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60720" y="2475000"/>
            <a:ext cx="4924440" cy="328608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sp>
        <p:nvSpPr>
          <p:cNvPr id="154" name=""/>
          <p:cNvSpPr/>
          <p:nvPr/>
        </p:nvSpPr>
        <p:spPr>
          <a:xfrm>
            <a:off x="1728720" y="5816520"/>
            <a:ext cx="576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Vmware Workstation – Architecture -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ttp://www.vmwar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52608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962E-91E1-4AF6-91DC-680BB69878C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47800" y="2016000"/>
            <a:ext cx="5632560" cy="347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19280" y="5600880"/>
            <a:ext cx="576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Vmware Workstation – Architecture -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ttp://www.vmwar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900000"/>
            <a:ext cx="181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079640"/>
            <a:ext cx="88203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  <a:ea typeface="Albany AMT;Arial"/>
              </a:rPr>
              <a:t>Vmware Workstation – Dois mun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C12E-30CF-4762-8357-03AA6B624EF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080" y="844560"/>
            <a:ext cx="87390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  <a:ea typeface="Albany AMT;Arial"/>
              </a:rPr>
              <a:t>Vmware ESX – não precisa de SO pré-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11360" y="1440000"/>
            <a:ext cx="6095880" cy="515592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0931-EE4D-455D-A7B0-251F80D636D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62020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ADFD-832B-45B2-A925-8FECF295AD8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214720"/>
            <a:ext cx="5580000" cy="4194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6760" y="606600"/>
            <a:ext cx="873288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Arial"/>
              </a:rPr>
              <a:t>Vm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Cada máquina virtual trabalha como um PC completo, com direito até a BIOS e configuração do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AE12-9201-403A-9C3A-2276E952525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Introdu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Introdução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5520"/>
            <a:ext cx="83628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zido nos anos 60 em Mainfr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 1980 os microcomputadores e PC’s ganharam em eficiê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pois de 1990, a virtualização volta a ser estud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ização hoje, está em primeiro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4B6D-E563-4F49-9C2E-23AD41ADDD7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77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Cada máquina virtual possui uma área reservada de memó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1187280"/>
            <a:ext cx="6863040" cy="5283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7813-320A-4B2B-874D-C92A6A2ECE5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906480"/>
            <a:ext cx="7029360" cy="5286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A0D8-ABED-478F-94B3-C247828D66C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855720"/>
            <a:ext cx="7927920" cy="57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F43A-3629-4A75-A9AF-2E083D4284B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7280" y="822240"/>
            <a:ext cx="8783640" cy="43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  <a:ea typeface="ADKFMI+MyriadPro-SemiboldIt"/>
              </a:rPr>
              <a:t>VMware – pontos fortes</a:t>
            </a:r>
            <a:br>
              <a:rPr sz="3600"/>
            </a:b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Fácil instalação e configu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Docum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Funciona em Linux e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Aceita vários SO (Linux, Windows , Dos, Mac 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1BA7-D98E-4DA4-8AEB-63B8FF55154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Estudo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8280" y="930240"/>
            <a:ext cx="87836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  <a:ea typeface="ADKFMI+MyriadPro-SemiboldIt"/>
              </a:rPr>
              <a:t>VMware – pontos fracos</a:t>
            </a:r>
            <a:br>
              <a:rPr sz="3600"/>
            </a:b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Não utiliza os mesmos drivers dos disposi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Baixo desempenho grá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DKFMI+MyriadPro-SemiboldIt"/>
              </a:rPr>
              <a:t>Custo elev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Estudo de Caso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96B7-D17B-4218-A103-25DF4B4CE2B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Demostr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rá feita uma demonstração de um computador rodando como 3 máquinas virtu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rão utilizados os seguintes sistemas operacion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ows 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1D0A-9033-4423-A8D1-9ECD2C2B464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900000"/>
            <a:ext cx="8229600" cy="52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Variedade de implement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QEMU  (software livr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Windows, Linux, OS X, FreeBS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dynarec (re-compilação dinâmica)</a:t>
            </a:r>
            <a:br>
              <a:rPr sz="2100"/>
            </a:b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Virtual Server (Microsof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Windows 2003, X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Windows NT, 2000, 2003, UNIX, Linux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Virtualização to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Próxima a Real</a:t>
            </a:r>
            <a:br>
              <a:rPr sz="2100"/>
            </a:b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X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NetBSD, Linux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Linux, NetBSD, FreeBSD, OpenBS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Paravirtualiz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Similar a Re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– Conclu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B4B4-13D9-4BAA-B8C6-986DAE59DFF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Conclus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ização é uma quebra de paradig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da Virtual Machine (VM) roda em sua própria partiç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ções separadas isolam falhas ou ataques de soft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de aumentar a utilização de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da a idéia de população e gerenciamento de data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de ser utilizados diferentes sistemas operacionais “simultâneamente” em um único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DCC5-6F75-4D5A-B509-C05BF7DD492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Bibliogra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0360" y="1474920"/>
            <a:ext cx="8229600" cy="26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23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via-rs.net/profissionais/castro/win95/cap01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xtremetech.com/article2/0,1697,10403,00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n.wikipedia.org/wiki/Comparison_of_virtual_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pcmag.com.br/index.php?option=com_content&amp;task=view&amp;id=136&amp;Itemid=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mware - http://www.vmwa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c0c0c0"/>
                </a:solidFill>
                <a:latin typeface="Arial"/>
                <a:ea typeface="Arial"/>
              </a:rPr>
              <a:t>Introdução</a:t>
            </a: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 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</a:t>
            </a:r>
            <a:r>
              <a:rPr b="1" lang="en-GB" sz="1700" spc="-1" strike="noStrike">
                <a:solidFill>
                  <a:srgbClr val="ff9900"/>
                </a:solidFill>
                <a:latin typeface="Arial"/>
              </a:rPr>
              <a:t>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6026-F1D5-4E36-BA6F-4A5580B586C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Pergu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720" y="3274920"/>
            <a:ext cx="52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23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66"/>
                </a:solidFill>
                <a:latin typeface="Arial"/>
              </a:rPr>
              <a:t>Pergunta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771F-A43B-4CBF-86B5-9D5CD086C94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Introdu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360" y="96948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irtualização é uma camada entre o hardware e o sistema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Introdução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2241720"/>
            <a:ext cx="7221600" cy="387792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5F75-5312-4641-AB97-B3AE6E2B46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-6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Introd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2120" y="874800"/>
            <a:ext cx="8248680" cy="523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Introdução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1640" y="6119640"/>
            <a:ext cx="82807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áquinas virtuais e emuladores – Marco Aurélio Laure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3C23-4C36-455F-9F48-5CDDF6657C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Introdu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360" y="90000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IBM define uma máquina virtual como uma cópia totalmente protegida e isolada de um sistema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Introdução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859120" y="2646360"/>
            <a:ext cx="3620880" cy="3475080"/>
            <a:chOff x="2859120" y="2646360"/>
            <a:chExt cx="3620880" cy="3475080"/>
          </a:xfrm>
        </p:grpSpPr>
        <p:sp>
          <p:nvSpPr>
            <p:cNvPr id="77" name=""/>
            <p:cNvSpPr/>
            <p:nvPr/>
          </p:nvSpPr>
          <p:spPr>
            <a:xfrm>
              <a:off x="2859120" y="2646360"/>
              <a:ext cx="3620880" cy="3475080"/>
            </a:xfrm>
            <a:prstGeom prst="roundRect">
              <a:avLst>
                <a:gd name="adj" fmla="val 32"/>
              </a:avLst>
            </a:prstGeom>
            <a:solidFill>
              <a:srgbClr val="ffffff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3005280" y="2789280"/>
              <a:ext cx="3362040" cy="327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E1E9-433C-4092-88DF-14B7B22942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Introdu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120" y="1155240"/>
            <a:ext cx="822960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mitir que mais de um Sistemas Operacional funcione em um mesmo  hardware, em um mesmo instant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da máquina virtual funciona isoladamente do sistema operacional hospedeiro e de outras máquinas virtuais.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da máquina virtual possui o seu próprio hardware virtual (como RAM, CPU, Placa de Rede, etc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Introdução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EA99-93A2-4BEC-B73D-24CD92E814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Introdu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8400" y="973080"/>
            <a:ext cx="8769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 máquinas virtuais são instaladas dentro de um arqu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dem ser facilmente alocadas entre comput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Introdução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65280" y="2622600"/>
            <a:ext cx="4951440" cy="3571560"/>
            <a:chOff x="2465280" y="2622600"/>
            <a:chExt cx="4951440" cy="35715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557440" y="2622600"/>
              <a:ext cx="374652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465280" y="5934240"/>
              <a:ext cx="4951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ttp://www.idealintegrations.net/ii-en/ii-en_august_clip_image001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21CB-BAA7-4412-AA07-C534006D13E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irtualização - Introdu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24640"/>
            <a:ext cx="91440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ffac33"/>
                </a:solidFill>
                <a:latin typeface="Arial"/>
                <a:ea typeface="Arial"/>
              </a:rPr>
              <a:t>Introdução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Funcionamento |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Benefício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Estudo de Caso | Demostraçã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c0c0c0"/>
                </a:solidFill>
                <a:latin typeface="Arial"/>
              </a:rPr>
              <a:t>| Conclusão</a:t>
            </a: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879640" y="1116000"/>
            <a:ext cx="3210120" cy="2063880"/>
            <a:chOff x="2879640" y="1116000"/>
            <a:chExt cx="3210120" cy="206388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2879640" y="1116000"/>
              <a:ext cx="32101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916360" y="2819520"/>
              <a:ext cx="3095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24000" indent="-32400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324000"/>
                  <a:tab algn="l" pos="771480"/>
                  <a:tab algn="l" pos="1220760"/>
                  <a:tab algn="l" pos="1670040"/>
                  <a:tab algn="l" pos="2119320"/>
                  <a:tab algn="l" pos="2568600"/>
                  <a:tab algn="l" pos="3017880"/>
                  <a:tab algn="l" pos="3467160"/>
                  <a:tab algn="l" pos="3916440"/>
                  <a:tab algn="l" pos="4365720"/>
                  <a:tab algn="l" pos="4815000"/>
                  <a:tab algn="l" pos="5264280"/>
                  <a:tab algn="l" pos="5713560"/>
                  <a:tab algn="l" pos="6162840"/>
                  <a:tab algn="l" pos="6611760"/>
                  <a:tab algn="l" pos="7061040"/>
                  <a:tab algn="l" pos="7510320"/>
                  <a:tab algn="l" pos="7959600"/>
                  <a:tab algn="l" pos="8408880"/>
                  <a:tab algn="l" pos="8858160"/>
                  <a:tab algn="l" pos="9307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o de multitaref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8360" y="3533760"/>
            <a:ext cx="8218440" cy="2290680"/>
            <a:chOff x="468360" y="3533760"/>
            <a:chExt cx="8218440" cy="229068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68360" y="3533760"/>
              <a:ext cx="8218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8360" y="5321160"/>
              <a:ext cx="8136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24000" indent="-32400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24000"/>
                  <a:tab algn="l" pos="771480"/>
                  <a:tab algn="l" pos="1220760"/>
                  <a:tab algn="l" pos="1670040"/>
                  <a:tab algn="l" pos="2119320"/>
                  <a:tab algn="l" pos="2568600"/>
                  <a:tab algn="l" pos="3017880"/>
                  <a:tab algn="l" pos="3467160"/>
                  <a:tab algn="l" pos="3916440"/>
                  <a:tab algn="l" pos="4365720"/>
                  <a:tab algn="l" pos="4815000"/>
                  <a:tab algn="l" pos="5264280"/>
                  <a:tab algn="l" pos="5713560"/>
                  <a:tab algn="l" pos="6162840"/>
                  <a:tab algn="l" pos="6611760"/>
                  <a:tab algn="l" pos="7061040"/>
                  <a:tab algn="l" pos="7510320"/>
                  <a:tab algn="l" pos="7959600"/>
                  <a:tab algn="l" pos="8408880"/>
                  <a:tab algn="l" pos="8858160"/>
                  <a:tab algn="l" pos="9307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o de virtualiz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61080" y="6039000"/>
            <a:ext cx="46980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lubedohardware.com.br/imageview.php?image=128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2088-C8E1-4C85-8F3B-49B38B90E6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a</dc:creator>
  <dc:description/>
  <dc:language>en-US</dc:language>
  <cp:lastModifiedBy>Beta</cp:lastModifiedBy>
  <cp:revision>0</cp:revision>
  <dc:subject/>
  <dc:title>Slide 1</dc:title>
</cp:coreProperties>
</file>